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960-82AB-4ACC-9417-71EABCCB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8C1-C688-4C5D-BB03-D0C2962B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A6FD-9BCF-4430-974C-8EB2AF3F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9BC8-1CCD-474C-BB6E-CAF1F60A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0AA0-D532-466A-BB54-4B3E29C0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7D46-2D2A-425A-B85F-1563B495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50D5-A256-4B7A-A4FB-FD9F7FFC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484F-8C8A-441D-A6BB-B2519580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8BBB-E200-4463-84EA-2A876128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2D65-4044-4B6E-8064-FA7373F5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95BA-EBD0-408C-81B5-4F8A4F86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3C3E-5D6B-4190-8FE2-9BD720D4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D723-48EB-4D2B-8B5C-025A039D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93E4-81AE-4240-AC2B-D5C8FA92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25D1-3568-448B-989F-C13D22AC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021A-B0EE-4835-A72C-551E856A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CEC8-9EAC-465F-92E3-F01F21D1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4D7-49B9-49C0-917D-C8BDCE13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CC2-D30D-4E5E-B365-7DD6A68D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2294-9D9B-42C7-B96D-45B032B2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FE1-6D97-45F7-BA9F-8DE7DBA0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5211-D91B-4795-99A0-75946D04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030-DDC6-47B1-9CA2-610C3E18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6E47-6BDD-46CC-8DA5-022C54B9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50C9-F3DF-4513-BCFD-95634309279F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D22C-6FE8-4E80-9A62-66A3740912CE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1F0C-0062-4DF9-BEDF-A83D4419BF0C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33EA-9272-429D-8B81-C88EB71B0B8B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olitani.ac.id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Bioinformatics%20-%20Wikipedia,%20the%20free%20encyclopedia.htm" TargetMode="External"/><Relationship Id="rId2" Type="http://schemas.openxmlformats.org/officeDocument/2006/relationships/hyperlink" Target="file:///About%20the%20Human%20Genome%20Project.htm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"/>
                <a:ea typeface="Times New Roman"/>
              </a:rPr>
              <a:t>INFORMATIKA </a:t>
            </a:r>
            <a:br>
              <a:rPr sz="5400"/>
            </a:br>
            <a:r>
              <a:rPr b="1" i="1" lang="en-US" sz="5400" spc="-1" strike="noStrike">
                <a:solidFill>
                  <a:srgbClr val="ffcc00"/>
                </a:solidFill>
                <a:latin typeface="Arial"/>
                <a:ea typeface="Times New Roman"/>
              </a:rPr>
              <a:t>DI </a:t>
            </a:r>
            <a:br>
              <a:rPr sz="5400"/>
            </a:br>
            <a:r>
              <a:rPr b="1" i="1" lang="en-US" sz="5400" spc="-1" strike="noStrike">
                <a:solidFill>
                  <a:srgbClr val="ffcc00"/>
                </a:solidFill>
                <a:latin typeface="Arial"/>
                <a:ea typeface="Times New Roman"/>
              </a:rPr>
              <a:t>AKADEMIA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4495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hiza@unhas.ac.id     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3517-1AA2-43A1-BEE2-45B221A1B2A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C978BD0-F835-4297-AE9C-621EA8B6662B}" type="datetime1">
              <a:rPr lang="en-US"/>
              <a:t>07/30/26</a:t>
            </a:fld>
          </a:p>
        </p:txBody>
      </p:sp>
    </p:spTree>
  </p:cSld>
  <p:transition spd="slow" advTm="31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layanan INTERNET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ratis” dalam kamp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silitas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e-mai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untuk staf, mahasiswa dan alumni (Nama_pemakai@bi.unhas.ac.i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silitas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brows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akses ke Internet) yang cukup cep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Websit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Official Homepag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http://www.unhas.ac.id/</a:t>
            </a: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/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) yang dapat di-akses DARI seluruh penjuru dunia, dan selalu di-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updat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setiap sa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n lain-lain …………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CABC-53D9-4EFB-986D-8472DB2F82C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5313C-6528-4114-A397-BDF6806912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stem INFORMASI Terpad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STEM INFORMASI MANAJEME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stem Informasi Akademi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stem Informasi Keuang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stem Informasi Kemahasiswa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stem Informasi Manajemen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Ass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stem Informasi SD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STEM PENJAMINAN MUTU, MONEV, AKREDITASI, HIBAH KOMPETI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STEM INFORMASI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ON-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3CA1-E884-4678-8F7C-3A04FDECE53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724A2-861C-41EF-AD4C-CF290F135E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bd189"/>
                </a:solidFill>
                <a:latin typeface="Arial"/>
              </a:rPr>
              <a:t>E-learning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dan </a:t>
            </a:r>
            <a:r>
              <a:rPr b="0" i="1" lang="en-US" sz="4000" spc="-1" strike="noStrike">
                <a:solidFill>
                  <a:srgbClr val="ebd189"/>
                </a:solidFill>
                <a:latin typeface="Arial"/>
              </a:rPr>
              <a:t>Distant Learning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Student-centered learn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self-acces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belajar mandiri, sumber tak terba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Multimedia-bas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Production House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igital Librar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lajar secara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on-lin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istant learning, credit earning syste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Learning Management Syst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6CF-CE3E-49F6-9F17-8713BD44B9E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D420C-0F4B-40A6-8A6E-E164C9D515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TERESTING STUFFS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Bio-informatic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2"/>
              </a:rPr>
              <a:t>GENOME Proje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747F-418D-44B9-BCA6-DB5F42759F7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C51C3-A6F5-45AC-9B45-EACB61779F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38E1-68FC-4966-B258-CF5DE9A37F8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1467542-76A2-4DEC-A0A9-1B2EF36A20E8}" type="datetime1">
              <a:rPr lang="en-US"/>
              <a:t>07/30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1752480"/>
          <a:ext cx="8381880" cy="383400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77B-DD5A-41DD-A313-3B31B7BC14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5CF2A-99C2-4B70-B17A-2BEC71921C53}" type="datetime1">
              <a:rPr lang="en-US"/>
              <a:t>07/30/26</a:t>
            </a:fld>
          </a:p>
        </p:txBody>
      </p:sp>
    </p:spTree>
  </p:cSld>
  <p:transition spd="slow" advTm="6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6" name="attack01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attack10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08" name="attack12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397-EF12-48B9-81C5-9FF7D3A8B9A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F6807-5CD6-4A8B-932C-18E96BC6B8DA}" type="datetime1">
              <a:rPr lang="en-US"/>
              <a:t>07/30/26</a:t>
            </a:fld>
          </a:p>
        </p:txBody>
      </p:sp>
    </p:spTree>
  </p:cSld>
  <p:transition spd="slow" advTm="25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attack03" descr=""/>
          <p:cNvPicPr/>
          <p:nvPr/>
        </p:nvPicPr>
        <p:blipFill>
          <a:blip r:embed="rId1"/>
          <a:stretch/>
        </p:blipFill>
        <p:spPr>
          <a:xfrm>
            <a:off x="0" y="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10" name="wtc_collapse1" descr=""/>
          <p:cNvPicPr/>
          <p:nvPr/>
        </p:nvPicPr>
        <p:blipFill>
          <a:blip r:embed="rId2"/>
          <a:stretch/>
        </p:blipFill>
        <p:spPr>
          <a:xfrm>
            <a:off x="3809880" y="106668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11" name="wtc_collapse2" descr=""/>
          <p:cNvPicPr/>
          <p:nvPr/>
        </p:nvPicPr>
        <p:blipFill>
          <a:blip r:embed="rId3"/>
          <a:stretch/>
        </p:blipFill>
        <p:spPr>
          <a:xfrm>
            <a:off x="6676920" y="3219480"/>
            <a:ext cx="2467080" cy="3638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05360" y="380880"/>
            <a:ext cx="2438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1537-BF8A-4C21-9286-BE68B27C17A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4345F-E770-44F2-91EE-1E9A6806C177}" type="datetime1">
              <a:rPr lang="en-US"/>
              <a:t>07/30/26</a:t>
            </a:fld>
          </a:p>
        </p:txBody>
      </p:sp>
    </p:spTree>
  </p:cSld>
  <p:transition spd="slow" advTm="51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wtc_collapse3" descr=""/>
          <p:cNvPicPr/>
          <p:nvPr/>
        </p:nvPicPr>
        <p:blipFill>
          <a:blip r:embed="rId1"/>
          <a:stretch/>
        </p:blipFill>
        <p:spPr>
          <a:xfrm>
            <a:off x="304920" y="1146240"/>
            <a:ext cx="7543800" cy="5711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086600" y="304920"/>
            <a:ext cx="2057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427-9574-49B3-BE64-3974C5DEAD32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7D4D4-C858-4511-B31F-3779D796DD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 spd="slow" advTm="6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143000" y="6840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40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DE80-56D7-4BDC-8037-B9CA701E585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06C09-1D65-4381-8165-90AF4C39CD00}" type="datetime1">
              <a:rPr lang="en-US"/>
              <a:t>07/30/26</a:t>
            </a:fld>
          </a:p>
        </p:txBody>
      </p:sp>
    </p:spTree>
  </p:cSld>
  <p:transition spd="slow" advTm="60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3660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5608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6792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520" y="6094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57913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Contoh: dosen, gurubesar, sekretaris, manajer, 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 advTm="78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TEKNOLOGI INFOKOM (</a:t>
            </a:r>
            <a:r>
              <a:rPr b="0" i="1" lang="en-US" sz="2400" spc="-1" strike="noStrike">
                <a:solidFill>
                  <a:srgbClr val="ebd189"/>
                </a:solidFill>
                <a:latin typeface="Arial"/>
              </a:rPr>
              <a:t>ICT</a:t>
            </a: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di </a:t>
            </a:r>
            <a:br>
              <a:rPr sz="24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PERGURUAN TINGGI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1523880"/>
            <a:ext cx="8610480" cy="5334120"/>
            <a:chOff x="304920" y="1523880"/>
            <a:chExt cx="8610480" cy="5334120"/>
          </a:xfrm>
        </p:grpSpPr>
        <p:grpSp>
          <p:nvGrpSpPr>
            <p:cNvPr id="140" name=""/>
            <p:cNvGrpSpPr/>
            <p:nvPr/>
          </p:nvGrpSpPr>
          <p:grpSpPr>
            <a:xfrm>
              <a:off x="304920" y="1523880"/>
              <a:ext cx="8610480" cy="5334120"/>
              <a:chOff x="304920" y="1523880"/>
              <a:chExt cx="8610480" cy="5334120"/>
            </a:xfrm>
          </p:grpSpPr>
          <p:sp>
            <p:nvSpPr>
              <p:cNvPr id="141" name=""/>
              <p:cNvSpPr/>
              <p:nvPr/>
            </p:nvSpPr>
            <p:spPr>
              <a:xfrm>
                <a:off x="685800" y="1523880"/>
                <a:ext cx="8010360" cy="1859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19320" y="1554120"/>
                <a:ext cx="7162560" cy="65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54"/>
                    </a:solidFill>
                    <a:latin typeface="Arial Narrow"/>
                  </a:rPr>
                  <a:t>PENGELOLA</a:t>
                </a: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54"/>
                    </a:solidFill>
                    <a:latin typeface="Arial Narrow"/>
                  </a:rPr>
                  <a:t>SISTEM INFORMASI</a:t>
                </a: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010040" y="2438280"/>
                <a:ext cx="1257120" cy="571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Verdana"/>
                  </a:rPr>
                  <a:t>Pelayanan</a:t>
                </a:r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Verdana"/>
                  </a:rPr>
                  <a:t>INTERNET</a:t>
                </a:r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562720" y="2413080"/>
                <a:ext cx="1447560" cy="89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54"/>
                    </a:solidFill>
                    <a:latin typeface="Verdana"/>
                  </a:rPr>
                  <a:t>Sistem INFORMASI TERPADU</a:t>
                </a:r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24560" y="2438280"/>
                <a:ext cx="1257480" cy="868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54"/>
                    </a:solidFill>
                    <a:latin typeface="Verdana"/>
                  </a:rPr>
                  <a:t>E-Learning </a:t>
                </a: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dan </a:t>
                </a:r>
                <a:r>
                  <a:rPr b="1" i="1" lang="en-US" sz="1200" spc="-1" strike="noStrike">
                    <a:solidFill>
                      <a:srgbClr val="000054"/>
                    </a:solidFill>
                    <a:latin typeface="Verdana"/>
                  </a:rPr>
                  <a:t>Distance Learning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96040" y="2209680"/>
                <a:ext cx="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236600" y="2324160"/>
                <a:ext cx="6819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10360" y="2324160"/>
                <a:ext cx="0" cy="114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695840" y="2324160"/>
                <a:ext cx="0" cy="114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04920" y="3086280"/>
                <a:ext cx="1846080" cy="121104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4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Sub-Bag Teknik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marL="604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marL="604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Teknisi Kepala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lvl="1" marL="174600">
                  <a:lnSpc>
                    <a:spcPct val="100000"/>
                  </a:lnSpc>
                  <a:buClr>
                    <a:srgbClr val="000054"/>
                  </a:buClr>
                  <a:buFont typeface="Symbol" charset="2"/>
                  <a:buChar char="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54"/>
                    </a:solidFill>
                    <a:latin typeface="Verdana"/>
                  </a:rPr>
                  <a:t>Teknisi </a:t>
                </a:r>
                <a:r>
                  <a:rPr b="0" i="1" lang="en-US" sz="1000" spc="-1" strike="noStrike">
                    <a:solidFill>
                      <a:srgbClr val="000054"/>
                    </a:solidFill>
                    <a:latin typeface="Verdana"/>
                  </a:rPr>
                  <a:t>Hardwar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lvl="1" marL="174600">
                  <a:lnSpc>
                    <a:spcPct val="100000"/>
                  </a:lnSpc>
                  <a:buClr>
                    <a:srgbClr val="000054"/>
                  </a:buClr>
                  <a:buFont typeface="Symbol" charset="2"/>
                  <a:buChar char="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54"/>
                    </a:solidFill>
                    <a:latin typeface="Verdana"/>
                  </a:rPr>
                  <a:t>Teknisi</a:t>
                </a:r>
                <a:r>
                  <a:rPr b="0" i="1" lang="en-US" sz="1000" spc="-1" strike="noStrike">
                    <a:solidFill>
                      <a:srgbClr val="000054"/>
                    </a:solidFill>
                    <a:latin typeface="Verdana"/>
                  </a:rPr>
                  <a:t> Softwar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lvl="1" marL="1746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6680" y="3429000"/>
                <a:ext cx="171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51000" y="3086280"/>
                <a:ext cx="1714680" cy="111744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Sub-Bag 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Adm. &amp; Keu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Ka-Sub-Bag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+STAF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51000" y="3543480"/>
                <a:ext cx="171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236600" y="2286000"/>
                <a:ext cx="0" cy="800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51280" y="2286000"/>
                <a:ext cx="0" cy="800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581280" y="2971800"/>
                <a:ext cx="2057400" cy="1371600"/>
              </a:xfrm>
              <a:custGeom>
                <a:avLst/>
                <a:gdLst/>
                <a:ahLst/>
                <a:rect l="l" t="t" r="r" b="b"/>
                <a:pathLst>
                  <a:path w="2934" h="1322">
                    <a:moveTo>
                      <a:pt x="431" y="982"/>
                    </a:moveTo>
                    <a:lnTo>
                      <a:pt x="464" y="1033"/>
                    </a:lnTo>
                    <a:lnTo>
                      <a:pt x="501" y="1081"/>
                    </a:lnTo>
                    <a:lnTo>
                      <a:pt x="544" y="1126"/>
                    </a:lnTo>
                    <a:lnTo>
                      <a:pt x="592" y="1167"/>
                    </a:lnTo>
                    <a:lnTo>
                      <a:pt x="642" y="1205"/>
                    </a:lnTo>
                    <a:lnTo>
                      <a:pt x="694" y="1236"/>
                    </a:lnTo>
                    <a:lnTo>
                      <a:pt x="750" y="1264"/>
                    </a:lnTo>
                    <a:lnTo>
                      <a:pt x="810" y="1286"/>
                    </a:lnTo>
                    <a:lnTo>
                      <a:pt x="870" y="1304"/>
                    </a:lnTo>
                    <a:lnTo>
                      <a:pt x="933" y="1315"/>
                    </a:lnTo>
                    <a:lnTo>
                      <a:pt x="995" y="1322"/>
                    </a:lnTo>
                    <a:lnTo>
                      <a:pt x="1058" y="1322"/>
                    </a:lnTo>
                    <a:lnTo>
                      <a:pt x="1121" y="1318"/>
                    </a:lnTo>
                    <a:lnTo>
                      <a:pt x="1184" y="1307"/>
                    </a:lnTo>
                    <a:lnTo>
                      <a:pt x="1244" y="1292"/>
                    </a:lnTo>
                    <a:lnTo>
                      <a:pt x="1304" y="1271"/>
                    </a:lnTo>
                    <a:lnTo>
                      <a:pt x="1362" y="1244"/>
                    </a:lnTo>
                    <a:lnTo>
                      <a:pt x="1414" y="1214"/>
                    </a:lnTo>
                    <a:lnTo>
                      <a:pt x="1467" y="1178"/>
                    </a:lnTo>
                    <a:lnTo>
                      <a:pt x="1517" y="1214"/>
                    </a:lnTo>
                    <a:lnTo>
                      <a:pt x="1572" y="1244"/>
                    </a:lnTo>
                    <a:lnTo>
                      <a:pt x="1630" y="1271"/>
                    </a:lnTo>
                    <a:lnTo>
                      <a:pt x="1688" y="1292"/>
                    </a:lnTo>
                    <a:lnTo>
                      <a:pt x="1750" y="1307"/>
                    </a:lnTo>
                    <a:lnTo>
                      <a:pt x="1811" y="1318"/>
                    </a:lnTo>
                    <a:lnTo>
                      <a:pt x="1876" y="1322"/>
                    </a:lnTo>
                    <a:lnTo>
                      <a:pt x="1939" y="1322"/>
                    </a:lnTo>
                    <a:lnTo>
                      <a:pt x="2001" y="1315"/>
                    </a:lnTo>
                    <a:lnTo>
                      <a:pt x="2064" y="1304"/>
                    </a:lnTo>
                    <a:lnTo>
                      <a:pt x="2124" y="1286"/>
                    </a:lnTo>
                    <a:lnTo>
                      <a:pt x="2182" y="1264"/>
                    </a:lnTo>
                    <a:lnTo>
                      <a:pt x="2240" y="1236"/>
                    </a:lnTo>
                    <a:lnTo>
                      <a:pt x="2292" y="1205"/>
                    </a:lnTo>
                    <a:lnTo>
                      <a:pt x="2342" y="1167"/>
                    </a:lnTo>
                    <a:lnTo>
                      <a:pt x="2390" y="1126"/>
                    </a:lnTo>
                    <a:lnTo>
                      <a:pt x="2430" y="1081"/>
                    </a:lnTo>
                    <a:lnTo>
                      <a:pt x="2470" y="1033"/>
                    </a:lnTo>
                    <a:lnTo>
                      <a:pt x="2503" y="982"/>
                    </a:lnTo>
                    <a:lnTo>
                      <a:pt x="2546" y="989"/>
                    </a:lnTo>
                    <a:lnTo>
                      <a:pt x="2591" y="992"/>
                    </a:lnTo>
                    <a:lnTo>
                      <a:pt x="2636" y="989"/>
                    </a:lnTo>
                    <a:lnTo>
                      <a:pt x="2681" y="980"/>
                    </a:lnTo>
                    <a:lnTo>
                      <a:pt x="2724" y="966"/>
                    </a:lnTo>
                    <a:lnTo>
                      <a:pt x="2764" y="947"/>
                    </a:lnTo>
                    <a:lnTo>
                      <a:pt x="2799" y="923"/>
                    </a:lnTo>
                    <a:lnTo>
                      <a:pt x="2834" y="894"/>
                    </a:lnTo>
                    <a:lnTo>
                      <a:pt x="2864" y="862"/>
                    </a:lnTo>
                    <a:lnTo>
                      <a:pt x="2889" y="826"/>
                    </a:lnTo>
                    <a:lnTo>
                      <a:pt x="2907" y="787"/>
                    </a:lnTo>
                    <a:lnTo>
                      <a:pt x="2922" y="746"/>
                    </a:lnTo>
                    <a:lnTo>
                      <a:pt x="2932" y="704"/>
                    </a:lnTo>
                    <a:lnTo>
                      <a:pt x="2934" y="662"/>
                    </a:lnTo>
                    <a:lnTo>
                      <a:pt x="2932" y="618"/>
                    </a:lnTo>
                    <a:lnTo>
                      <a:pt x="2922" y="576"/>
                    </a:lnTo>
                    <a:lnTo>
                      <a:pt x="2907" y="535"/>
                    </a:lnTo>
                    <a:lnTo>
                      <a:pt x="2889" y="496"/>
                    </a:lnTo>
                    <a:lnTo>
                      <a:pt x="2864" y="461"/>
                    </a:lnTo>
                    <a:lnTo>
                      <a:pt x="2834" y="428"/>
                    </a:lnTo>
                    <a:lnTo>
                      <a:pt x="2799" y="399"/>
                    </a:lnTo>
                    <a:lnTo>
                      <a:pt x="2764" y="375"/>
                    </a:lnTo>
                    <a:lnTo>
                      <a:pt x="2724" y="356"/>
                    </a:lnTo>
                    <a:lnTo>
                      <a:pt x="2681" y="342"/>
                    </a:lnTo>
                    <a:lnTo>
                      <a:pt x="2636" y="333"/>
                    </a:lnTo>
                    <a:lnTo>
                      <a:pt x="2591" y="330"/>
                    </a:lnTo>
                    <a:lnTo>
                      <a:pt x="2546" y="333"/>
                    </a:lnTo>
                    <a:lnTo>
                      <a:pt x="2503" y="340"/>
                    </a:lnTo>
                    <a:lnTo>
                      <a:pt x="2470" y="289"/>
                    </a:lnTo>
                    <a:lnTo>
                      <a:pt x="2430" y="241"/>
                    </a:lnTo>
                    <a:lnTo>
                      <a:pt x="2390" y="196"/>
                    </a:lnTo>
                    <a:lnTo>
                      <a:pt x="2342" y="155"/>
                    </a:lnTo>
                    <a:lnTo>
                      <a:pt x="2292" y="117"/>
                    </a:lnTo>
                    <a:lnTo>
                      <a:pt x="2240" y="86"/>
                    </a:lnTo>
                    <a:lnTo>
                      <a:pt x="2182" y="58"/>
                    </a:lnTo>
                    <a:lnTo>
                      <a:pt x="2124" y="36"/>
                    </a:lnTo>
                    <a:lnTo>
                      <a:pt x="2064" y="19"/>
                    </a:lnTo>
                    <a:lnTo>
                      <a:pt x="2001" y="7"/>
                    </a:lnTo>
                    <a:lnTo>
                      <a:pt x="1939" y="1"/>
                    </a:lnTo>
                    <a:lnTo>
                      <a:pt x="1876" y="0"/>
                    </a:lnTo>
                    <a:lnTo>
                      <a:pt x="1811" y="4"/>
                    </a:lnTo>
                    <a:lnTo>
                      <a:pt x="1750" y="15"/>
                    </a:lnTo>
                    <a:lnTo>
                      <a:pt x="1688" y="31"/>
                    </a:lnTo>
                    <a:lnTo>
                      <a:pt x="1630" y="52"/>
                    </a:lnTo>
                    <a:lnTo>
                      <a:pt x="1572" y="78"/>
                    </a:lnTo>
                    <a:lnTo>
                      <a:pt x="1517" y="108"/>
                    </a:lnTo>
                    <a:lnTo>
                      <a:pt x="1467" y="144"/>
                    </a:lnTo>
                    <a:lnTo>
                      <a:pt x="1414" y="108"/>
                    </a:lnTo>
                    <a:lnTo>
                      <a:pt x="1362" y="78"/>
                    </a:lnTo>
                    <a:lnTo>
                      <a:pt x="1304" y="52"/>
                    </a:lnTo>
                    <a:lnTo>
                      <a:pt x="1244" y="31"/>
                    </a:lnTo>
                    <a:lnTo>
                      <a:pt x="1184" y="15"/>
                    </a:lnTo>
                    <a:lnTo>
                      <a:pt x="1121" y="4"/>
                    </a:lnTo>
                    <a:lnTo>
                      <a:pt x="1058" y="0"/>
                    </a:lnTo>
                    <a:lnTo>
                      <a:pt x="995" y="1"/>
                    </a:lnTo>
                    <a:lnTo>
                      <a:pt x="933" y="7"/>
                    </a:lnTo>
                    <a:lnTo>
                      <a:pt x="870" y="19"/>
                    </a:lnTo>
                    <a:lnTo>
                      <a:pt x="810" y="36"/>
                    </a:lnTo>
                    <a:lnTo>
                      <a:pt x="750" y="58"/>
                    </a:lnTo>
                    <a:lnTo>
                      <a:pt x="694" y="86"/>
                    </a:lnTo>
                    <a:lnTo>
                      <a:pt x="642" y="117"/>
                    </a:lnTo>
                    <a:lnTo>
                      <a:pt x="592" y="155"/>
                    </a:lnTo>
                    <a:lnTo>
                      <a:pt x="544" y="196"/>
                    </a:lnTo>
                    <a:lnTo>
                      <a:pt x="501" y="241"/>
                    </a:lnTo>
                    <a:lnTo>
                      <a:pt x="464" y="289"/>
                    </a:lnTo>
                    <a:lnTo>
                      <a:pt x="431" y="340"/>
                    </a:lnTo>
                    <a:lnTo>
                      <a:pt x="386" y="333"/>
                    </a:lnTo>
                    <a:lnTo>
                      <a:pt x="341" y="330"/>
                    </a:lnTo>
                    <a:lnTo>
                      <a:pt x="298" y="333"/>
                    </a:lnTo>
                    <a:lnTo>
                      <a:pt x="253" y="342"/>
                    </a:lnTo>
                    <a:lnTo>
                      <a:pt x="210" y="356"/>
                    </a:lnTo>
                    <a:lnTo>
                      <a:pt x="170" y="375"/>
                    </a:lnTo>
                    <a:lnTo>
                      <a:pt x="133" y="399"/>
                    </a:lnTo>
                    <a:lnTo>
                      <a:pt x="100" y="428"/>
                    </a:lnTo>
                    <a:lnTo>
                      <a:pt x="70" y="461"/>
                    </a:lnTo>
                    <a:lnTo>
                      <a:pt x="45" y="496"/>
                    </a:lnTo>
                    <a:lnTo>
                      <a:pt x="25" y="535"/>
                    </a:lnTo>
                    <a:lnTo>
                      <a:pt x="10" y="576"/>
                    </a:lnTo>
                    <a:lnTo>
                      <a:pt x="2" y="618"/>
                    </a:lnTo>
                    <a:lnTo>
                      <a:pt x="0" y="662"/>
                    </a:lnTo>
                    <a:lnTo>
                      <a:pt x="2" y="704"/>
                    </a:lnTo>
                    <a:lnTo>
                      <a:pt x="10" y="746"/>
                    </a:lnTo>
                    <a:lnTo>
                      <a:pt x="25" y="787"/>
                    </a:lnTo>
                    <a:lnTo>
                      <a:pt x="45" y="826"/>
                    </a:lnTo>
                    <a:lnTo>
                      <a:pt x="70" y="862"/>
                    </a:lnTo>
                    <a:lnTo>
                      <a:pt x="100" y="894"/>
                    </a:lnTo>
                    <a:lnTo>
                      <a:pt x="133" y="923"/>
                    </a:lnTo>
                    <a:lnTo>
                      <a:pt x="170" y="947"/>
                    </a:lnTo>
                    <a:lnTo>
                      <a:pt x="210" y="966"/>
                    </a:lnTo>
                    <a:lnTo>
                      <a:pt x="253" y="980"/>
                    </a:lnTo>
                    <a:lnTo>
                      <a:pt x="298" y="989"/>
                    </a:lnTo>
                    <a:lnTo>
                      <a:pt x="341" y="992"/>
                    </a:lnTo>
                    <a:lnTo>
                      <a:pt x="386" y="989"/>
                    </a:lnTo>
                    <a:lnTo>
                      <a:pt x="431" y="982"/>
                    </a:lnTo>
                    <a:close/>
                  </a:path>
                </a:pathLst>
              </a:custGeom>
              <a:solidFill>
                <a:srgbClr val="cc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886200" y="3200400"/>
                <a:ext cx="125748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Internet 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&amp; 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Jaringan Kampus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5181480" y="3154320"/>
                <a:ext cx="2057400" cy="1371600"/>
                <a:chOff x="5181480" y="3154320"/>
                <a:chExt cx="2057400" cy="13716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181480" y="3154320"/>
                  <a:ext cx="2057400" cy="1371600"/>
                </a:xfrm>
                <a:custGeom>
                  <a:avLst/>
                  <a:gdLst/>
                  <a:ahLst/>
                  <a:rect l="l" t="t" r="r" b="b"/>
                  <a:pathLst>
                    <a:path w="2934" h="1322">
                      <a:moveTo>
                        <a:pt x="431" y="982"/>
                      </a:moveTo>
                      <a:lnTo>
                        <a:pt x="464" y="1033"/>
                      </a:lnTo>
                      <a:lnTo>
                        <a:pt x="501" y="1081"/>
                      </a:lnTo>
                      <a:lnTo>
                        <a:pt x="544" y="1126"/>
                      </a:lnTo>
                      <a:lnTo>
                        <a:pt x="592" y="1167"/>
                      </a:lnTo>
                      <a:lnTo>
                        <a:pt x="642" y="1205"/>
                      </a:lnTo>
                      <a:lnTo>
                        <a:pt x="694" y="1236"/>
                      </a:lnTo>
                      <a:lnTo>
                        <a:pt x="750" y="1264"/>
                      </a:lnTo>
                      <a:lnTo>
                        <a:pt x="810" y="1286"/>
                      </a:lnTo>
                      <a:lnTo>
                        <a:pt x="870" y="1304"/>
                      </a:lnTo>
                      <a:lnTo>
                        <a:pt x="933" y="1315"/>
                      </a:lnTo>
                      <a:lnTo>
                        <a:pt x="995" y="1322"/>
                      </a:lnTo>
                      <a:lnTo>
                        <a:pt x="1058" y="1322"/>
                      </a:lnTo>
                      <a:lnTo>
                        <a:pt x="1121" y="1318"/>
                      </a:lnTo>
                      <a:lnTo>
                        <a:pt x="1184" y="1307"/>
                      </a:lnTo>
                      <a:lnTo>
                        <a:pt x="1244" y="1292"/>
                      </a:lnTo>
                      <a:lnTo>
                        <a:pt x="1304" y="1271"/>
                      </a:lnTo>
                      <a:lnTo>
                        <a:pt x="1362" y="1244"/>
                      </a:lnTo>
                      <a:lnTo>
                        <a:pt x="1414" y="1214"/>
                      </a:lnTo>
                      <a:lnTo>
                        <a:pt x="1467" y="1178"/>
                      </a:lnTo>
                      <a:lnTo>
                        <a:pt x="1517" y="1214"/>
                      </a:lnTo>
                      <a:lnTo>
                        <a:pt x="1572" y="1244"/>
                      </a:lnTo>
                      <a:lnTo>
                        <a:pt x="1630" y="1271"/>
                      </a:lnTo>
                      <a:lnTo>
                        <a:pt x="1688" y="1292"/>
                      </a:lnTo>
                      <a:lnTo>
                        <a:pt x="1750" y="1307"/>
                      </a:lnTo>
                      <a:lnTo>
                        <a:pt x="1811" y="1318"/>
                      </a:lnTo>
                      <a:lnTo>
                        <a:pt x="1876" y="1322"/>
                      </a:lnTo>
                      <a:lnTo>
                        <a:pt x="1939" y="1322"/>
                      </a:lnTo>
                      <a:lnTo>
                        <a:pt x="2001" y="1315"/>
                      </a:lnTo>
                      <a:lnTo>
                        <a:pt x="2064" y="1304"/>
                      </a:lnTo>
                      <a:lnTo>
                        <a:pt x="2124" y="1286"/>
                      </a:lnTo>
                      <a:lnTo>
                        <a:pt x="2182" y="1264"/>
                      </a:lnTo>
                      <a:lnTo>
                        <a:pt x="2240" y="1236"/>
                      </a:lnTo>
                      <a:lnTo>
                        <a:pt x="2292" y="1205"/>
                      </a:lnTo>
                      <a:lnTo>
                        <a:pt x="2342" y="1167"/>
                      </a:lnTo>
                      <a:lnTo>
                        <a:pt x="2390" y="1126"/>
                      </a:lnTo>
                      <a:lnTo>
                        <a:pt x="2430" y="1081"/>
                      </a:lnTo>
                      <a:lnTo>
                        <a:pt x="2470" y="1033"/>
                      </a:lnTo>
                      <a:lnTo>
                        <a:pt x="2503" y="982"/>
                      </a:lnTo>
                      <a:lnTo>
                        <a:pt x="2546" y="989"/>
                      </a:lnTo>
                      <a:lnTo>
                        <a:pt x="2591" y="992"/>
                      </a:lnTo>
                      <a:lnTo>
                        <a:pt x="2636" y="989"/>
                      </a:lnTo>
                      <a:lnTo>
                        <a:pt x="2681" y="980"/>
                      </a:lnTo>
                      <a:lnTo>
                        <a:pt x="2724" y="966"/>
                      </a:lnTo>
                      <a:lnTo>
                        <a:pt x="2764" y="947"/>
                      </a:lnTo>
                      <a:lnTo>
                        <a:pt x="2799" y="923"/>
                      </a:lnTo>
                      <a:lnTo>
                        <a:pt x="2834" y="894"/>
                      </a:lnTo>
                      <a:lnTo>
                        <a:pt x="2864" y="862"/>
                      </a:lnTo>
                      <a:lnTo>
                        <a:pt x="2889" y="826"/>
                      </a:lnTo>
                      <a:lnTo>
                        <a:pt x="2907" y="787"/>
                      </a:lnTo>
                      <a:lnTo>
                        <a:pt x="2922" y="746"/>
                      </a:lnTo>
                      <a:lnTo>
                        <a:pt x="2932" y="704"/>
                      </a:lnTo>
                      <a:lnTo>
                        <a:pt x="2934" y="662"/>
                      </a:lnTo>
                      <a:lnTo>
                        <a:pt x="2932" y="618"/>
                      </a:lnTo>
                      <a:lnTo>
                        <a:pt x="2922" y="576"/>
                      </a:lnTo>
                      <a:lnTo>
                        <a:pt x="2907" y="535"/>
                      </a:lnTo>
                      <a:lnTo>
                        <a:pt x="2889" y="496"/>
                      </a:lnTo>
                      <a:lnTo>
                        <a:pt x="2864" y="461"/>
                      </a:lnTo>
                      <a:lnTo>
                        <a:pt x="2834" y="428"/>
                      </a:lnTo>
                      <a:lnTo>
                        <a:pt x="2799" y="399"/>
                      </a:lnTo>
                      <a:lnTo>
                        <a:pt x="2764" y="375"/>
                      </a:lnTo>
                      <a:lnTo>
                        <a:pt x="2724" y="356"/>
                      </a:lnTo>
                      <a:lnTo>
                        <a:pt x="2681" y="342"/>
                      </a:lnTo>
                      <a:lnTo>
                        <a:pt x="2636" y="333"/>
                      </a:lnTo>
                      <a:lnTo>
                        <a:pt x="2591" y="330"/>
                      </a:lnTo>
                      <a:lnTo>
                        <a:pt x="2546" y="333"/>
                      </a:lnTo>
                      <a:lnTo>
                        <a:pt x="2503" y="340"/>
                      </a:lnTo>
                      <a:lnTo>
                        <a:pt x="2470" y="289"/>
                      </a:lnTo>
                      <a:lnTo>
                        <a:pt x="2430" y="241"/>
                      </a:lnTo>
                      <a:lnTo>
                        <a:pt x="2390" y="196"/>
                      </a:lnTo>
                      <a:lnTo>
                        <a:pt x="2342" y="155"/>
                      </a:lnTo>
                      <a:lnTo>
                        <a:pt x="2292" y="117"/>
                      </a:lnTo>
                      <a:lnTo>
                        <a:pt x="2240" y="86"/>
                      </a:lnTo>
                      <a:lnTo>
                        <a:pt x="2182" y="58"/>
                      </a:lnTo>
                      <a:lnTo>
                        <a:pt x="2124" y="36"/>
                      </a:lnTo>
                      <a:lnTo>
                        <a:pt x="2064" y="19"/>
                      </a:lnTo>
                      <a:lnTo>
                        <a:pt x="2001" y="7"/>
                      </a:lnTo>
                      <a:lnTo>
                        <a:pt x="1939" y="1"/>
                      </a:lnTo>
                      <a:lnTo>
                        <a:pt x="1876" y="0"/>
                      </a:lnTo>
                      <a:lnTo>
                        <a:pt x="1811" y="4"/>
                      </a:lnTo>
                      <a:lnTo>
                        <a:pt x="1750" y="15"/>
                      </a:lnTo>
                      <a:lnTo>
                        <a:pt x="1688" y="31"/>
                      </a:lnTo>
                      <a:lnTo>
                        <a:pt x="1630" y="52"/>
                      </a:lnTo>
                      <a:lnTo>
                        <a:pt x="1572" y="78"/>
                      </a:lnTo>
                      <a:lnTo>
                        <a:pt x="1517" y="108"/>
                      </a:lnTo>
                      <a:lnTo>
                        <a:pt x="1467" y="144"/>
                      </a:lnTo>
                      <a:lnTo>
                        <a:pt x="1414" y="108"/>
                      </a:lnTo>
                      <a:lnTo>
                        <a:pt x="1362" y="78"/>
                      </a:lnTo>
                      <a:lnTo>
                        <a:pt x="1304" y="52"/>
                      </a:lnTo>
                      <a:lnTo>
                        <a:pt x="1244" y="31"/>
                      </a:lnTo>
                      <a:lnTo>
                        <a:pt x="1184" y="15"/>
                      </a:lnTo>
                      <a:lnTo>
                        <a:pt x="1121" y="4"/>
                      </a:lnTo>
                      <a:lnTo>
                        <a:pt x="1058" y="0"/>
                      </a:lnTo>
                      <a:lnTo>
                        <a:pt x="995" y="1"/>
                      </a:lnTo>
                      <a:lnTo>
                        <a:pt x="933" y="7"/>
                      </a:lnTo>
                      <a:lnTo>
                        <a:pt x="870" y="19"/>
                      </a:lnTo>
                      <a:lnTo>
                        <a:pt x="810" y="36"/>
                      </a:lnTo>
                      <a:lnTo>
                        <a:pt x="750" y="58"/>
                      </a:lnTo>
                      <a:lnTo>
                        <a:pt x="694" y="86"/>
                      </a:lnTo>
                      <a:lnTo>
                        <a:pt x="642" y="117"/>
                      </a:lnTo>
                      <a:lnTo>
                        <a:pt x="592" y="155"/>
                      </a:lnTo>
                      <a:lnTo>
                        <a:pt x="544" y="196"/>
                      </a:lnTo>
                      <a:lnTo>
                        <a:pt x="501" y="241"/>
                      </a:lnTo>
                      <a:lnTo>
                        <a:pt x="464" y="289"/>
                      </a:lnTo>
                      <a:lnTo>
                        <a:pt x="431" y="340"/>
                      </a:lnTo>
                      <a:lnTo>
                        <a:pt x="386" y="333"/>
                      </a:lnTo>
                      <a:lnTo>
                        <a:pt x="341" y="330"/>
                      </a:lnTo>
                      <a:lnTo>
                        <a:pt x="298" y="333"/>
                      </a:lnTo>
                      <a:lnTo>
                        <a:pt x="253" y="342"/>
                      </a:lnTo>
                      <a:lnTo>
                        <a:pt x="210" y="356"/>
                      </a:lnTo>
                      <a:lnTo>
                        <a:pt x="170" y="375"/>
                      </a:lnTo>
                      <a:lnTo>
                        <a:pt x="133" y="399"/>
                      </a:lnTo>
                      <a:lnTo>
                        <a:pt x="100" y="428"/>
                      </a:lnTo>
                      <a:lnTo>
                        <a:pt x="70" y="461"/>
                      </a:lnTo>
                      <a:lnTo>
                        <a:pt x="45" y="496"/>
                      </a:lnTo>
                      <a:lnTo>
                        <a:pt x="25" y="535"/>
                      </a:lnTo>
                      <a:lnTo>
                        <a:pt x="10" y="576"/>
                      </a:lnTo>
                      <a:lnTo>
                        <a:pt x="2" y="618"/>
                      </a:lnTo>
                      <a:lnTo>
                        <a:pt x="0" y="662"/>
                      </a:lnTo>
                      <a:lnTo>
                        <a:pt x="2" y="704"/>
                      </a:lnTo>
                      <a:lnTo>
                        <a:pt x="10" y="746"/>
                      </a:lnTo>
                      <a:lnTo>
                        <a:pt x="25" y="787"/>
                      </a:lnTo>
                      <a:lnTo>
                        <a:pt x="45" y="826"/>
                      </a:lnTo>
                      <a:lnTo>
                        <a:pt x="70" y="862"/>
                      </a:lnTo>
                      <a:lnTo>
                        <a:pt x="100" y="894"/>
                      </a:lnTo>
                      <a:lnTo>
                        <a:pt x="133" y="923"/>
                      </a:lnTo>
                      <a:lnTo>
                        <a:pt x="170" y="947"/>
                      </a:lnTo>
                      <a:lnTo>
                        <a:pt x="210" y="966"/>
                      </a:lnTo>
                      <a:lnTo>
                        <a:pt x="253" y="980"/>
                      </a:lnTo>
                      <a:lnTo>
                        <a:pt x="298" y="989"/>
                      </a:lnTo>
                      <a:lnTo>
                        <a:pt x="341" y="992"/>
                      </a:lnTo>
                      <a:lnTo>
                        <a:pt x="386" y="989"/>
                      </a:lnTo>
                      <a:lnTo>
                        <a:pt x="431" y="98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38680" y="3497040"/>
                  <a:ext cx="1257120" cy="6858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54"/>
                      </a:solidFill>
                      <a:latin typeface="Verdana"/>
                    </a:rPr>
                    <a:t>Sistem Informasi Terpadu</a:t>
                  </a:r>
                  <a:endParaRPr b="0" lang="en-US" sz="12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1236600" y="5715000"/>
                <a:ext cx="7221600" cy="1143000"/>
              </a:xfrm>
              <a:custGeom>
                <a:avLst/>
                <a:gdLst/>
                <a:ahLst/>
                <a:rect l="l" t="t" r="r" b="b"/>
                <a:pathLst>
                  <a:path w="2934" h="1322">
                    <a:moveTo>
                      <a:pt x="431" y="982"/>
                    </a:moveTo>
                    <a:lnTo>
                      <a:pt x="464" y="1033"/>
                    </a:lnTo>
                    <a:lnTo>
                      <a:pt x="501" y="1081"/>
                    </a:lnTo>
                    <a:lnTo>
                      <a:pt x="544" y="1126"/>
                    </a:lnTo>
                    <a:lnTo>
                      <a:pt x="592" y="1167"/>
                    </a:lnTo>
                    <a:lnTo>
                      <a:pt x="642" y="1205"/>
                    </a:lnTo>
                    <a:lnTo>
                      <a:pt x="694" y="1236"/>
                    </a:lnTo>
                    <a:lnTo>
                      <a:pt x="750" y="1264"/>
                    </a:lnTo>
                    <a:lnTo>
                      <a:pt x="810" y="1286"/>
                    </a:lnTo>
                    <a:lnTo>
                      <a:pt x="870" y="1304"/>
                    </a:lnTo>
                    <a:lnTo>
                      <a:pt x="933" y="1315"/>
                    </a:lnTo>
                    <a:lnTo>
                      <a:pt x="995" y="1322"/>
                    </a:lnTo>
                    <a:lnTo>
                      <a:pt x="1058" y="1322"/>
                    </a:lnTo>
                    <a:lnTo>
                      <a:pt x="1121" y="1318"/>
                    </a:lnTo>
                    <a:lnTo>
                      <a:pt x="1184" y="1307"/>
                    </a:lnTo>
                    <a:lnTo>
                      <a:pt x="1244" y="1292"/>
                    </a:lnTo>
                    <a:lnTo>
                      <a:pt x="1304" y="1271"/>
                    </a:lnTo>
                    <a:lnTo>
                      <a:pt x="1362" y="1244"/>
                    </a:lnTo>
                    <a:lnTo>
                      <a:pt x="1414" y="1214"/>
                    </a:lnTo>
                    <a:lnTo>
                      <a:pt x="1467" y="1178"/>
                    </a:lnTo>
                    <a:lnTo>
                      <a:pt x="1517" y="1214"/>
                    </a:lnTo>
                    <a:lnTo>
                      <a:pt x="1572" y="1244"/>
                    </a:lnTo>
                    <a:lnTo>
                      <a:pt x="1630" y="1271"/>
                    </a:lnTo>
                    <a:lnTo>
                      <a:pt x="1688" y="1292"/>
                    </a:lnTo>
                    <a:lnTo>
                      <a:pt x="1750" y="1307"/>
                    </a:lnTo>
                    <a:lnTo>
                      <a:pt x="1811" y="1318"/>
                    </a:lnTo>
                    <a:lnTo>
                      <a:pt x="1876" y="1322"/>
                    </a:lnTo>
                    <a:lnTo>
                      <a:pt x="1939" y="1322"/>
                    </a:lnTo>
                    <a:lnTo>
                      <a:pt x="2001" y="1315"/>
                    </a:lnTo>
                    <a:lnTo>
                      <a:pt x="2064" y="1304"/>
                    </a:lnTo>
                    <a:lnTo>
                      <a:pt x="2124" y="1286"/>
                    </a:lnTo>
                    <a:lnTo>
                      <a:pt x="2182" y="1264"/>
                    </a:lnTo>
                    <a:lnTo>
                      <a:pt x="2240" y="1236"/>
                    </a:lnTo>
                    <a:lnTo>
                      <a:pt x="2292" y="1205"/>
                    </a:lnTo>
                    <a:lnTo>
                      <a:pt x="2342" y="1167"/>
                    </a:lnTo>
                    <a:lnTo>
                      <a:pt x="2390" y="1126"/>
                    </a:lnTo>
                    <a:lnTo>
                      <a:pt x="2430" y="1081"/>
                    </a:lnTo>
                    <a:lnTo>
                      <a:pt x="2470" y="1033"/>
                    </a:lnTo>
                    <a:lnTo>
                      <a:pt x="2503" y="982"/>
                    </a:lnTo>
                    <a:lnTo>
                      <a:pt x="2546" y="989"/>
                    </a:lnTo>
                    <a:lnTo>
                      <a:pt x="2591" y="992"/>
                    </a:lnTo>
                    <a:lnTo>
                      <a:pt x="2636" y="989"/>
                    </a:lnTo>
                    <a:lnTo>
                      <a:pt x="2681" y="980"/>
                    </a:lnTo>
                    <a:lnTo>
                      <a:pt x="2724" y="966"/>
                    </a:lnTo>
                    <a:lnTo>
                      <a:pt x="2764" y="947"/>
                    </a:lnTo>
                    <a:lnTo>
                      <a:pt x="2799" y="923"/>
                    </a:lnTo>
                    <a:lnTo>
                      <a:pt x="2834" y="894"/>
                    </a:lnTo>
                    <a:lnTo>
                      <a:pt x="2864" y="862"/>
                    </a:lnTo>
                    <a:lnTo>
                      <a:pt x="2889" y="826"/>
                    </a:lnTo>
                    <a:lnTo>
                      <a:pt x="2907" y="787"/>
                    </a:lnTo>
                    <a:lnTo>
                      <a:pt x="2922" y="746"/>
                    </a:lnTo>
                    <a:lnTo>
                      <a:pt x="2932" y="704"/>
                    </a:lnTo>
                    <a:lnTo>
                      <a:pt x="2934" y="662"/>
                    </a:lnTo>
                    <a:lnTo>
                      <a:pt x="2932" y="618"/>
                    </a:lnTo>
                    <a:lnTo>
                      <a:pt x="2922" y="576"/>
                    </a:lnTo>
                    <a:lnTo>
                      <a:pt x="2907" y="535"/>
                    </a:lnTo>
                    <a:lnTo>
                      <a:pt x="2889" y="496"/>
                    </a:lnTo>
                    <a:lnTo>
                      <a:pt x="2864" y="461"/>
                    </a:lnTo>
                    <a:lnTo>
                      <a:pt x="2834" y="428"/>
                    </a:lnTo>
                    <a:lnTo>
                      <a:pt x="2799" y="399"/>
                    </a:lnTo>
                    <a:lnTo>
                      <a:pt x="2764" y="375"/>
                    </a:lnTo>
                    <a:lnTo>
                      <a:pt x="2724" y="356"/>
                    </a:lnTo>
                    <a:lnTo>
                      <a:pt x="2681" y="342"/>
                    </a:lnTo>
                    <a:lnTo>
                      <a:pt x="2636" y="333"/>
                    </a:lnTo>
                    <a:lnTo>
                      <a:pt x="2591" y="330"/>
                    </a:lnTo>
                    <a:lnTo>
                      <a:pt x="2546" y="333"/>
                    </a:lnTo>
                    <a:lnTo>
                      <a:pt x="2503" y="340"/>
                    </a:lnTo>
                    <a:lnTo>
                      <a:pt x="2470" y="289"/>
                    </a:lnTo>
                    <a:lnTo>
                      <a:pt x="2430" y="241"/>
                    </a:lnTo>
                    <a:lnTo>
                      <a:pt x="2390" y="196"/>
                    </a:lnTo>
                    <a:lnTo>
                      <a:pt x="2342" y="155"/>
                    </a:lnTo>
                    <a:lnTo>
                      <a:pt x="2292" y="117"/>
                    </a:lnTo>
                    <a:lnTo>
                      <a:pt x="2240" y="86"/>
                    </a:lnTo>
                    <a:lnTo>
                      <a:pt x="2182" y="58"/>
                    </a:lnTo>
                    <a:lnTo>
                      <a:pt x="2124" y="36"/>
                    </a:lnTo>
                    <a:lnTo>
                      <a:pt x="2064" y="19"/>
                    </a:lnTo>
                    <a:lnTo>
                      <a:pt x="2001" y="7"/>
                    </a:lnTo>
                    <a:lnTo>
                      <a:pt x="1939" y="1"/>
                    </a:lnTo>
                    <a:lnTo>
                      <a:pt x="1876" y="0"/>
                    </a:lnTo>
                    <a:lnTo>
                      <a:pt x="1811" y="4"/>
                    </a:lnTo>
                    <a:lnTo>
                      <a:pt x="1750" y="15"/>
                    </a:lnTo>
                    <a:lnTo>
                      <a:pt x="1688" y="31"/>
                    </a:lnTo>
                    <a:lnTo>
                      <a:pt x="1630" y="52"/>
                    </a:lnTo>
                    <a:lnTo>
                      <a:pt x="1572" y="78"/>
                    </a:lnTo>
                    <a:lnTo>
                      <a:pt x="1517" y="108"/>
                    </a:lnTo>
                    <a:lnTo>
                      <a:pt x="1467" y="144"/>
                    </a:lnTo>
                    <a:lnTo>
                      <a:pt x="1414" y="108"/>
                    </a:lnTo>
                    <a:lnTo>
                      <a:pt x="1362" y="78"/>
                    </a:lnTo>
                    <a:lnTo>
                      <a:pt x="1304" y="52"/>
                    </a:lnTo>
                    <a:lnTo>
                      <a:pt x="1244" y="31"/>
                    </a:lnTo>
                    <a:lnTo>
                      <a:pt x="1184" y="15"/>
                    </a:lnTo>
                    <a:lnTo>
                      <a:pt x="1121" y="4"/>
                    </a:lnTo>
                    <a:lnTo>
                      <a:pt x="1058" y="0"/>
                    </a:lnTo>
                    <a:lnTo>
                      <a:pt x="995" y="1"/>
                    </a:lnTo>
                    <a:lnTo>
                      <a:pt x="933" y="7"/>
                    </a:lnTo>
                    <a:lnTo>
                      <a:pt x="870" y="19"/>
                    </a:lnTo>
                    <a:lnTo>
                      <a:pt x="810" y="36"/>
                    </a:lnTo>
                    <a:lnTo>
                      <a:pt x="750" y="58"/>
                    </a:lnTo>
                    <a:lnTo>
                      <a:pt x="694" y="86"/>
                    </a:lnTo>
                    <a:lnTo>
                      <a:pt x="642" y="117"/>
                    </a:lnTo>
                    <a:lnTo>
                      <a:pt x="592" y="155"/>
                    </a:lnTo>
                    <a:lnTo>
                      <a:pt x="544" y="196"/>
                    </a:lnTo>
                    <a:lnTo>
                      <a:pt x="501" y="241"/>
                    </a:lnTo>
                    <a:lnTo>
                      <a:pt x="464" y="289"/>
                    </a:lnTo>
                    <a:lnTo>
                      <a:pt x="431" y="340"/>
                    </a:lnTo>
                    <a:lnTo>
                      <a:pt x="386" y="333"/>
                    </a:lnTo>
                    <a:lnTo>
                      <a:pt x="341" y="330"/>
                    </a:lnTo>
                    <a:lnTo>
                      <a:pt x="298" y="333"/>
                    </a:lnTo>
                    <a:lnTo>
                      <a:pt x="253" y="342"/>
                    </a:lnTo>
                    <a:lnTo>
                      <a:pt x="210" y="356"/>
                    </a:lnTo>
                    <a:lnTo>
                      <a:pt x="170" y="375"/>
                    </a:lnTo>
                    <a:lnTo>
                      <a:pt x="133" y="399"/>
                    </a:lnTo>
                    <a:lnTo>
                      <a:pt x="100" y="428"/>
                    </a:lnTo>
                    <a:lnTo>
                      <a:pt x="70" y="461"/>
                    </a:lnTo>
                    <a:lnTo>
                      <a:pt x="45" y="496"/>
                    </a:lnTo>
                    <a:lnTo>
                      <a:pt x="25" y="535"/>
                    </a:lnTo>
                    <a:lnTo>
                      <a:pt x="10" y="576"/>
                    </a:lnTo>
                    <a:lnTo>
                      <a:pt x="2" y="618"/>
                    </a:lnTo>
                    <a:lnTo>
                      <a:pt x="0" y="662"/>
                    </a:lnTo>
                    <a:lnTo>
                      <a:pt x="2" y="704"/>
                    </a:lnTo>
                    <a:lnTo>
                      <a:pt x="10" y="746"/>
                    </a:lnTo>
                    <a:lnTo>
                      <a:pt x="25" y="787"/>
                    </a:lnTo>
                    <a:lnTo>
                      <a:pt x="45" y="826"/>
                    </a:lnTo>
                    <a:lnTo>
                      <a:pt x="70" y="862"/>
                    </a:lnTo>
                    <a:lnTo>
                      <a:pt x="100" y="894"/>
                    </a:lnTo>
                    <a:lnTo>
                      <a:pt x="133" y="923"/>
                    </a:lnTo>
                    <a:lnTo>
                      <a:pt x="170" y="947"/>
                    </a:lnTo>
                    <a:lnTo>
                      <a:pt x="210" y="966"/>
                    </a:lnTo>
                    <a:lnTo>
                      <a:pt x="253" y="980"/>
                    </a:lnTo>
                    <a:lnTo>
                      <a:pt x="298" y="989"/>
                    </a:lnTo>
                    <a:lnTo>
                      <a:pt x="341" y="992"/>
                    </a:lnTo>
                    <a:lnTo>
                      <a:pt x="386" y="989"/>
                    </a:lnTo>
                    <a:lnTo>
                      <a:pt x="431" y="982"/>
                    </a:lnTo>
                    <a:close/>
                  </a:path>
                </a:pathLst>
              </a:custGeom>
              <a:solidFill>
                <a:srgbClr val="ccffff"/>
              </a:solidFill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581280" y="4525920"/>
                <a:ext cx="3429000" cy="343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54"/>
                    </a:solidFill>
                    <a:latin typeface="Verdana"/>
                  </a:rPr>
                  <a:t>DIGITAL LIBRARY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1798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6370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942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514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0086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4658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77120" y="4906800"/>
                <a:ext cx="2036520" cy="292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54"/>
                    </a:solidFill>
                    <a:latin typeface="Verdana"/>
                  </a:rPr>
                  <a:t>Production House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086600" y="5364000"/>
                <a:ext cx="343080" cy="457200"/>
              </a:xfrm>
              <a:prstGeom prst="upArrow">
                <a:avLst>
                  <a:gd name="adj1" fmla="val 50000"/>
                  <a:gd name="adj2" fmla="val 3331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7391520" y="3230640"/>
                <a:ext cx="1523880" cy="960480"/>
                <a:chOff x="7391520" y="3230640"/>
                <a:chExt cx="1523880" cy="9604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7391520" y="3230640"/>
                  <a:ext cx="1523880" cy="960480"/>
                </a:xfrm>
                <a:custGeom>
                  <a:avLst/>
                  <a:gdLst/>
                  <a:ahLst/>
                  <a:rect l="l" t="t" r="r" b="b"/>
                  <a:pathLst>
                    <a:path w="2934" h="1322">
                      <a:moveTo>
                        <a:pt x="431" y="982"/>
                      </a:moveTo>
                      <a:lnTo>
                        <a:pt x="464" y="1033"/>
                      </a:lnTo>
                      <a:lnTo>
                        <a:pt x="501" y="1081"/>
                      </a:lnTo>
                      <a:lnTo>
                        <a:pt x="544" y="1126"/>
                      </a:lnTo>
                      <a:lnTo>
                        <a:pt x="592" y="1167"/>
                      </a:lnTo>
                      <a:lnTo>
                        <a:pt x="642" y="1205"/>
                      </a:lnTo>
                      <a:lnTo>
                        <a:pt x="694" y="1236"/>
                      </a:lnTo>
                      <a:lnTo>
                        <a:pt x="750" y="1264"/>
                      </a:lnTo>
                      <a:lnTo>
                        <a:pt x="810" y="1286"/>
                      </a:lnTo>
                      <a:lnTo>
                        <a:pt x="870" y="1304"/>
                      </a:lnTo>
                      <a:lnTo>
                        <a:pt x="933" y="1315"/>
                      </a:lnTo>
                      <a:lnTo>
                        <a:pt x="995" y="1322"/>
                      </a:lnTo>
                      <a:lnTo>
                        <a:pt x="1058" y="1322"/>
                      </a:lnTo>
                      <a:lnTo>
                        <a:pt x="1121" y="1318"/>
                      </a:lnTo>
                      <a:lnTo>
                        <a:pt x="1184" y="1307"/>
                      </a:lnTo>
                      <a:lnTo>
                        <a:pt x="1244" y="1292"/>
                      </a:lnTo>
                      <a:lnTo>
                        <a:pt x="1304" y="1271"/>
                      </a:lnTo>
                      <a:lnTo>
                        <a:pt x="1362" y="1244"/>
                      </a:lnTo>
                      <a:lnTo>
                        <a:pt x="1414" y="1214"/>
                      </a:lnTo>
                      <a:lnTo>
                        <a:pt x="1467" y="1178"/>
                      </a:lnTo>
                      <a:lnTo>
                        <a:pt x="1517" y="1214"/>
                      </a:lnTo>
                      <a:lnTo>
                        <a:pt x="1572" y="1244"/>
                      </a:lnTo>
                      <a:lnTo>
                        <a:pt x="1630" y="1271"/>
                      </a:lnTo>
                      <a:lnTo>
                        <a:pt x="1688" y="1292"/>
                      </a:lnTo>
                      <a:lnTo>
                        <a:pt x="1750" y="1307"/>
                      </a:lnTo>
                      <a:lnTo>
                        <a:pt x="1811" y="1318"/>
                      </a:lnTo>
                      <a:lnTo>
                        <a:pt x="1876" y="1322"/>
                      </a:lnTo>
                      <a:lnTo>
                        <a:pt x="1939" y="1322"/>
                      </a:lnTo>
                      <a:lnTo>
                        <a:pt x="2001" y="1315"/>
                      </a:lnTo>
                      <a:lnTo>
                        <a:pt x="2064" y="1304"/>
                      </a:lnTo>
                      <a:lnTo>
                        <a:pt x="2124" y="1286"/>
                      </a:lnTo>
                      <a:lnTo>
                        <a:pt x="2182" y="1264"/>
                      </a:lnTo>
                      <a:lnTo>
                        <a:pt x="2240" y="1236"/>
                      </a:lnTo>
                      <a:lnTo>
                        <a:pt x="2292" y="1205"/>
                      </a:lnTo>
                      <a:lnTo>
                        <a:pt x="2342" y="1167"/>
                      </a:lnTo>
                      <a:lnTo>
                        <a:pt x="2390" y="1126"/>
                      </a:lnTo>
                      <a:lnTo>
                        <a:pt x="2430" y="1081"/>
                      </a:lnTo>
                      <a:lnTo>
                        <a:pt x="2470" y="1033"/>
                      </a:lnTo>
                      <a:lnTo>
                        <a:pt x="2503" y="982"/>
                      </a:lnTo>
                      <a:lnTo>
                        <a:pt x="2546" y="989"/>
                      </a:lnTo>
                      <a:lnTo>
                        <a:pt x="2591" y="992"/>
                      </a:lnTo>
                      <a:lnTo>
                        <a:pt x="2636" y="989"/>
                      </a:lnTo>
                      <a:lnTo>
                        <a:pt x="2681" y="980"/>
                      </a:lnTo>
                      <a:lnTo>
                        <a:pt x="2724" y="966"/>
                      </a:lnTo>
                      <a:lnTo>
                        <a:pt x="2764" y="947"/>
                      </a:lnTo>
                      <a:lnTo>
                        <a:pt x="2799" y="923"/>
                      </a:lnTo>
                      <a:lnTo>
                        <a:pt x="2834" y="894"/>
                      </a:lnTo>
                      <a:lnTo>
                        <a:pt x="2864" y="862"/>
                      </a:lnTo>
                      <a:lnTo>
                        <a:pt x="2889" y="826"/>
                      </a:lnTo>
                      <a:lnTo>
                        <a:pt x="2907" y="787"/>
                      </a:lnTo>
                      <a:lnTo>
                        <a:pt x="2922" y="746"/>
                      </a:lnTo>
                      <a:lnTo>
                        <a:pt x="2932" y="704"/>
                      </a:lnTo>
                      <a:lnTo>
                        <a:pt x="2934" y="662"/>
                      </a:lnTo>
                      <a:lnTo>
                        <a:pt x="2932" y="618"/>
                      </a:lnTo>
                      <a:lnTo>
                        <a:pt x="2922" y="576"/>
                      </a:lnTo>
                      <a:lnTo>
                        <a:pt x="2907" y="535"/>
                      </a:lnTo>
                      <a:lnTo>
                        <a:pt x="2889" y="496"/>
                      </a:lnTo>
                      <a:lnTo>
                        <a:pt x="2864" y="461"/>
                      </a:lnTo>
                      <a:lnTo>
                        <a:pt x="2834" y="428"/>
                      </a:lnTo>
                      <a:lnTo>
                        <a:pt x="2799" y="399"/>
                      </a:lnTo>
                      <a:lnTo>
                        <a:pt x="2764" y="375"/>
                      </a:lnTo>
                      <a:lnTo>
                        <a:pt x="2724" y="356"/>
                      </a:lnTo>
                      <a:lnTo>
                        <a:pt x="2681" y="342"/>
                      </a:lnTo>
                      <a:lnTo>
                        <a:pt x="2636" y="333"/>
                      </a:lnTo>
                      <a:lnTo>
                        <a:pt x="2591" y="330"/>
                      </a:lnTo>
                      <a:lnTo>
                        <a:pt x="2546" y="333"/>
                      </a:lnTo>
                      <a:lnTo>
                        <a:pt x="2503" y="340"/>
                      </a:lnTo>
                      <a:lnTo>
                        <a:pt x="2470" y="289"/>
                      </a:lnTo>
                      <a:lnTo>
                        <a:pt x="2430" y="241"/>
                      </a:lnTo>
                      <a:lnTo>
                        <a:pt x="2390" y="196"/>
                      </a:lnTo>
                      <a:lnTo>
                        <a:pt x="2342" y="155"/>
                      </a:lnTo>
                      <a:lnTo>
                        <a:pt x="2292" y="117"/>
                      </a:lnTo>
                      <a:lnTo>
                        <a:pt x="2240" y="86"/>
                      </a:lnTo>
                      <a:lnTo>
                        <a:pt x="2182" y="58"/>
                      </a:lnTo>
                      <a:lnTo>
                        <a:pt x="2124" y="36"/>
                      </a:lnTo>
                      <a:lnTo>
                        <a:pt x="2064" y="19"/>
                      </a:lnTo>
                      <a:lnTo>
                        <a:pt x="2001" y="7"/>
                      </a:lnTo>
                      <a:lnTo>
                        <a:pt x="1939" y="1"/>
                      </a:lnTo>
                      <a:lnTo>
                        <a:pt x="1876" y="0"/>
                      </a:lnTo>
                      <a:lnTo>
                        <a:pt x="1811" y="4"/>
                      </a:lnTo>
                      <a:lnTo>
                        <a:pt x="1750" y="15"/>
                      </a:lnTo>
                      <a:lnTo>
                        <a:pt x="1688" y="31"/>
                      </a:lnTo>
                      <a:lnTo>
                        <a:pt x="1630" y="52"/>
                      </a:lnTo>
                      <a:lnTo>
                        <a:pt x="1572" y="78"/>
                      </a:lnTo>
                      <a:lnTo>
                        <a:pt x="1517" y="108"/>
                      </a:lnTo>
                      <a:lnTo>
                        <a:pt x="1467" y="144"/>
                      </a:lnTo>
                      <a:lnTo>
                        <a:pt x="1414" y="108"/>
                      </a:lnTo>
                      <a:lnTo>
                        <a:pt x="1362" y="78"/>
                      </a:lnTo>
                      <a:lnTo>
                        <a:pt x="1304" y="52"/>
                      </a:lnTo>
                      <a:lnTo>
                        <a:pt x="1244" y="31"/>
                      </a:lnTo>
                      <a:lnTo>
                        <a:pt x="1184" y="15"/>
                      </a:lnTo>
                      <a:lnTo>
                        <a:pt x="1121" y="4"/>
                      </a:lnTo>
                      <a:lnTo>
                        <a:pt x="1058" y="0"/>
                      </a:lnTo>
                      <a:lnTo>
                        <a:pt x="995" y="1"/>
                      </a:lnTo>
                      <a:lnTo>
                        <a:pt x="933" y="7"/>
                      </a:lnTo>
                      <a:lnTo>
                        <a:pt x="870" y="19"/>
                      </a:lnTo>
                      <a:lnTo>
                        <a:pt x="810" y="36"/>
                      </a:lnTo>
                      <a:lnTo>
                        <a:pt x="750" y="58"/>
                      </a:lnTo>
                      <a:lnTo>
                        <a:pt x="694" y="86"/>
                      </a:lnTo>
                      <a:lnTo>
                        <a:pt x="642" y="117"/>
                      </a:lnTo>
                      <a:lnTo>
                        <a:pt x="592" y="155"/>
                      </a:lnTo>
                      <a:lnTo>
                        <a:pt x="544" y="196"/>
                      </a:lnTo>
                      <a:lnTo>
                        <a:pt x="501" y="241"/>
                      </a:lnTo>
                      <a:lnTo>
                        <a:pt x="464" y="289"/>
                      </a:lnTo>
                      <a:lnTo>
                        <a:pt x="431" y="340"/>
                      </a:lnTo>
                      <a:lnTo>
                        <a:pt x="386" y="333"/>
                      </a:lnTo>
                      <a:lnTo>
                        <a:pt x="341" y="330"/>
                      </a:lnTo>
                      <a:lnTo>
                        <a:pt x="298" y="333"/>
                      </a:lnTo>
                      <a:lnTo>
                        <a:pt x="253" y="342"/>
                      </a:lnTo>
                      <a:lnTo>
                        <a:pt x="210" y="356"/>
                      </a:lnTo>
                      <a:lnTo>
                        <a:pt x="170" y="375"/>
                      </a:lnTo>
                      <a:lnTo>
                        <a:pt x="133" y="399"/>
                      </a:lnTo>
                      <a:lnTo>
                        <a:pt x="100" y="428"/>
                      </a:lnTo>
                      <a:lnTo>
                        <a:pt x="70" y="461"/>
                      </a:lnTo>
                      <a:lnTo>
                        <a:pt x="45" y="496"/>
                      </a:lnTo>
                      <a:lnTo>
                        <a:pt x="25" y="535"/>
                      </a:lnTo>
                      <a:lnTo>
                        <a:pt x="10" y="576"/>
                      </a:lnTo>
                      <a:lnTo>
                        <a:pt x="2" y="618"/>
                      </a:lnTo>
                      <a:lnTo>
                        <a:pt x="0" y="662"/>
                      </a:lnTo>
                      <a:lnTo>
                        <a:pt x="2" y="704"/>
                      </a:lnTo>
                      <a:lnTo>
                        <a:pt x="10" y="746"/>
                      </a:lnTo>
                      <a:lnTo>
                        <a:pt x="25" y="787"/>
                      </a:lnTo>
                      <a:lnTo>
                        <a:pt x="45" y="826"/>
                      </a:lnTo>
                      <a:lnTo>
                        <a:pt x="70" y="862"/>
                      </a:lnTo>
                      <a:lnTo>
                        <a:pt x="100" y="894"/>
                      </a:lnTo>
                      <a:lnTo>
                        <a:pt x="133" y="923"/>
                      </a:lnTo>
                      <a:lnTo>
                        <a:pt x="170" y="947"/>
                      </a:lnTo>
                      <a:lnTo>
                        <a:pt x="210" y="966"/>
                      </a:lnTo>
                      <a:lnTo>
                        <a:pt x="253" y="980"/>
                      </a:lnTo>
                      <a:lnTo>
                        <a:pt x="298" y="989"/>
                      </a:lnTo>
                      <a:lnTo>
                        <a:pt x="341" y="992"/>
                      </a:lnTo>
                      <a:lnTo>
                        <a:pt x="386" y="989"/>
                      </a:lnTo>
                      <a:lnTo>
                        <a:pt x="431" y="98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729920" y="3422520"/>
                  <a:ext cx="1072080" cy="511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54"/>
                      </a:solidFill>
                      <a:latin typeface="Arial Narrow"/>
                    </a:rPr>
                    <a:t>Self Learning Facilities</a:t>
                  </a:r>
                  <a:endParaRPr b="0" lang="en-US" sz="12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6705720" y="3611520"/>
                <a:ext cx="1523880" cy="914400"/>
                <a:chOff x="6705720" y="3611520"/>
                <a:chExt cx="1523880" cy="9144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705720" y="3611520"/>
                  <a:ext cx="1523880" cy="914400"/>
                </a:xfrm>
                <a:custGeom>
                  <a:avLst/>
                  <a:gdLst/>
                  <a:ahLst/>
                  <a:rect l="l" t="t" r="r" b="b"/>
                  <a:pathLst>
                    <a:path w="2934" h="1322">
                      <a:moveTo>
                        <a:pt x="431" y="982"/>
                      </a:moveTo>
                      <a:lnTo>
                        <a:pt x="464" y="1033"/>
                      </a:lnTo>
                      <a:lnTo>
                        <a:pt x="501" y="1081"/>
                      </a:lnTo>
                      <a:lnTo>
                        <a:pt x="544" y="1126"/>
                      </a:lnTo>
                      <a:lnTo>
                        <a:pt x="592" y="1167"/>
                      </a:lnTo>
                      <a:lnTo>
                        <a:pt x="642" y="1205"/>
                      </a:lnTo>
                      <a:lnTo>
                        <a:pt x="694" y="1236"/>
                      </a:lnTo>
                      <a:lnTo>
                        <a:pt x="750" y="1264"/>
                      </a:lnTo>
                      <a:lnTo>
                        <a:pt x="810" y="1286"/>
                      </a:lnTo>
                      <a:lnTo>
                        <a:pt x="870" y="1304"/>
                      </a:lnTo>
                      <a:lnTo>
                        <a:pt x="933" y="1315"/>
                      </a:lnTo>
                      <a:lnTo>
                        <a:pt x="995" y="1322"/>
                      </a:lnTo>
                      <a:lnTo>
                        <a:pt x="1058" y="1322"/>
                      </a:lnTo>
                      <a:lnTo>
                        <a:pt x="1121" y="1318"/>
                      </a:lnTo>
                      <a:lnTo>
                        <a:pt x="1184" y="1307"/>
                      </a:lnTo>
                      <a:lnTo>
                        <a:pt x="1244" y="1292"/>
                      </a:lnTo>
                      <a:lnTo>
                        <a:pt x="1304" y="1271"/>
                      </a:lnTo>
                      <a:lnTo>
                        <a:pt x="1362" y="1244"/>
                      </a:lnTo>
                      <a:lnTo>
                        <a:pt x="1414" y="1214"/>
                      </a:lnTo>
                      <a:lnTo>
                        <a:pt x="1467" y="1178"/>
                      </a:lnTo>
                      <a:lnTo>
                        <a:pt x="1517" y="1214"/>
                      </a:lnTo>
                      <a:lnTo>
                        <a:pt x="1572" y="1244"/>
                      </a:lnTo>
                      <a:lnTo>
                        <a:pt x="1630" y="1271"/>
                      </a:lnTo>
                      <a:lnTo>
                        <a:pt x="1688" y="1292"/>
                      </a:lnTo>
                      <a:lnTo>
                        <a:pt x="1750" y="1307"/>
                      </a:lnTo>
                      <a:lnTo>
                        <a:pt x="1811" y="1318"/>
                      </a:lnTo>
                      <a:lnTo>
                        <a:pt x="1876" y="1322"/>
                      </a:lnTo>
                      <a:lnTo>
                        <a:pt x="1939" y="1322"/>
                      </a:lnTo>
                      <a:lnTo>
                        <a:pt x="2001" y="1315"/>
                      </a:lnTo>
                      <a:lnTo>
                        <a:pt x="2064" y="1304"/>
                      </a:lnTo>
                      <a:lnTo>
                        <a:pt x="2124" y="1286"/>
                      </a:lnTo>
                      <a:lnTo>
                        <a:pt x="2182" y="1264"/>
                      </a:lnTo>
                      <a:lnTo>
                        <a:pt x="2240" y="1236"/>
                      </a:lnTo>
                      <a:lnTo>
                        <a:pt x="2292" y="1205"/>
                      </a:lnTo>
                      <a:lnTo>
                        <a:pt x="2342" y="1167"/>
                      </a:lnTo>
                      <a:lnTo>
                        <a:pt x="2390" y="1126"/>
                      </a:lnTo>
                      <a:lnTo>
                        <a:pt x="2430" y="1081"/>
                      </a:lnTo>
                      <a:lnTo>
                        <a:pt x="2470" y="1033"/>
                      </a:lnTo>
                      <a:lnTo>
                        <a:pt x="2503" y="982"/>
                      </a:lnTo>
                      <a:lnTo>
                        <a:pt x="2546" y="989"/>
                      </a:lnTo>
                      <a:lnTo>
                        <a:pt x="2591" y="992"/>
                      </a:lnTo>
                      <a:lnTo>
                        <a:pt x="2636" y="989"/>
                      </a:lnTo>
                      <a:lnTo>
                        <a:pt x="2681" y="980"/>
                      </a:lnTo>
                      <a:lnTo>
                        <a:pt x="2724" y="966"/>
                      </a:lnTo>
                      <a:lnTo>
                        <a:pt x="2764" y="947"/>
                      </a:lnTo>
                      <a:lnTo>
                        <a:pt x="2799" y="923"/>
                      </a:lnTo>
                      <a:lnTo>
                        <a:pt x="2834" y="894"/>
                      </a:lnTo>
                      <a:lnTo>
                        <a:pt x="2864" y="862"/>
                      </a:lnTo>
                      <a:lnTo>
                        <a:pt x="2889" y="826"/>
                      </a:lnTo>
                      <a:lnTo>
                        <a:pt x="2907" y="787"/>
                      </a:lnTo>
                      <a:lnTo>
                        <a:pt x="2922" y="746"/>
                      </a:lnTo>
                      <a:lnTo>
                        <a:pt x="2932" y="704"/>
                      </a:lnTo>
                      <a:lnTo>
                        <a:pt x="2934" y="662"/>
                      </a:lnTo>
                      <a:lnTo>
                        <a:pt x="2932" y="618"/>
                      </a:lnTo>
                      <a:lnTo>
                        <a:pt x="2922" y="576"/>
                      </a:lnTo>
                      <a:lnTo>
                        <a:pt x="2907" y="535"/>
                      </a:lnTo>
                      <a:lnTo>
                        <a:pt x="2889" y="496"/>
                      </a:lnTo>
                      <a:lnTo>
                        <a:pt x="2864" y="461"/>
                      </a:lnTo>
                      <a:lnTo>
                        <a:pt x="2834" y="428"/>
                      </a:lnTo>
                      <a:lnTo>
                        <a:pt x="2799" y="399"/>
                      </a:lnTo>
                      <a:lnTo>
                        <a:pt x="2764" y="375"/>
                      </a:lnTo>
                      <a:lnTo>
                        <a:pt x="2724" y="356"/>
                      </a:lnTo>
                      <a:lnTo>
                        <a:pt x="2681" y="342"/>
                      </a:lnTo>
                      <a:lnTo>
                        <a:pt x="2636" y="333"/>
                      </a:lnTo>
                      <a:lnTo>
                        <a:pt x="2591" y="330"/>
                      </a:lnTo>
                      <a:lnTo>
                        <a:pt x="2546" y="333"/>
                      </a:lnTo>
                      <a:lnTo>
                        <a:pt x="2503" y="340"/>
                      </a:lnTo>
                      <a:lnTo>
                        <a:pt x="2470" y="289"/>
                      </a:lnTo>
                      <a:lnTo>
                        <a:pt x="2430" y="241"/>
                      </a:lnTo>
                      <a:lnTo>
                        <a:pt x="2390" y="196"/>
                      </a:lnTo>
                      <a:lnTo>
                        <a:pt x="2342" y="155"/>
                      </a:lnTo>
                      <a:lnTo>
                        <a:pt x="2292" y="117"/>
                      </a:lnTo>
                      <a:lnTo>
                        <a:pt x="2240" y="86"/>
                      </a:lnTo>
                      <a:lnTo>
                        <a:pt x="2182" y="58"/>
                      </a:lnTo>
                      <a:lnTo>
                        <a:pt x="2124" y="36"/>
                      </a:lnTo>
                      <a:lnTo>
                        <a:pt x="2064" y="19"/>
                      </a:lnTo>
                      <a:lnTo>
                        <a:pt x="2001" y="7"/>
                      </a:lnTo>
                      <a:lnTo>
                        <a:pt x="1939" y="1"/>
                      </a:lnTo>
                      <a:lnTo>
                        <a:pt x="1876" y="0"/>
                      </a:lnTo>
                      <a:lnTo>
                        <a:pt x="1811" y="4"/>
                      </a:lnTo>
                      <a:lnTo>
                        <a:pt x="1750" y="15"/>
                      </a:lnTo>
                      <a:lnTo>
                        <a:pt x="1688" y="31"/>
                      </a:lnTo>
                      <a:lnTo>
                        <a:pt x="1630" y="52"/>
                      </a:lnTo>
                      <a:lnTo>
                        <a:pt x="1572" y="78"/>
                      </a:lnTo>
                      <a:lnTo>
                        <a:pt x="1517" y="108"/>
                      </a:lnTo>
                      <a:lnTo>
                        <a:pt x="1467" y="144"/>
                      </a:lnTo>
                      <a:lnTo>
                        <a:pt x="1414" y="108"/>
                      </a:lnTo>
                      <a:lnTo>
                        <a:pt x="1362" y="78"/>
                      </a:lnTo>
                      <a:lnTo>
                        <a:pt x="1304" y="52"/>
                      </a:lnTo>
                      <a:lnTo>
                        <a:pt x="1244" y="31"/>
                      </a:lnTo>
                      <a:lnTo>
                        <a:pt x="1184" y="15"/>
                      </a:lnTo>
                      <a:lnTo>
                        <a:pt x="1121" y="4"/>
                      </a:lnTo>
                      <a:lnTo>
                        <a:pt x="1058" y="0"/>
                      </a:lnTo>
                      <a:lnTo>
                        <a:pt x="995" y="1"/>
                      </a:lnTo>
                      <a:lnTo>
                        <a:pt x="933" y="7"/>
                      </a:lnTo>
                      <a:lnTo>
                        <a:pt x="870" y="19"/>
                      </a:lnTo>
                      <a:lnTo>
                        <a:pt x="810" y="36"/>
                      </a:lnTo>
                      <a:lnTo>
                        <a:pt x="750" y="58"/>
                      </a:lnTo>
                      <a:lnTo>
                        <a:pt x="694" y="86"/>
                      </a:lnTo>
                      <a:lnTo>
                        <a:pt x="642" y="117"/>
                      </a:lnTo>
                      <a:lnTo>
                        <a:pt x="592" y="155"/>
                      </a:lnTo>
                      <a:lnTo>
                        <a:pt x="544" y="196"/>
                      </a:lnTo>
                      <a:lnTo>
                        <a:pt x="501" y="241"/>
                      </a:lnTo>
                      <a:lnTo>
                        <a:pt x="464" y="289"/>
                      </a:lnTo>
                      <a:lnTo>
                        <a:pt x="431" y="340"/>
                      </a:lnTo>
                      <a:lnTo>
                        <a:pt x="386" y="333"/>
                      </a:lnTo>
                      <a:lnTo>
                        <a:pt x="341" y="330"/>
                      </a:lnTo>
                      <a:lnTo>
                        <a:pt x="298" y="333"/>
                      </a:lnTo>
                      <a:lnTo>
                        <a:pt x="253" y="342"/>
                      </a:lnTo>
                      <a:lnTo>
                        <a:pt x="210" y="356"/>
                      </a:lnTo>
                      <a:lnTo>
                        <a:pt x="170" y="375"/>
                      </a:lnTo>
                      <a:lnTo>
                        <a:pt x="133" y="399"/>
                      </a:lnTo>
                      <a:lnTo>
                        <a:pt x="100" y="428"/>
                      </a:lnTo>
                      <a:lnTo>
                        <a:pt x="70" y="461"/>
                      </a:lnTo>
                      <a:lnTo>
                        <a:pt x="45" y="496"/>
                      </a:lnTo>
                      <a:lnTo>
                        <a:pt x="25" y="535"/>
                      </a:lnTo>
                      <a:lnTo>
                        <a:pt x="10" y="576"/>
                      </a:lnTo>
                      <a:lnTo>
                        <a:pt x="2" y="618"/>
                      </a:lnTo>
                      <a:lnTo>
                        <a:pt x="0" y="662"/>
                      </a:lnTo>
                      <a:lnTo>
                        <a:pt x="2" y="704"/>
                      </a:lnTo>
                      <a:lnTo>
                        <a:pt x="10" y="746"/>
                      </a:lnTo>
                      <a:lnTo>
                        <a:pt x="25" y="787"/>
                      </a:lnTo>
                      <a:lnTo>
                        <a:pt x="45" y="826"/>
                      </a:lnTo>
                      <a:lnTo>
                        <a:pt x="70" y="862"/>
                      </a:lnTo>
                      <a:lnTo>
                        <a:pt x="100" y="894"/>
                      </a:lnTo>
                      <a:lnTo>
                        <a:pt x="133" y="923"/>
                      </a:lnTo>
                      <a:lnTo>
                        <a:pt x="170" y="947"/>
                      </a:lnTo>
                      <a:lnTo>
                        <a:pt x="210" y="966"/>
                      </a:lnTo>
                      <a:lnTo>
                        <a:pt x="253" y="980"/>
                      </a:lnTo>
                      <a:lnTo>
                        <a:pt x="298" y="989"/>
                      </a:lnTo>
                      <a:lnTo>
                        <a:pt x="341" y="992"/>
                      </a:lnTo>
                      <a:lnTo>
                        <a:pt x="386" y="989"/>
                      </a:lnTo>
                      <a:lnTo>
                        <a:pt x="431" y="98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044120" y="3794400"/>
                  <a:ext cx="1072080" cy="4874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900" spc="-1" strike="noStrike">
                      <a:solidFill>
                        <a:srgbClr val="000054"/>
                      </a:solidFill>
                      <a:latin typeface="Verdana"/>
                    </a:rPr>
                    <a:t>Learning Management Systems</a:t>
                  </a:r>
                  <a:endParaRPr b="0" lang="en-US" sz="9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608880" y="4457880"/>
                <a:ext cx="1790640" cy="533160"/>
                <a:chOff x="6608880" y="4457880"/>
                <a:chExt cx="1790640" cy="53316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608880" y="4457880"/>
                  <a:ext cx="1790640" cy="533160"/>
                </a:xfrm>
                <a:custGeom>
                  <a:avLst/>
                  <a:gdLst/>
                  <a:ahLst/>
                  <a:rect l="l" t="t" r="r" b="b"/>
                  <a:pathLst>
                    <a:path w="2934" h="1322">
                      <a:moveTo>
                        <a:pt x="431" y="982"/>
                      </a:moveTo>
                      <a:lnTo>
                        <a:pt x="464" y="1033"/>
                      </a:lnTo>
                      <a:lnTo>
                        <a:pt x="501" y="1081"/>
                      </a:lnTo>
                      <a:lnTo>
                        <a:pt x="544" y="1126"/>
                      </a:lnTo>
                      <a:lnTo>
                        <a:pt x="592" y="1167"/>
                      </a:lnTo>
                      <a:lnTo>
                        <a:pt x="642" y="1205"/>
                      </a:lnTo>
                      <a:lnTo>
                        <a:pt x="694" y="1236"/>
                      </a:lnTo>
                      <a:lnTo>
                        <a:pt x="750" y="1264"/>
                      </a:lnTo>
                      <a:lnTo>
                        <a:pt x="810" y="1286"/>
                      </a:lnTo>
                      <a:lnTo>
                        <a:pt x="870" y="1304"/>
                      </a:lnTo>
                      <a:lnTo>
                        <a:pt x="933" y="1315"/>
                      </a:lnTo>
                      <a:lnTo>
                        <a:pt x="995" y="1322"/>
                      </a:lnTo>
                      <a:lnTo>
                        <a:pt x="1058" y="1322"/>
                      </a:lnTo>
                      <a:lnTo>
                        <a:pt x="1121" y="1318"/>
                      </a:lnTo>
                      <a:lnTo>
                        <a:pt x="1184" y="1307"/>
                      </a:lnTo>
                      <a:lnTo>
                        <a:pt x="1244" y="1292"/>
                      </a:lnTo>
                      <a:lnTo>
                        <a:pt x="1304" y="1271"/>
                      </a:lnTo>
                      <a:lnTo>
                        <a:pt x="1362" y="1244"/>
                      </a:lnTo>
                      <a:lnTo>
                        <a:pt x="1414" y="1214"/>
                      </a:lnTo>
                      <a:lnTo>
                        <a:pt x="1467" y="1178"/>
                      </a:lnTo>
                      <a:lnTo>
                        <a:pt x="1517" y="1214"/>
                      </a:lnTo>
                      <a:lnTo>
                        <a:pt x="1572" y="1244"/>
                      </a:lnTo>
                      <a:lnTo>
                        <a:pt x="1630" y="1271"/>
                      </a:lnTo>
                      <a:lnTo>
                        <a:pt x="1688" y="1292"/>
                      </a:lnTo>
                      <a:lnTo>
                        <a:pt x="1750" y="1307"/>
                      </a:lnTo>
                      <a:lnTo>
                        <a:pt x="1811" y="1318"/>
                      </a:lnTo>
                      <a:lnTo>
                        <a:pt x="1876" y="1322"/>
                      </a:lnTo>
                      <a:lnTo>
                        <a:pt x="1939" y="1322"/>
                      </a:lnTo>
                      <a:lnTo>
                        <a:pt x="2001" y="1315"/>
                      </a:lnTo>
                      <a:lnTo>
                        <a:pt x="2064" y="1304"/>
                      </a:lnTo>
                      <a:lnTo>
                        <a:pt x="2124" y="1286"/>
                      </a:lnTo>
                      <a:lnTo>
                        <a:pt x="2182" y="1264"/>
                      </a:lnTo>
                      <a:lnTo>
                        <a:pt x="2240" y="1236"/>
                      </a:lnTo>
                      <a:lnTo>
                        <a:pt x="2292" y="1205"/>
                      </a:lnTo>
                      <a:lnTo>
                        <a:pt x="2342" y="1167"/>
                      </a:lnTo>
                      <a:lnTo>
                        <a:pt x="2390" y="1126"/>
                      </a:lnTo>
                      <a:lnTo>
                        <a:pt x="2430" y="1081"/>
                      </a:lnTo>
                      <a:lnTo>
                        <a:pt x="2470" y="1033"/>
                      </a:lnTo>
                      <a:lnTo>
                        <a:pt x="2503" y="982"/>
                      </a:lnTo>
                      <a:lnTo>
                        <a:pt x="2546" y="989"/>
                      </a:lnTo>
                      <a:lnTo>
                        <a:pt x="2591" y="992"/>
                      </a:lnTo>
                      <a:lnTo>
                        <a:pt x="2636" y="989"/>
                      </a:lnTo>
                      <a:lnTo>
                        <a:pt x="2681" y="980"/>
                      </a:lnTo>
                      <a:lnTo>
                        <a:pt x="2724" y="966"/>
                      </a:lnTo>
                      <a:lnTo>
                        <a:pt x="2764" y="947"/>
                      </a:lnTo>
                      <a:lnTo>
                        <a:pt x="2799" y="923"/>
                      </a:lnTo>
                      <a:lnTo>
                        <a:pt x="2834" y="894"/>
                      </a:lnTo>
                      <a:lnTo>
                        <a:pt x="2864" y="862"/>
                      </a:lnTo>
                      <a:lnTo>
                        <a:pt x="2889" y="826"/>
                      </a:lnTo>
                      <a:lnTo>
                        <a:pt x="2907" y="787"/>
                      </a:lnTo>
                      <a:lnTo>
                        <a:pt x="2922" y="746"/>
                      </a:lnTo>
                      <a:lnTo>
                        <a:pt x="2932" y="704"/>
                      </a:lnTo>
                      <a:lnTo>
                        <a:pt x="2934" y="662"/>
                      </a:lnTo>
                      <a:lnTo>
                        <a:pt x="2932" y="618"/>
                      </a:lnTo>
                      <a:lnTo>
                        <a:pt x="2922" y="576"/>
                      </a:lnTo>
                      <a:lnTo>
                        <a:pt x="2907" y="535"/>
                      </a:lnTo>
                      <a:lnTo>
                        <a:pt x="2889" y="496"/>
                      </a:lnTo>
                      <a:lnTo>
                        <a:pt x="2864" y="461"/>
                      </a:lnTo>
                      <a:lnTo>
                        <a:pt x="2834" y="428"/>
                      </a:lnTo>
                      <a:lnTo>
                        <a:pt x="2799" y="399"/>
                      </a:lnTo>
                      <a:lnTo>
                        <a:pt x="2764" y="375"/>
                      </a:lnTo>
                      <a:lnTo>
                        <a:pt x="2724" y="356"/>
                      </a:lnTo>
                      <a:lnTo>
                        <a:pt x="2681" y="342"/>
                      </a:lnTo>
                      <a:lnTo>
                        <a:pt x="2636" y="333"/>
                      </a:lnTo>
                      <a:lnTo>
                        <a:pt x="2591" y="330"/>
                      </a:lnTo>
                      <a:lnTo>
                        <a:pt x="2546" y="333"/>
                      </a:lnTo>
                      <a:lnTo>
                        <a:pt x="2503" y="340"/>
                      </a:lnTo>
                      <a:lnTo>
                        <a:pt x="2470" y="289"/>
                      </a:lnTo>
                      <a:lnTo>
                        <a:pt x="2430" y="241"/>
                      </a:lnTo>
                      <a:lnTo>
                        <a:pt x="2390" y="196"/>
                      </a:lnTo>
                      <a:lnTo>
                        <a:pt x="2342" y="155"/>
                      </a:lnTo>
                      <a:lnTo>
                        <a:pt x="2292" y="117"/>
                      </a:lnTo>
                      <a:lnTo>
                        <a:pt x="2240" y="86"/>
                      </a:lnTo>
                      <a:lnTo>
                        <a:pt x="2182" y="58"/>
                      </a:lnTo>
                      <a:lnTo>
                        <a:pt x="2124" y="36"/>
                      </a:lnTo>
                      <a:lnTo>
                        <a:pt x="2064" y="19"/>
                      </a:lnTo>
                      <a:lnTo>
                        <a:pt x="2001" y="7"/>
                      </a:lnTo>
                      <a:lnTo>
                        <a:pt x="1939" y="1"/>
                      </a:lnTo>
                      <a:lnTo>
                        <a:pt x="1876" y="0"/>
                      </a:lnTo>
                      <a:lnTo>
                        <a:pt x="1811" y="4"/>
                      </a:lnTo>
                      <a:lnTo>
                        <a:pt x="1750" y="15"/>
                      </a:lnTo>
                      <a:lnTo>
                        <a:pt x="1688" y="31"/>
                      </a:lnTo>
                      <a:lnTo>
                        <a:pt x="1630" y="52"/>
                      </a:lnTo>
                      <a:lnTo>
                        <a:pt x="1572" y="78"/>
                      </a:lnTo>
                      <a:lnTo>
                        <a:pt x="1517" y="108"/>
                      </a:lnTo>
                      <a:lnTo>
                        <a:pt x="1467" y="144"/>
                      </a:lnTo>
                      <a:lnTo>
                        <a:pt x="1414" y="108"/>
                      </a:lnTo>
                      <a:lnTo>
                        <a:pt x="1362" y="78"/>
                      </a:lnTo>
                      <a:lnTo>
                        <a:pt x="1304" y="52"/>
                      </a:lnTo>
                      <a:lnTo>
                        <a:pt x="1244" y="31"/>
                      </a:lnTo>
                      <a:lnTo>
                        <a:pt x="1184" y="15"/>
                      </a:lnTo>
                      <a:lnTo>
                        <a:pt x="1121" y="4"/>
                      </a:lnTo>
                      <a:lnTo>
                        <a:pt x="1058" y="0"/>
                      </a:lnTo>
                      <a:lnTo>
                        <a:pt x="995" y="1"/>
                      </a:lnTo>
                      <a:lnTo>
                        <a:pt x="933" y="7"/>
                      </a:lnTo>
                      <a:lnTo>
                        <a:pt x="870" y="19"/>
                      </a:lnTo>
                      <a:lnTo>
                        <a:pt x="810" y="36"/>
                      </a:lnTo>
                      <a:lnTo>
                        <a:pt x="750" y="58"/>
                      </a:lnTo>
                      <a:lnTo>
                        <a:pt x="694" y="86"/>
                      </a:lnTo>
                      <a:lnTo>
                        <a:pt x="642" y="117"/>
                      </a:lnTo>
                      <a:lnTo>
                        <a:pt x="592" y="155"/>
                      </a:lnTo>
                      <a:lnTo>
                        <a:pt x="544" y="196"/>
                      </a:lnTo>
                      <a:lnTo>
                        <a:pt x="501" y="241"/>
                      </a:lnTo>
                      <a:lnTo>
                        <a:pt x="464" y="289"/>
                      </a:lnTo>
                      <a:lnTo>
                        <a:pt x="431" y="340"/>
                      </a:lnTo>
                      <a:lnTo>
                        <a:pt x="386" y="333"/>
                      </a:lnTo>
                      <a:lnTo>
                        <a:pt x="341" y="330"/>
                      </a:lnTo>
                      <a:lnTo>
                        <a:pt x="298" y="333"/>
                      </a:lnTo>
                      <a:lnTo>
                        <a:pt x="253" y="342"/>
                      </a:lnTo>
                      <a:lnTo>
                        <a:pt x="210" y="356"/>
                      </a:lnTo>
                      <a:lnTo>
                        <a:pt x="170" y="375"/>
                      </a:lnTo>
                      <a:lnTo>
                        <a:pt x="133" y="399"/>
                      </a:lnTo>
                      <a:lnTo>
                        <a:pt x="100" y="428"/>
                      </a:lnTo>
                      <a:lnTo>
                        <a:pt x="70" y="461"/>
                      </a:lnTo>
                      <a:lnTo>
                        <a:pt x="45" y="496"/>
                      </a:lnTo>
                      <a:lnTo>
                        <a:pt x="25" y="535"/>
                      </a:lnTo>
                      <a:lnTo>
                        <a:pt x="10" y="576"/>
                      </a:lnTo>
                      <a:lnTo>
                        <a:pt x="2" y="618"/>
                      </a:lnTo>
                      <a:lnTo>
                        <a:pt x="0" y="662"/>
                      </a:lnTo>
                      <a:lnTo>
                        <a:pt x="2" y="704"/>
                      </a:lnTo>
                      <a:lnTo>
                        <a:pt x="10" y="746"/>
                      </a:lnTo>
                      <a:lnTo>
                        <a:pt x="25" y="787"/>
                      </a:lnTo>
                      <a:lnTo>
                        <a:pt x="45" y="826"/>
                      </a:lnTo>
                      <a:lnTo>
                        <a:pt x="70" y="862"/>
                      </a:lnTo>
                      <a:lnTo>
                        <a:pt x="100" y="894"/>
                      </a:lnTo>
                      <a:lnTo>
                        <a:pt x="133" y="923"/>
                      </a:lnTo>
                      <a:lnTo>
                        <a:pt x="170" y="947"/>
                      </a:lnTo>
                      <a:lnTo>
                        <a:pt x="210" y="966"/>
                      </a:lnTo>
                      <a:lnTo>
                        <a:pt x="253" y="980"/>
                      </a:lnTo>
                      <a:lnTo>
                        <a:pt x="298" y="989"/>
                      </a:lnTo>
                      <a:lnTo>
                        <a:pt x="341" y="992"/>
                      </a:lnTo>
                      <a:lnTo>
                        <a:pt x="386" y="989"/>
                      </a:lnTo>
                      <a:lnTo>
                        <a:pt x="431" y="98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006680" y="4564440"/>
                  <a:ext cx="1260000" cy="2840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54"/>
                      </a:solidFill>
                      <a:latin typeface="Verdana"/>
                    </a:rPr>
                    <a:t>MULTIMEDIA</a:t>
                  </a:r>
                  <a:endParaRPr b="0" lang="en-US" sz="10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>
              <a:off x="2133720" y="6019920"/>
              <a:ext cx="5562360" cy="495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54"/>
                  </a:solidFill>
                  <a:latin typeface="Verdana"/>
                </a:rPr>
                <a:t>5C: Computer, Communication, Contents, ……………….COMMITMENT and CARE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4809-0A15-4307-98C1-2FE6EEA9188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C3E0F-6C5A-463E-9730-397C783AB0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Xp</cp:lastModifiedBy>
  <dcterms:modified xsi:type="dcterms:W3CDTF">2006-11-21T09:00:16Z</dcterms:modified>
  <cp:revision>83</cp:revision>
  <dc:subject/>
  <dc:title>PowerPoint Presentation</dc:title>
</cp:coreProperties>
</file>