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A03-2466-43F6-BB19-83583875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CD4-DFB6-41B3-8A17-CBA581E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9C2-1ABC-4F8F-A9FC-9E555A5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013-AAD8-4FC6-B195-F85D5C74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9696-C98A-4C64-BE74-AEDE5B1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D371-159C-4BCA-A678-392B14F1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743F-3305-4C33-9824-22AD1A97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C13-40F7-4330-B8EC-AF3EE10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015-94F5-46DF-860A-ACA22CC5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BDA-499C-4EEB-9BE7-86346C7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1262-FFE0-424B-8926-6C03AF1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0A5-9548-416B-BB64-9871E66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430-E43A-41D6-AE6F-DD6E532D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63CA-3460-4E4E-BA69-E47FDC7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883-E258-4FB5-A1FB-20E1A06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156-3380-42C8-BCAC-95D1FF7E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0C01-1FE0-4D4F-ACE0-FB85479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A85-E972-4C07-ACFF-80F88E6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771-DA87-4760-8F9B-5F25EAC5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AF9-92B6-404A-925F-CE68187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634-00D0-458C-A423-97FF0A25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D93-C14C-4B9F-AC64-230E208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663-8BED-4B23-B298-D4E3CBB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CC0-CE3D-46B4-9C3F-03EB272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D53-61F4-4D5E-A088-FC56FAACB6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05C-AADB-4B4D-B56C-C36BEDFD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01D-DC00-4A69-89CB-68DDD7BEC40B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A0B-DF0E-43ED-A199-08789C92BD7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3A4D-AF59-4338-AFBC-25B4F4EE75B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A66FC6-C584-4591-91B9-8474894C580E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9B8-AE64-49FB-8E52-1F3630E9BDC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236FD-5536-4857-B1CA-A95702726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D29-002D-44A3-AA94-8FF82E695C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E76D1-0275-4B64-9DB6-7EF57A9DA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3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3C9-80F8-4B86-8595-D5E3DC17C5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90A9D-8120-4B7A-BA6F-16414174A03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308-53EE-4F81-AE0E-0B5B1D599D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8AE5B-8610-4C52-8226-08304DAA93F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0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2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968-D971-4DDF-83F1-A2F73E9545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9AAA3-6C59-4AB8-A74E-3AF0C2496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4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5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44C-0D74-4388-B2FE-6BCCA1D4F8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5DA99-4D14-4E9D-99A0-44738090E37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8D3-7D65-4E6F-A597-DD5111C3355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8695F-26FB-44F0-9D38-2246EAFF26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BEA-31D3-4777-AAB9-E9923B8370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144F2-4FDF-47CD-B501-C1F76C5AC9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020-B858-4F8E-865A-E225001E932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ECD7-ABCA-4CD5-B59A-6B23C11B9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D34-48ED-47BC-BB46-A98E05DBA7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57B6F-CFF7-4298-88FE-8EDAFAE648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B745-B422-4DF5-824C-E2A3C5E3FE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EAF792-F884-4267-ADA4-8995751D8285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7A0-19B4-4060-BE2D-87AE41A7177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E4795-A2E5-4EC2-A7A0-4EF2EE02AA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4F5-B2C1-4759-A9E7-C6A4B1BA65F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87A6B-37B0-4246-B89E-AA731285E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929-DEAF-4921-A953-44BDD3BDBB9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E3858-9BD8-411C-A250-83FA6BA987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7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8F2-E09C-48C4-AFEC-DED495041AB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B477A-7393-48CB-AB82-E863944013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7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730760"/>
            <a:ext cx="15238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247-A721-4A22-BFA8-7D3D6BBF5E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7B1F-29E4-4E7A-BB2B-39C631286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6CB-3654-4610-9F82-50A61E7919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E9242-A631-4103-B515-F8B6B43243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BD-176D-4993-A914-4C1BEA6FDE7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664BB-3CD4-4B34-98FA-85F803738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3T16:05:46Z</dcterms:modified>
  <cp:revision>127</cp:revision>
  <dc:subject/>
  <dc:title>PowerPoint Presentation</dc:title>
</cp:coreProperties>
</file>