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E01-716A-4AE1-804F-EF33E42C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D5B-246D-4DC3-90BA-CB7B7DF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6D6-D63A-4FCF-8D52-8B17F71A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FCB-9D3B-411D-BF22-2A3E673E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CF71-38DF-4991-8A7C-F7D11EC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A9C-8C9D-4D38-AB50-6012BDA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446-9B3A-4F3A-8F6D-8DC22ED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36DD-831D-4C08-8C76-8E13624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8407-DEB8-4ADA-B070-DFB12EF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44B-B93E-4BDD-8A7A-EC6015A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432A-D9F1-44EF-BB97-98D73CC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5E2-C429-4832-9C91-998D8B5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0C6-CFAB-43FA-8FF2-DEB47F8B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243-1747-4090-9771-7336823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C2AE-8C0B-4400-B927-7299EA6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34F-D70A-4348-B1B0-CD365122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41C-E81E-4231-9F49-D9F51C37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976-640F-4B5B-B9B9-4884F55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7BD-13AA-472E-A1AE-9B648C2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4B7-DDC1-4654-951C-1C91B86C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036-5F8B-4960-B68C-7A1FCC1B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877-3FAE-49CF-ADBC-90F3164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B43-B971-4315-A51D-1334022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BD2-4286-4BDF-AAB0-B18EBB5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5FD-8437-44A1-8537-66F837CD27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8AF0-8005-4F0B-B0B7-4A89E3C81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9876-21B9-4D06-8D62-642FF4D8B3BB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C6D-5943-4F34-839A-72E580DD21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F2A-551D-4F67-8BC4-3A2B3BB335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9A2AED-63C1-4F8A-A13A-01559F398FBB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35A-4B40-4D34-A0D2-E84B3E5250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3A99D-90E6-49B0-B423-DABE791926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E75-DA89-496C-ACA0-39F2A54C18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BD3A4-E76A-49D5-9F5D-AE032ACFF5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1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179-FD2B-4D07-ADD9-0FEA3F22B2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32718-FACA-4BE8-A443-80C1A50AC56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4B9-7D02-4689-A6B2-149F1CBB0F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D246D-32C5-4D72-AF60-0F026B421E2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8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0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E27-249F-4711-8594-3E93909EE4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4F4FC-AE96-4B5A-A80C-00CBDFB7B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2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3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08C-0243-494F-B8B4-7EB98E3C34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E25F-2469-4F29-BBED-6CB027AC7A9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2F6-F14A-4313-8937-884A6ACF133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81E9-DDD0-4705-B6AA-74B8190C21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0E1-0134-41B2-BDDE-C2BEAB90E1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0205E-2C11-4C8F-BDE5-7793E7F655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9A9-F1DD-43CF-AE85-7BE9F78AF8E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925AE-DFE9-465F-930C-E4462FEA9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E71-F8B0-4EDB-A97E-493BA36DB2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10877-EDEA-4218-9FF3-88EE65D918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BF4C-EE0F-4FAE-8E31-63AC10387C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4B0012-2B53-44B4-866B-AE00DF5B9D3C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C0A-E6E8-4D7F-86B3-F63E1048592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1BD5-BC88-4A83-970D-6FFB5407C9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2F5-45F9-47FD-93E5-546FE37FB23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57974-897E-4908-BD96-ED4D01960F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6FB-5416-402A-B4EA-2A3EE84FC18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50398-1F33-4F07-B48E-8B61E9EA4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272-FAD8-4D7F-ADD9-D1E4E90712F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C119F-7B39-4C1E-B276-A3B0A24D44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5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724280"/>
            <a:ext cx="762120" cy="64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C0B-D815-43C2-963D-98CB2E5938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BA248-113E-432A-9697-71B730E5C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6D0-8973-41DB-90E5-CD3165CAF0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ABF53-0D80-4B33-9B34-7BA6053F21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ACD-E7C7-4AF6-92D0-8905CCADB04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022EA-92A7-4263-89D7-8B7BF5BC36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4T08:04:57Z</dcterms:modified>
  <cp:revision>131</cp:revision>
  <dc:subject/>
  <dc:title>PowerPoint Presentation</dc:title>
</cp:coreProperties>
</file>