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wmf" ContentType="image/x-wmf"/>
  <Override PartName="/ppt/media/image19.wmf" ContentType="image/x-wmf"/>
  <Override PartName="/ppt/media/image17.wmf" ContentType="image/x-wmf"/>
  <Override PartName="/ppt/media/DRIVEBY.WAV" ContentType="audio/x-wav"/>
  <Override PartName="/ppt/media/TYPE.WAV" ContentType="audio/x-wav"/>
  <Override PartName="/ppt/media/image5.wmf" ContentType="image/x-wmf"/>
  <Override PartName="/ppt/media/image14.wmf" ContentType="image/x-wmf"/>
  <Override PartName="/ppt/media/LASER.WAV" ContentType="audio/x-wav"/>
  <Override PartName="/ppt/media/DRUMROLL.WAV" ContentType="audio/x-wav"/>
  <Override PartName="/ppt/media/CAMERA.WAV" ContentType="audio/x-wav"/>
  <Override PartName="/ppt/media/CARBRAKE.WAV" ContentType="audio/x-wav"/>
  <Override PartName="/ppt/media/image16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22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media/image4.wmf" ContentType="image/x-wmf"/>
  <Override PartName="/ppt/media/EXPLODE.WAV" ContentType="audio/x-wav"/>
  <Override PartName="/ppt/media/applause.wav" ContentType="audio/x-wav"/>
  <Override PartName="/ppt/media/image28.png" ContentType="image/png"/>
  <Override PartName="/ppt/media/image7.jpeg" ContentType="image/jpeg"/>
  <Override PartName="/ppt/media/glass.wav" ContentType="audio/x-wav"/>
  <Override PartName="/ppt/media/image6.wmf" ContentType="image/x-wmf"/>
  <Override PartName="/ppt/media/image3.wmf" ContentType="image/x-wmf"/>
  <Override PartName="/ppt/media/RICOCHET.WAV" ContentType="audio/x-wav"/>
  <Override PartName="/ppt/media/image15.jpeg" ContentType="image/jpeg"/>
  <Override PartName="/ppt/media/image25.wmf" ContentType="image/x-wmf"/>
  <Override PartName="/ppt/media/image2.png" ContentType="image/png"/>
  <Override PartName="/ppt/media/WHOOSH.WAV" ContentType="audio/x-wav"/>
  <Override PartName="/ppt/media/image1.png" ContentType="image/png"/>
  <Override PartName="/ppt/media/CHIMES.WAV" ContentType="audio/x-wav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35D-1276-4062-90F4-F5D2333E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221-4011-4039-A717-7F281034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144-C4D4-42CF-ABAA-B3C67987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B011-AE0C-4C8D-95B6-F371CEC0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FDB5-5661-4D22-81B9-A95F8D17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66F5-1FBD-4B6C-A788-F32F051D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E933-8200-4DF6-9C9D-F8472A7C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32C0-C476-483F-A504-8E084846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98DA-EEA0-4885-9370-8AB2EC50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0A71-3191-46DB-BD9F-427E4B81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3664-F806-439B-A793-186DEC69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FC5-309A-4D99-8288-E6657A7D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4D49-FE34-437B-ABC3-B871D9DA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A022-A4EB-437F-9EE8-EF7B3928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C1EA-0E17-4195-9CF3-C0F494B6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69AB-F964-40F0-955B-8D810640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9DE6-FA62-47B0-B205-DA94226F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C41-B468-40AA-BF55-E3B8FD2D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C54-152F-4E00-BF60-4E67CB49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C8A-CF43-4515-A4D4-9BA6A23A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CB5-AEFD-48C3-A6A6-BC2FF011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445-BCF3-44BA-9B0D-F884ABD2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BD85-D9D2-4D9B-9A7C-1E18725B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2D2-26C4-4B68-97AC-9A0E4B20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ABB0-01C0-43CE-A8D3-DA993FAD3CA5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FF3F-EB93-4483-9C37-4DF3F54A595F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B136-B5A6-4265-B274-7B8000851247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854B-DB65-4478-8C70-4FDA00A09FA0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DRIVEBY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DRIVEBY.WAV"/><Relationship Id="rId20" Type="http://schemas.openxmlformats.org/officeDocument/2006/relationships/audio" Target="../media/WHOOSH.WAV"/><Relationship Id="rId21" Type="http://schemas.openxmlformats.org/officeDocument/2006/relationships/audio" Target="../media/DRIVEBY.WAV"/><Relationship Id="rId22" Type="http://schemas.openxmlformats.org/officeDocument/2006/relationships/audio" Target="../media/CARBRAKE.WAV"/><Relationship Id="rId23" Type="http://schemas.openxmlformats.org/officeDocument/2006/relationships/audio" Target="../media/WHOOSH.WAV"/><Relationship Id="rId24" Type="http://schemas.openxmlformats.org/officeDocument/2006/relationships/audio" Target="../media/CAMERA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RBRAKE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audio" Target="../media/RICOCHET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../good-governance/What%20is%20good%20governance.htm" TargetMode="External"/><Relationship Id="rId3" Type="http://schemas.openxmlformats.org/officeDocument/2006/relationships/hyperlink" Target="http://www.unescap.org/huset/gg/governance.htm" TargetMode="External"/><Relationship Id="rId4" Type="http://schemas.openxmlformats.org/officeDocument/2006/relationships/hyperlink" Target="http://www.unescap.org/huset/gg/governance.htm" TargetMode="External"/><Relationship Id="rId5" Type="http://schemas.openxmlformats.org/officeDocument/2006/relationships/hyperlink" Target="http://www.unescap.org/huset/gg/governance.htm" TargetMode="External"/><Relationship Id="rId6" Type="http://schemas.openxmlformats.org/officeDocument/2006/relationships/hyperlink" Target="http://www.unescap.org/huset/gg/governance.htm" TargetMode="External"/><Relationship Id="rId7" Type="http://schemas.openxmlformats.org/officeDocument/2006/relationships/hyperlink" Target="http://www.unescap.org/huset/gg/governance.htm" TargetMode="External"/><Relationship Id="rId8" Type="http://schemas.openxmlformats.org/officeDocument/2006/relationships/hyperlink" Target="http://www.unescap.org/huset/gg/governance.htm" TargetMode="External"/><Relationship Id="rId9" Type="http://schemas.openxmlformats.org/officeDocument/2006/relationships/hyperlink" Target="http://www.unescap.org/huset/gg/governance.htm" TargetMode="External"/><Relationship Id="rId10" Type="http://schemas.openxmlformats.org/officeDocument/2006/relationships/hyperlink" Target="http://www.unescap.org/huset/gg/governance.htm" TargetMode="External"/><Relationship Id="rId11" Type="http://schemas.openxmlformats.org/officeDocument/2006/relationships/hyperlink" Target="http://www.unescap.org/huset/gg/governance.htm" TargetMode="Externa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ood-governance/What%20is%20good%20governance.htm" TargetMode="External"/><Relationship Id="rId2" Type="http://schemas.openxmlformats.org/officeDocument/2006/relationships/hyperlink" Target="http://www.unescap.org/huset/gg/governance.htm" TargetMode="External"/><Relationship Id="rId3" Type="http://schemas.openxmlformats.org/officeDocument/2006/relationships/hyperlink" Target="http://www.unescap.org/huset/gg/governance.htm" TargetMode="External"/><Relationship Id="rId4" Type="http://schemas.openxmlformats.org/officeDocument/2006/relationships/hyperlink" Target="http://www.unescap.org/huset/gg/governance.htm" TargetMode="External"/><Relationship Id="rId5" Type="http://schemas.openxmlformats.org/officeDocument/2006/relationships/hyperlink" Target="http://www.unescap.org/huset/gg/governance.htm" TargetMode="External"/><Relationship Id="rId6" Type="http://schemas.openxmlformats.org/officeDocument/2006/relationships/hyperlink" Target="http://www.unescap.org/huset/gg/governance.htm" TargetMode="External"/><Relationship Id="rId7" Type="http://schemas.openxmlformats.org/officeDocument/2006/relationships/hyperlink" Target="http://www.unescap.org/huset/gg/governance.htm" TargetMode="External"/><Relationship Id="rId8" Type="http://schemas.openxmlformats.org/officeDocument/2006/relationships/hyperlink" Target="http://www.unescap.org/huset/gg/governance.htm" TargetMode="External"/><Relationship Id="rId9" Type="http://schemas.openxmlformats.org/officeDocument/2006/relationships/hyperlink" Target="http://www.unescap.org/huset/gg/governance.htm" TargetMode="External"/><Relationship Id="rId10" Type="http://schemas.openxmlformats.org/officeDocument/2006/relationships/hyperlink" Target="http://www.unescap.org/huset/gg/governance.htm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PERANAN TEKNOLOGI INFOKOM DALAM MENINGKATKAN TRANSPARANSI MENUJU </a:t>
            </a:r>
            <a:r>
              <a:rPr b="1" i="1" lang="en-US" sz="2800" spc="-1" strike="noStrike">
                <a:solidFill>
                  <a:srgbClr val="ebd189"/>
                </a:solidFill>
                <a:latin typeface="Arial"/>
              </a:rPr>
              <a:t>GOOD GOVERNANCE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6646-59BF-42CB-83EC-E2C6CB031A5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043181D-F49D-41E6-98A0-D276F1D404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649-A835-4B4E-8187-F8154193920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2A929-B72B-4D12-802C-E38C4C0B7E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55627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2FC90-9CA6-4214-B762-8A0DCB91DA7A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C85-F2F1-42BD-A5E0-6C878005970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E4A6B-7F42-4B9A-9EAF-166ED9A435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SIMTAP, SIMKEU, SIM ………dll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FAE-0DAF-4C4C-8875-C8417997C51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AF8C7-5C9F-48D1-91F6-E4EA43F04C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6AD-BFD4-4EE7-A2AB-8DEC45F14CB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7DC5C-B576-4023-B453-3592320758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TARA KEBUTUHAN DAN KEMAMPU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895480" y="3733920"/>
            <a:ext cx="990720" cy="5814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3733920"/>
            <a:ext cx="990720" cy="5814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733920"/>
            <a:ext cx="990360" cy="5814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45720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Tingkatan Sistem Informas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2438280"/>
            <a:ext cx="1523880" cy="1067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5105520"/>
            <a:ext cx="1600200" cy="99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6019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KEMAMPU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1981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KEBUTUH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388620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388620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42670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Penawaran VENDO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4267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Penawaran VENDO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FDA-A635-4546-9414-F44C33EDAA9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93C52-8160-4C69-925D-005B29877A8F}" type="datetime1">
              <a:rPr lang="en-US"/>
              <a:t>07/30/26</a:t>
            </a:fld>
          </a:p>
        </p:txBody>
      </p:sp>
    </p:spTree>
  </p:cSld>
  <p:transition spd="slow" advTm="89000">
    <p:wipe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971800" y="5029200"/>
            <a:ext cx="3352680" cy="1447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KEBUTUH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1523880"/>
            <a:ext cx="2514600" cy="5205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MANAJE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2362320"/>
            <a:ext cx="2514600" cy="5205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ADMINISTR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1981080"/>
            <a:ext cx="2514600" cy="5205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LAPO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3124080"/>
            <a:ext cx="2514600" cy="5205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NERA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1295280"/>
            <a:ext cx="2514600" cy="5205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ANGG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352680"/>
            <a:ext cx="2514600" cy="9471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PELAYANAN UMU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2743200"/>
            <a:ext cx="2514600" cy="5205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INVEST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514600" cy="21337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943600" y="1905120"/>
            <a:ext cx="2362320" cy="24382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685800"/>
            <a:ext cx="0" cy="35053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1295280"/>
            <a:ext cx="1752480" cy="28958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486400" y="1066680"/>
            <a:ext cx="1371600" cy="30481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C96-1293-4894-8636-D2DF15545F78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9AFFF-FBB1-429B-803D-AE2B7CEC31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2743200" cy="2105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590920" y="1600200"/>
            <a:ext cx="3809880" cy="1676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8380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KEMAMPU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191120"/>
            <a:ext cx="3352680" cy="131292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MBER DAYA MANUSI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4267080"/>
            <a:ext cx="3352680" cy="131292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MBER DAYA FINANSIAL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055600">
            <a:off x="1295280" y="3352320"/>
            <a:ext cx="2108160" cy="685800"/>
          </a:xfrm>
          <a:prstGeom prst="rightArrow">
            <a:avLst>
              <a:gd name="adj1" fmla="val 50000"/>
              <a:gd name="adj2" fmla="val 7685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2142200">
            <a:off x="5638680" y="3351960"/>
            <a:ext cx="2108160" cy="685800"/>
          </a:xfrm>
          <a:prstGeom prst="rightArrow">
            <a:avLst>
              <a:gd name="adj1" fmla="val 50000"/>
              <a:gd name="adj2" fmla="val 7685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562720" y="5486400"/>
          <a:ext cx="123804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5486400"/>
                    <a:ext cx="12380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781680" y="5562720"/>
          <a:ext cx="1884600" cy="97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81680" y="556272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B55-A3F1-45A6-970A-93999361B57A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94A2B-B6A0-4350-8F5C-A7435CD5F4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848720" cy="4675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66680" y="5791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Arial Narrow"/>
              </a:rPr>
              <a:t>“</a:t>
            </a: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Transparency </a:t>
            </a:r>
            <a:r>
              <a:rPr b="0" i="1" lang="en-US" sz="3600" spc="-1" strike="noStrike">
                <a:solidFill>
                  <a:srgbClr val="eaeaea"/>
                </a:solidFill>
                <a:latin typeface="Arial Narrow"/>
              </a:rPr>
              <a:t>means ………............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257800"/>
            <a:ext cx="79246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 Narrow"/>
              </a:rPr>
              <a:t>(</a:t>
            </a:r>
            <a:r>
              <a:rPr b="0" i="1" lang="es-ES" sz="1800" spc="-1" strike="noStrike">
                <a:solidFill>
                  <a:srgbClr val="00007a"/>
                </a:solidFill>
                <a:latin typeface="Arial Narrow"/>
              </a:rPr>
              <a:t>Dikutip dari 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2"/>
              </a:rPr>
              <a:t>situs</a:t>
            </a:r>
            <a:r>
              <a:rPr b="0" i="1" lang="es-ES" sz="1800" spc="-1" strike="noStrike">
                <a:solidFill>
                  <a:srgbClr val="00007a"/>
                </a:solidFill>
                <a:latin typeface="Arial Narrow"/>
              </a:rPr>
              <a:t>: 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3"/>
              </a:rPr>
              <a:t>http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4"/>
              </a:rPr>
              <a:t>://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5"/>
              </a:rPr>
              <a:t>www.unescap.org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6"/>
              </a:rPr>
              <a:t>/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7"/>
              </a:rPr>
              <a:t>huset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8"/>
              </a:rPr>
              <a:t>/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9"/>
              </a:rPr>
              <a:t>gg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10"/>
              </a:rPr>
              <a:t>/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11"/>
              </a:rPr>
              <a:t>governance.htm</a:t>
            </a:r>
            <a:r>
              <a:rPr b="0" i="1" lang="es-ES" sz="1800" spc="-1" strike="noStrike">
                <a:solidFill>
                  <a:srgbClr val="00007a"/>
                </a:solidFill>
                <a:latin typeface="Arial Narrow"/>
              </a:rPr>
              <a:t> pada tgl. 19 Juli 2006)</a:t>
            </a:r>
            <a:r>
              <a:rPr b="0" lang="en-US" sz="1800" spc="-1" strike="noStrike">
                <a:solidFill>
                  <a:srgbClr val="00007a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553-28EB-4E57-B600-3AE8AC10DE9D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84E5E-A66E-4408-8DEC-F2926B7B1D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KOMENDAS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9800" indent="-3402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Perlu diingat bahwa setiap sistem informasi itu tidak saling  men-substitusi satu sama lai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829800" indent="-3402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Penentu kebijakan mesti cermat dan pandai-pandai memilah-milah pekerjaa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829800" indent="-3402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Teknologi memang mestilah diterapkan secara tepat-guna (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appropriate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829800" indent="-3402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Kecanggihan bukanlah jaminan beresnya urusan, demikian pula sebaliknya, kesederhanaan malah mungkin bisa menyelesaikan masalah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829800" indent="-3402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Tidaklah bijaksana untuk menerapkan teknologi canggih untuk sekedar latah dan ikut-ikutan, atau hanya karena sedang “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nge-trend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ahoma"/>
              </a:rPr>
              <a:t>” saj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3BD-9C07-47FD-9B60-19B2377563D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046A4-C5E5-4313-A4B3-60A78392AB5A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DBBA-43F8-4668-A5B5-7E9356E85B4E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D012EB5-70A7-4D59-9E96-2FC234913E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eaeaea"/>
                </a:solidFill>
                <a:latin typeface="Arial"/>
              </a:rPr>
              <a:t>Transparency </a:t>
            </a:r>
            <a:r>
              <a:rPr b="0" i="1" lang="en-US" sz="4000" spc="-1" strike="noStrike">
                <a:solidFill>
                  <a:srgbClr val="eaeaea"/>
                </a:solidFill>
                <a:latin typeface="Arial"/>
              </a:rPr>
              <a:t>means ………....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ransparency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means that decisions taken and their enforcement are done in a manner that follows rules and regulations. It also means that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tion is freely available and directly accessible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to those who will be affected by such decisions and their enforcement. It also means that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enough information is provided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and that it is provided in easily understandable forms and med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5638680"/>
            <a:ext cx="79246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 Narrow"/>
              </a:rPr>
              <a:t>(</a:t>
            </a:r>
            <a:r>
              <a:rPr b="0" i="1" lang="es-ES" sz="1800" spc="-1" strike="noStrike">
                <a:solidFill>
                  <a:srgbClr val="00007a"/>
                </a:solidFill>
                <a:latin typeface="Arial Narrow"/>
              </a:rPr>
              <a:t>Dikutip dari 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1"/>
              </a:rPr>
              <a:t>situs</a:t>
            </a:r>
            <a:r>
              <a:rPr b="0" i="1" lang="es-ES" sz="1800" spc="-1" strike="noStrike">
                <a:solidFill>
                  <a:srgbClr val="00007a"/>
                </a:solidFill>
                <a:latin typeface="Arial Narrow"/>
              </a:rPr>
              <a:t>: 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2"/>
              </a:rPr>
              <a:t>http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3"/>
              </a:rPr>
              <a:t>://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4"/>
              </a:rPr>
              <a:t>www.unescap.org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5"/>
              </a:rPr>
              <a:t>/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6"/>
              </a:rPr>
              <a:t>huset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7"/>
              </a:rPr>
              <a:t>/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8"/>
              </a:rPr>
              <a:t>gg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9"/>
              </a:rPr>
              <a:t>/</a:t>
            </a:r>
            <a:r>
              <a:rPr b="0" lang="es-ES" sz="1800" spc="-1" strike="noStrike" u="sng">
                <a:solidFill>
                  <a:srgbClr val="b97c01"/>
                </a:solidFill>
                <a:uFillTx/>
                <a:latin typeface="Arial Narrow"/>
                <a:hlinkClick r:id="rId10"/>
              </a:rPr>
              <a:t>governance.htm</a:t>
            </a:r>
            <a:r>
              <a:rPr b="0" i="1" lang="es-ES" sz="1800" spc="-1" strike="noStrike">
                <a:solidFill>
                  <a:srgbClr val="00007a"/>
                </a:solidFill>
                <a:latin typeface="Arial Narrow"/>
              </a:rPr>
              <a:t> pada tgl. 19 Juli 2006)</a:t>
            </a:r>
            <a:r>
              <a:rPr b="0" lang="en-US" sz="1800" spc="-1" strike="noStrike">
                <a:solidFill>
                  <a:srgbClr val="00007a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400-70CC-4981-9B7D-6F5B81509A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89570-2F4E-407A-80D8-1999F5DB0A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D5F6-B011-47E2-B636-2ECDC1134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7E61-BA6D-4F69-AF47-67F7315691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TAR BELAKANG MASALAH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dak terintegrasiny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(tiga) h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kerj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angkat (khususnya: KOMPUTE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ber Daya Manus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1857240" cy="399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86400" y="4267080"/>
            <a:ext cx="2438280" cy="18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010280" y="2971800"/>
          <a:ext cx="155124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971800"/>
                    <a:ext cx="155124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334120" y="1828800"/>
            <a:ext cx="1630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Banyak bencana alam mau pun sos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BB3-2025-4D15-9FED-34B666A289C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C3A80-4D5E-4EA0-9C21-5E6F97136DBA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A93-8E7F-4647-8914-51689012BAA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7A5E4-1E6C-4DD8-A307-F826E102D520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26A7-2DCA-4322-8498-80C29BE7F18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D6478-5541-434B-9E41-D4C25CA485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F9B-3724-4027-8490-94A0E2C902F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70CFC-4FE4-4E1B-B306-1B5DB3E4566E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1CB-665E-4A02-A9AF-490EBDADB8E1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6CDF5-F07C-49E5-AC80-E090D2C0B6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7-08-14T11:32:45Z</dcterms:modified>
  <cp:revision>81</cp:revision>
  <dc:subject/>
  <dc:title>PowerPoint Presentation</dc:title>
</cp:coreProperties>
</file>