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12.jpeg" ContentType="image/jpeg"/>
  <Override PartName="/ppt/media/image15.jpeg" ContentType="image/jpeg"/>
  <Override PartName="/ppt/media/image1.png" ContentType="image/png"/>
  <Override PartName="/ppt/media/image3.jpeg" ContentType="image/jpeg"/>
  <Override PartName="/ppt/media/image2.jpeg" ContentType="image/jpeg"/>
  <Override PartName="/ppt/media/image5.jpeg" ContentType="image/jpeg"/>
  <Override PartName="/ppt/media/image9.wmf" ContentType="image/x-wmf"/>
  <Override PartName="/ppt/media/image14.png" ContentType="image/png"/>
  <Override PartName="/ppt/media/applause.wav" ContentType="audio/x-wav"/>
  <Override PartName="/ppt/media/image6.jpeg" ContentType="image/jpeg"/>
  <Override PartName="/ppt/media/image8.png" ContentType="image/png"/>
  <Override PartName="/ppt/media/image11.jpeg" ContentType="image/jpeg"/>
  <Override PartName="/ppt/media/image7.jpeg" ContentType="image/jpeg"/>
  <Override PartName="/ppt/media/image10.wmf" ContentType="image/x-wmf"/>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4CA5A9-DE06-4613-9BFD-0F58F74C58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6" name="PlaceHolder 2"/>
          <p:cNvSpPr>
            <a:spLocks noGrp="1"/>
          </p:cNvSpPr>
          <p:nvPr>
            <p:ph/>
          </p:nvPr>
        </p:nvSpPr>
        <p:spPr>
          <a:xfrm>
            <a:off x="2133720" y="411480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3"/>
          <p:cNvSpPr>
            <a:spLocks noGrp="1"/>
          </p:cNvSpPr>
          <p:nvPr>
            <p:ph/>
          </p:nvPr>
        </p:nvSpPr>
        <p:spPr>
          <a:xfrm>
            <a:off x="2133720" y="50306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1F2A2F-68F9-4FE2-ACD6-37CF2DB514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9" name="PlaceHolder 2"/>
          <p:cNvSpPr>
            <a:spLocks noGrp="1"/>
          </p:cNvSpPr>
          <p:nvPr>
            <p:ph/>
          </p:nvPr>
        </p:nvSpPr>
        <p:spPr>
          <a:xfrm>
            <a:off x="213372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541368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4"/>
          <p:cNvSpPr>
            <a:spLocks noGrp="1"/>
          </p:cNvSpPr>
          <p:nvPr>
            <p:ph/>
          </p:nvPr>
        </p:nvSpPr>
        <p:spPr>
          <a:xfrm>
            <a:off x="2133720" y="50306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5"/>
          <p:cNvSpPr>
            <a:spLocks noGrp="1"/>
          </p:cNvSpPr>
          <p:nvPr>
            <p:ph/>
          </p:nvPr>
        </p:nvSpPr>
        <p:spPr>
          <a:xfrm>
            <a:off x="5413680" y="50306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2F589D-2BDF-4F7D-9EC7-A4C6C58FD4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4" name="PlaceHolder 2"/>
          <p:cNvSpPr>
            <a:spLocks noGrp="1"/>
          </p:cNvSpPr>
          <p:nvPr>
            <p:ph/>
          </p:nvPr>
        </p:nvSpPr>
        <p:spPr>
          <a:xfrm>
            <a:off x="2133720" y="41148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4297680" y="41148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6462000" y="41148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2133720" y="50306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6"/>
          <p:cNvSpPr>
            <a:spLocks noGrp="1"/>
          </p:cNvSpPr>
          <p:nvPr>
            <p:ph/>
          </p:nvPr>
        </p:nvSpPr>
        <p:spPr>
          <a:xfrm>
            <a:off x="4297680" y="50306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 name="PlaceHolder 7"/>
          <p:cNvSpPr>
            <a:spLocks noGrp="1"/>
          </p:cNvSpPr>
          <p:nvPr>
            <p:ph/>
          </p:nvPr>
        </p:nvSpPr>
        <p:spPr>
          <a:xfrm>
            <a:off x="6462000" y="50306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92D304-F6C9-4C2C-A64F-570F72223A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78FAD3-3517-432A-9D91-75F4FF13E8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6" name="PlaceHolder 2"/>
          <p:cNvSpPr>
            <a:spLocks noGrp="1"/>
          </p:cNvSpPr>
          <p:nvPr>
            <p:ph type="subTitle"/>
          </p:nvPr>
        </p:nvSpPr>
        <p:spPr>
          <a:xfrm>
            <a:off x="2133720" y="41148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8A2DC2-A3A4-4013-912F-EE72038D44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8" name="PlaceHolder 2"/>
          <p:cNvSpPr>
            <a:spLocks noGrp="1"/>
          </p:cNvSpPr>
          <p:nvPr>
            <p:ph/>
          </p:nvPr>
        </p:nvSpPr>
        <p:spPr>
          <a:xfrm>
            <a:off x="2133720" y="4114800"/>
            <a:ext cx="640080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E87BA9-A87D-47CB-92D1-1C64D23B74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0" name="PlaceHolder 2"/>
          <p:cNvSpPr>
            <a:spLocks noGrp="1"/>
          </p:cNvSpPr>
          <p:nvPr>
            <p:ph/>
          </p:nvPr>
        </p:nvSpPr>
        <p:spPr>
          <a:xfrm>
            <a:off x="2133720" y="41148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 name="PlaceHolder 3"/>
          <p:cNvSpPr>
            <a:spLocks noGrp="1"/>
          </p:cNvSpPr>
          <p:nvPr>
            <p:ph/>
          </p:nvPr>
        </p:nvSpPr>
        <p:spPr>
          <a:xfrm>
            <a:off x="5413680" y="41148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BDADFC-4F0B-4EEC-B6E0-15E29A4451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BD5DCE-01AE-45CD-AD5F-4150C80B32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143000" y="2285640"/>
            <a:ext cx="7772400" cy="5299560"/>
          </a:xfrm>
          <a:prstGeom prst="rect">
            <a:avLst/>
          </a:prstGeom>
          <a:noFill/>
          <a:ln w="0">
            <a:noFill/>
          </a:ln>
        </p:spPr>
        <p:txBody>
          <a:bodyPr lIns="90000" rIns="90000" tIns="46800" bIns="46800" anchor="t">
            <a:noAutofit/>
          </a:bodyPr>
          <a:p>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8AEE4E-9BF0-464E-847B-8C0FC1DD77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5" name="PlaceHolder 2"/>
          <p:cNvSpPr>
            <a:spLocks noGrp="1"/>
          </p:cNvSpPr>
          <p:nvPr>
            <p:ph/>
          </p:nvPr>
        </p:nvSpPr>
        <p:spPr>
          <a:xfrm>
            <a:off x="213372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5413680" y="41148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4"/>
          <p:cNvSpPr>
            <a:spLocks noGrp="1"/>
          </p:cNvSpPr>
          <p:nvPr>
            <p:ph/>
          </p:nvPr>
        </p:nvSpPr>
        <p:spPr>
          <a:xfrm>
            <a:off x="2133720" y="50306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7EF6CC-9D0F-4E8B-8941-4134CBA1AF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5" name="PlaceHolder 2"/>
          <p:cNvSpPr>
            <a:spLocks noGrp="1"/>
          </p:cNvSpPr>
          <p:nvPr>
            <p:ph type="subTitle"/>
          </p:nvPr>
        </p:nvSpPr>
        <p:spPr>
          <a:xfrm>
            <a:off x="2133720" y="41148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83C35-8ADF-44E1-B529-DB25C57E79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9" name="PlaceHolder 2"/>
          <p:cNvSpPr>
            <a:spLocks noGrp="1"/>
          </p:cNvSpPr>
          <p:nvPr>
            <p:ph/>
          </p:nvPr>
        </p:nvSpPr>
        <p:spPr>
          <a:xfrm>
            <a:off x="2133720" y="41148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3"/>
          <p:cNvSpPr>
            <a:spLocks noGrp="1"/>
          </p:cNvSpPr>
          <p:nvPr>
            <p:ph/>
          </p:nvPr>
        </p:nvSpPr>
        <p:spPr>
          <a:xfrm>
            <a:off x="541368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4"/>
          <p:cNvSpPr>
            <a:spLocks noGrp="1"/>
          </p:cNvSpPr>
          <p:nvPr>
            <p:ph/>
          </p:nvPr>
        </p:nvSpPr>
        <p:spPr>
          <a:xfrm>
            <a:off x="5413680" y="50306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51AE20-7AD8-4E5C-A487-7FF59182CC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3" name="PlaceHolder 2"/>
          <p:cNvSpPr>
            <a:spLocks noGrp="1"/>
          </p:cNvSpPr>
          <p:nvPr>
            <p:ph/>
          </p:nvPr>
        </p:nvSpPr>
        <p:spPr>
          <a:xfrm>
            <a:off x="213372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3"/>
          <p:cNvSpPr>
            <a:spLocks noGrp="1"/>
          </p:cNvSpPr>
          <p:nvPr>
            <p:ph/>
          </p:nvPr>
        </p:nvSpPr>
        <p:spPr>
          <a:xfrm>
            <a:off x="541368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4"/>
          <p:cNvSpPr>
            <a:spLocks noGrp="1"/>
          </p:cNvSpPr>
          <p:nvPr>
            <p:ph/>
          </p:nvPr>
        </p:nvSpPr>
        <p:spPr>
          <a:xfrm>
            <a:off x="2133720" y="50306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4EB626-082F-4A0F-A6CC-49EE56642E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7" name="PlaceHolder 2"/>
          <p:cNvSpPr>
            <a:spLocks noGrp="1"/>
          </p:cNvSpPr>
          <p:nvPr>
            <p:ph/>
          </p:nvPr>
        </p:nvSpPr>
        <p:spPr>
          <a:xfrm>
            <a:off x="2133720" y="411480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8" name="PlaceHolder 3"/>
          <p:cNvSpPr>
            <a:spLocks noGrp="1"/>
          </p:cNvSpPr>
          <p:nvPr>
            <p:ph/>
          </p:nvPr>
        </p:nvSpPr>
        <p:spPr>
          <a:xfrm>
            <a:off x="2133720" y="50306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8E58F9-2F55-47C3-B411-7F82A0ECD0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0" name="PlaceHolder 2"/>
          <p:cNvSpPr>
            <a:spLocks noGrp="1"/>
          </p:cNvSpPr>
          <p:nvPr>
            <p:ph/>
          </p:nvPr>
        </p:nvSpPr>
        <p:spPr>
          <a:xfrm>
            <a:off x="213372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3"/>
          <p:cNvSpPr>
            <a:spLocks noGrp="1"/>
          </p:cNvSpPr>
          <p:nvPr>
            <p:ph/>
          </p:nvPr>
        </p:nvSpPr>
        <p:spPr>
          <a:xfrm>
            <a:off x="541368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4"/>
          <p:cNvSpPr>
            <a:spLocks noGrp="1"/>
          </p:cNvSpPr>
          <p:nvPr>
            <p:ph/>
          </p:nvPr>
        </p:nvSpPr>
        <p:spPr>
          <a:xfrm>
            <a:off x="2133720" y="50306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5"/>
          <p:cNvSpPr>
            <a:spLocks noGrp="1"/>
          </p:cNvSpPr>
          <p:nvPr>
            <p:ph/>
          </p:nvPr>
        </p:nvSpPr>
        <p:spPr>
          <a:xfrm>
            <a:off x="5413680" y="50306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99A268-0BD7-412A-9E59-14BBB0C930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5" name="PlaceHolder 2"/>
          <p:cNvSpPr>
            <a:spLocks noGrp="1"/>
          </p:cNvSpPr>
          <p:nvPr>
            <p:ph/>
          </p:nvPr>
        </p:nvSpPr>
        <p:spPr>
          <a:xfrm>
            <a:off x="2133720" y="41148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297680" y="41148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6462000" y="41148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2133720" y="50306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6"/>
          <p:cNvSpPr>
            <a:spLocks noGrp="1"/>
          </p:cNvSpPr>
          <p:nvPr>
            <p:ph/>
          </p:nvPr>
        </p:nvSpPr>
        <p:spPr>
          <a:xfrm>
            <a:off x="4297680" y="50306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7"/>
          <p:cNvSpPr>
            <a:spLocks noGrp="1"/>
          </p:cNvSpPr>
          <p:nvPr>
            <p:ph/>
          </p:nvPr>
        </p:nvSpPr>
        <p:spPr>
          <a:xfrm>
            <a:off x="6462000" y="50306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BC8836-E17D-441A-9496-E3735F8952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2133720" y="4114800"/>
            <a:ext cx="640080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AE5EA3-6CD2-4EAE-81F5-CA92F6FBE8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9" name="PlaceHolder 2"/>
          <p:cNvSpPr>
            <a:spLocks noGrp="1"/>
          </p:cNvSpPr>
          <p:nvPr>
            <p:ph/>
          </p:nvPr>
        </p:nvSpPr>
        <p:spPr>
          <a:xfrm>
            <a:off x="2133720" y="41148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5413680" y="41148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E56250-9ADD-441F-8592-1AAEEF6A04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5818DE-F307-4D84-87F1-8FD1A91C51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143000" y="2285640"/>
            <a:ext cx="7772400" cy="5299560"/>
          </a:xfrm>
          <a:prstGeom prst="rect">
            <a:avLst/>
          </a:prstGeom>
          <a:noFill/>
          <a:ln w="0">
            <a:noFill/>
          </a:ln>
        </p:spPr>
        <p:txBody>
          <a:bodyPr lIns="90000" rIns="90000" tIns="46800" bIns="46800" anchor="t">
            <a:noAutofit/>
          </a:bodyPr>
          <a:p>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90FCF6-56F5-473A-82EC-DD1BFC770B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4" name="PlaceHolder 2"/>
          <p:cNvSpPr>
            <a:spLocks noGrp="1"/>
          </p:cNvSpPr>
          <p:nvPr>
            <p:ph/>
          </p:nvPr>
        </p:nvSpPr>
        <p:spPr>
          <a:xfrm>
            <a:off x="213372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5413680" y="41148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4"/>
          <p:cNvSpPr>
            <a:spLocks noGrp="1"/>
          </p:cNvSpPr>
          <p:nvPr>
            <p:ph/>
          </p:nvPr>
        </p:nvSpPr>
        <p:spPr>
          <a:xfrm>
            <a:off x="2133720" y="50306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55038-F219-444D-8E0F-4ABA92CFF5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2133720" y="41148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41368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5413680" y="50306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DC40A-1FA1-4320-A0A6-9F3935962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2" name="PlaceHolder 2"/>
          <p:cNvSpPr>
            <a:spLocks noGrp="1"/>
          </p:cNvSpPr>
          <p:nvPr>
            <p:ph/>
          </p:nvPr>
        </p:nvSpPr>
        <p:spPr>
          <a:xfrm>
            <a:off x="213372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3"/>
          <p:cNvSpPr>
            <a:spLocks noGrp="1"/>
          </p:cNvSpPr>
          <p:nvPr>
            <p:ph/>
          </p:nvPr>
        </p:nvSpPr>
        <p:spPr>
          <a:xfrm>
            <a:off x="541368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4"/>
          <p:cNvSpPr>
            <a:spLocks noGrp="1"/>
          </p:cNvSpPr>
          <p:nvPr>
            <p:ph/>
          </p:nvPr>
        </p:nvSpPr>
        <p:spPr>
          <a:xfrm>
            <a:off x="2133720" y="50306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B6DEF-6D2F-4EE7-8880-5D97F72F63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pic>
        <p:nvPicPr>
          <p:cNvPr id="8" name="" descr=""/>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3777A-581A-4D1F-9CDF-BE68C91432E0}" type="datetime">
              <a:rPr b="0" lang="en-US" sz="1400" spc="-1" strike="noStrike">
                <a:solidFill>
                  <a:srgbClr val="ebd189"/>
                </a:solidFill>
                <a:latin typeface="Times New Roman"/>
              </a:rPr>
              <a:t>07/30/26</a:t>
            </a:fld>
            <a:endParaRPr b="0" lang="en-US" sz="1400" spc="-1" strike="noStrike">
              <a:solidFill>
                <a:srgbClr val="ffffff"/>
              </a:solidFill>
              <a:latin typeface="Times New Roman"/>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Times New Roman"/>
              </a:rPr>
              <a:t>&lt;footer&gt;</a:t>
            </a:r>
            <a:endParaRPr b="0" lang="en-US" sz="1400" spc="-1" strike="noStrike">
              <a:solidFill>
                <a:srgbClr val="ffffff"/>
              </a:solidFill>
              <a:latin typeface="Times New Roman"/>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F98FF-CC61-491E-8E47-19E6F1D3F37F}" type="slidenum">
              <a:rPr b="0" lang="en-US" sz="1400" spc="-1" strike="noStrike">
                <a:solidFill>
                  <a:srgbClr val="ebd189"/>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5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5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5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5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5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5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5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58" name=""/>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pic>
        <p:nvPicPr>
          <p:cNvPr id="59" name="" descr=""/>
          <p:cNvPicPr/>
          <p:nvPr/>
        </p:nvPicPr>
        <p:blipFill>
          <a:blip r:embed="rId2"/>
          <a:stretch/>
        </p:blipFill>
        <p:spPr>
          <a:xfrm>
            <a:off x="3240" y="-3240"/>
            <a:ext cx="803160" cy="6858000"/>
          </a:xfrm>
          <a:prstGeom prst="rect">
            <a:avLst/>
          </a:prstGeom>
          <a:ln w="0">
            <a:noFill/>
          </a:ln>
        </p:spPr>
      </p:pic>
      <p:sp>
        <p:nvSpPr>
          <p:cNvPr id="60"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61" name="PlaceHolder 2"/>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38FC0-EFD6-4FEB-83BF-128C61BFA402}" type="datetime">
              <a:rPr b="0" lang="en-US" sz="1400" spc="-1" strike="noStrike">
                <a:solidFill>
                  <a:srgbClr val="ebd189"/>
                </a:solidFill>
                <a:latin typeface="Times New Roman"/>
              </a:rPr>
              <a:t>07/30/26</a:t>
            </a:fld>
            <a:endParaRPr b="0" lang="en-US" sz="1400" spc="-1" strike="noStrike">
              <a:solidFill>
                <a:srgbClr val="ffffff"/>
              </a:solidFill>
              <a:latin typeface="Times New Roman"/>
            </a:endParaRPr>
          </a:p>
        </p:txBody>
      </p:sp>
      <p:sp>
        <p:nvSpPr>
          <p:cNvPr id="62"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Times New Roman"/>
              </a:rPr>
              <a:t>&lt;footer&gt;</a:t>
            </a:r>
            <a:endParaRPr b="0" lang="en-US" sz="1400" spc="-1" strike="noStrike">
              <a:solidFill>
                <a:srgbClr val="ffffff"/>
              </a:solidFill>
              <a:latin typeface="Times New Roman"/>
            </a:endParaRPr>
          </a:p>
        </p:txBody>
      </p:sp>
      <p:sp>
        <p:nvSpPr>
          <p:cNvPr id="63"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9327F-FAD4-4B47-B99C-705343324438}" type="slidenum">
              <a:rPr b="0" lang="en-US" sz="1400" spc="-1" strike="noStrike">
                <a:solidFill>
                  <a:srgbClr val="ebd189"/>
                </a:solidFill>
                <a:latin typeface="Times New Roman"/>
              </a:rPr>
              <a:t>&lt;number&gt;</a:t>
            </a:fld>
            <a:endParaRPr b="0" lang="en-US" sz="1400" spc="-1" strike="noStrike">
              <a:solidFill>
                <a:srgbClr val="ffffff"/>
              </a:solidFill>
              <a:latin typeface="Times New Roman"/>
            </a:endParaRPr>
          </a:p>
        </p:txBody>
      </p:sp>
      <p:sp>
        <p:nvSpPr>
          <p:cNvPr id="6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0099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b97c01"/>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555bad"/>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politani.ac.id/"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file:///Politeknik%20Informatika%20Del.htm" TargetMode="External"/><Relationship Id="rId2" Type="http://schemas.openxmlformats.org/officeDocument/2006/relationships/hyperlink" Target="file:///Politeknik%20Informatika%20Del.htm" TargetMode="External"/><Relationship Id="rId3" Type="http://schemas.openxmlformats.org/officeDocument/2006/relationships/hyperlink" Target="file:///Politeknik%20Informatika%20Del.htm" TargetMode="External"/><Relationship Id="rId4" Type="http://schemas.openxmlformats.org/officeDocument/2006/relationships/hyperlink" Target="file:///Politeknik%20Informatika%20Del.htm" TargetMode="External"/><Relationship Id="rId5" Type="http://schemas.openxmlformats.org/officeDocument/2006/relationships/hyperlink" Target="file:///Politeknik%20Informatika%20Del.htm" TargetMode="External"/><Relationship Id="rId6" Type="http://schemas.openxmlformats.org/officeDocument/2006/relationships/hyperlink" Target="file:///Politeknik%20Informatika%20Del.htm" TargetMode="External"/><Relationship Id="rId7" Type="http://schemas.openxmlformats.org/officeDocument/2006/relationships/hyperlink" Target="file:///Politeknik%20Informatika%20Del.htm" TargetMode="External"/><Relationship Id="rId8" Type="http://schemas.openxmlformats.org/officeDocument/2006/relationships/hyperlink" Target="file:///Politeknik%20Informatika%20Del.htm" TargetMode="External"/><Relationship Id="rId9" Type="http://schemas.openxmlformats.org/officeDocument/2006/relationships/hyperlink" Target="file:///Politeknik%20Informatika%20Del.htm" TargetMode="External"/><Relationship Id="rId10"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pidel.org/" TargetMode="External"/><Relationship Id="rId2" Type="http://schemas.openxmlformats.org/officeDocument/2006/relationships/hyperlink" Target="mailto:info@del.ac.id" TargetMode="External"/><Relationship Id="rId3" Type="http://schemas.openxmlformats.org/officeDocument/2006/relationships/hyperlink" Target="file:///Politeknik%20Informatika%20Del_files/brosur/brosurMengenalPIDel2006.pdf" TargetMode="External"/><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image" Target="../media/image15.jpeg"/><Relationship Id="rId5" Type="http://schemas.openxmlformats.org/officeDocument/2006/relationships/audio" Target="../media/applause.wav"/><Relationship Id="rId6" Type="http://schemas.openxmlformats.org/officeDocument/2006/relationships/audio" Target="../media/applause.wav"/><Relationship Id="rId7"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hyperlink" Target="file:///_%20Selamat%20Datang%20di%20Website%20STMIK%20HANDAYANI%20Makassar__________.htm"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457200"/>
            <a:ext cx="7772400" cy="312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cc00"/>
                </a:solidFill>
                <a:latin typeface="Arial"/>
                <a:ea typeface="Times New Roman"/>
              </a:rPr>
              <a:t>APLIKASI TEKNOLOGI INFORMASI dan KOMUNIKASI (ICT) di PERGURUAN TINGGI</a:t>
            </a:r>
            <a:endParaRPr b="0" lang="en-US" sz="4800" spc="-1" strike="noStrike">
              <a:solidFill>
                <a:srgbClr val="ebd189"/>
              </a:solidFill>
              <a:latin typeface="Arial"/>
            </a:endParaRPr>
          </a:p>
        </p:txBody>
      </p:sp>
      <p:sp>
        <p:nvSpPr>
          <p:cNvPr id="102" name="PlaceHolder 2"/>
          <p:cNvSpPr>
            <a:spLocks noGrp="1"/>
          </p:cNvSpPr>
          <p:nvPr>
            <p:ph type="subTitle"/>
          </p:nvPr>
        </p:nvSpPr>
        <p:spPr>
          <a:xfrm>
            <a:off x="685800" y="4495680"/>
            <a:ext cx="7772400" cy="15242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hiza S. Sadjad</a:t>
            </a:r>
            <a:endParaRPr b="0" lang="en-US" sz="3200" spc="-1" strike="noStrike">
              <a:solidFill>
                <a:srgbClr val="eaeaea"/>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hiza@unhas.ac.id     http://www.unhas.ac.id/~rhiza/</a:t>
            </a:r>
            <a:endParaRPr b="0" lang="en-US" sz="3200" spc="-1" strike="noStrike">
              <a:solidFill>
                <a:srgbClr val="eaeaea"/>
              </a:solidFill>
              <a:latin typeface="Arial"/>
            </a:endParaRPr>
          </a:p>
        </p:txBody>
      </p:sp>
      <p:sp>
        <p:nvSpPr>
          <p:cNvPr id="4" name="PlaceHolder 3"/>
          <p:cNvSpPr>
            <a:spLocks noGrp="1"/>
          </p:cNvSpPr>
          <p:nvPr>
            <p:ph type="sldNum" idx="6"/>
          </p:nvPr>
        </p:nvSpPr>
        <p:spPr/>
        <p:txBody>
          <a:bodyPr/>
          <a:p>
            <a:fld id="{DDD5B936-1EA4-4D75-9668-67203D38FCDE}" type="slidenum">
              <a:t>1</a:t>
            </a:fld>
          </a:p>
        </p:txBody>
      </p:sp>
      <p:sp>
        <p:nvSpPr>
          <p:cNvPr id="5" name="PlaceHolder 4"/>
          <p:cNvSpPr>
            <a:spLocks noGrp="1"/>
          </p:cNvSpPr>
          <p:nvPr>
            <p:ph type="dt" idx="4"/>
          </p:nvPr>
        </p:nvSpPr>
        <p:spPr/>
        <p:txBody>
          <a:bodyPr/>
          <a:p>
            <a:fld id="{4661A226-2AF9-4C77-B0CD-160ACB381F79}" type="datetime1">
              <a:rPr lang="en-US"/>
              <a:t>07/30/26</a:t>
            </a:fld>
          </a:p>
        </p:txBody>
      </p:sp>
    </p:spTree>
  </p:cSld>
  <p:transition spd="slow" advTm="31000">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01"/>
                                        </p:tgtEl>
                                        <p:attrNameLst>
                                          <p:attrName>style.visibility</p:attrName>
                                        </p:attrNameLst>
                                      </p:cBhvr>
                                      <p:to>
                                        <p:strVal val="visible"/>
                                      </p:to>
                                    </p:set>
                                    <p:animEffect filter="wipe(left)" transition="in">
                                      <p:cBhvr additive="repl">
                                        <p:cTn id="7" dur="500"/>
                                        <p:tgtEl>
                                          <p:spTgt spid="101"/>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102"/>
                                        </p:tgtEl>
                                        <p:attrNameLst>
                                          <p:attrName>style.visibility</p:attrName>
                                        </p:attrNameLst>
                                      </p:cBhvr>
                                      <p:to>
                                        <p:strVal val="visible"/>
                                      </p:to>
                                    </p:set>
                                    <p:animEffect filter="wipe(left)" transition="in">
                                      <p:cBhvr additive="repl">
                                        <p:cTn id="11"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189"/>
                </a:solidFill>
                <a:latin typeface="Arial"/>
              </a:rPr>
              <a:t>TEKNOLOGI INFOKOM (</a:t>
            </a:r>
            <a:r>
              <a:rPr b="0" i="1" lang="en-US" sz="2400" spc="-1" strike="noStrike">
                <a:solidFill>
                  <a:srgbClr val="ebd189"/>
                </a:solidFill>
                <a:latin typeface="Arial"/>
              </a:rPr>
              <a:t>ICT</a:t>
            </a:r>
            <a:r>
              <a:rPr b="0" lang="en-US" sz="2400" spc="-1" strike="noStrike">
                <a:solidFill>
                  <a:srgbClr val="ebd189"/>
                </a:solidFill>
                <a:latin typeface="Arial"/>
              </a:rPr>
              <a:t>) </a:t>
            </a:r>
            <a:br>
              <a:rPr sz="2400"/>
            </a:br>
            <a:r>
              <a:rPr b="0" lang="en-US" sz="2400" spc="-1" strike="noStrike">
                <a:solidFill>
                  <a:srgbClr val="ebd189"/>
                </a:solidFill>
                <a:latin typeface="Arial"/>
              </a:rPr>
              <a:t>di </a:t>
            </a:r>
            <a:br>
              <a:rPr sz="2400"/>
            </a:br>
            <a:r>
              <a:rPr b="0" lang="en-US" sz="2400" spc="-1" strike="noStrike">
                <a:solidFill>
                  <a:srgbClr val="ebd189"/>
                </a:solidFill>
                <a:latin typeface="Arial"/>
              </a:rPr>
              <a:t>PERGURUAN TINGGI</a:t>
            </a:r>
            <a:endParaRPr b="0" lang="en-US" sz="2400" spc="-1" strike="noStrike">
              <a:solidFill>
                <a:srgbClr val="ebd189"/>
              </a:solidFill>
              <a:latin typeface="Arial"/>
            </a:endParaRPr>
          </a:p>
        </p:txBody>
      </p:sp>
      <p:grpSp>
        <p:nvGrpSpPr>
          <p:cNvPr id="140" name=""/>
          <p:cNvGrpSpPr/>
          <p:nvPr/>
        </p:nvGrpSpPr>
        <p:grpSpPr>
          <a:xfrm>
            <a:off x="304920" y="1523880"/>
            <a:ext cx="8610480" cy="5334120"/>
            <a:chOff x="304920" y="1523880"/>
            <a:chExt cx="8610480" cy="5334120"/>
          </a:xfrm>
        </p:grpSpPr>
        <p:grpSp>
          <p:nvGrpSpPr>
            <p:cNvPr id="141" name=""/>
            <p:cNvGrpSpPr/>
            <p:nvPr/>
          </p:nvGrpSpPr>
          <p:grpSpPr>
            <a:xfrm>
              <a:off x="304920" y="1523880"/>
              <a:ext cx="8610480" cy="5334120"/>
              <a:chOff x="304920" y="1523880"/>
              <a:chExt cx="8610480" cy="5334120"/>
            </a:xfrm>
          </p:grpSpPr>
          <p:sp>
            <p:nvSpPr>
              <p:cNvPr id="142" name=""/>
              <p:cNvSpPr/>
              <p:nvPr/>
            </p:nvSpPr>
            <p:spPr>
              <a:xfrm>
                <a:off x="685800" y="1523880"/>
                <a:ext cx="8010360" cy="18590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43" name=""/>
              <p:cNvSpPr/>
              <p:nvPr/>
            </p:nvSpPr>
            <p:spPr>
              <a:xfrm>
                <a:off x="1219320" y="1554120"/>
                <a:ext cx="7162560" cy="65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54"/>
                    </a:solidFill>
                    <a:latin typeface="Arial Narrow"/>
                  </a:rPr>
                  <a:t>PENGELOLA</a:t>
                </a:r>
                <a:endParaRPr b="0" lang="en-US" sz="20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54"/>
                    </a:solidFill>
                    <a:latin typeface="Arial Narrow"/>
                  </a:rPr>
                  <a:t>SISTEM INFORMASI</a:t>
                </a:r>
                <a:endParaRPr b="0" lang="en-US" sz="2000" spc="-1" strike="noStrike">
                  <a:solidFill>
                    <a:srgbClr val="eaeaea"/>
                  </a:solidFill>
                  <a:latin typeface="Arial"/>
                </a:endParaRPr>
              </a:p>
            </p:txBody>
          </p:sp>
          <p:sp>
            <p:nvSpPr>
              <p:cNvPr id="144" name=""/>
              <p:cNvSpPr/>
              <p:nvPr/>
            </p:nvSpPr>
            <p:spPr>
              <a:xfrm>
                <a:off x="4010040" y="2438280"/>
                <a:ext cx="1257120" cy="571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Verdana"/>
                  </a:rPr>
                  <a:t>Pelayanan</a:t>
                </a:r>
                <a:endParaRPr b="0" lang="en-US" sz="1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Verdana"/>
                  </a:rPr>
                  <a:t>INTERNET</a:t>
                </a:r>
                <a:endParaRPr b="0" lang="en-US" sz="1400" spc="-1" strike="noStrike">
                  <a:solidFill>
                    <a:srgbClr val="eaeaea"/>
                  </a:solidFill>
                  <a:latin typeface="Arial"/>
                </a:endParaRPr>
              </a:p>
            </p:txBody>
          </p:sp>
          <p:sp>
            <p:nvSpPr>
              <p:cNvPr id="145" name=""/>
              <p:cNvSpPr/>
              <p:nvPr/>
            </p:nvSpPr>
            <p:spPr>
              <a:xfrm>
                <a:off x="5562720" y="2413080"/>
                <a:ext cx="1447560" cy="89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54"/>
                    </a:solidFill>
                    <a:latin typeface="Verdana"/>
                  </a:rPr>
                  <a:t>Sistem INFORMASI TERPADU</a:t>
                </a:r>
                <a:endParaRPr b="0" lang="en-US" sz="1400" spc="-1" strike="noStrike">
                  <a:solidFill>
                    <a:srgbClr val="eaeaea"/>
                  </a:solidFill>
                  <a:latin typeface="Arial"/>
                </a:endParaRPr>
              </a:p>
            </p:txBody>
          </p:sp>
          <p:sp>
            <p:nvSpPr>
              <p:cNvPr id="146" name=""/>
              <p:cNvSpPr/>
              <p:nvPr/>
            </p:nvSpPr>
            <p:spPr>
              <a:xfrm>
                <a:off x="7324560" y="2438280"/>
                <a:ext cx="1257480" cy="868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54"/>
                    </a:solidFill>
                    <a:latin typeface="Verdana"/>
                  </a:rPr>
                  <a:t>E-Learning </a:t>
                </a:r>
                <a:r>
                  <a:rPr b="1" lang="en-US" sz="1200" spc="-1" strike="noStrike">
                    <a:solidFill>
                      <a:srgbClr val="000054"/>
                    </a:solidFill>
                    <a:latin typeface="Verdana"/>
                  </a:rPr>
                  <a:t>dan </a:t>
                </a:r>
                <a:r>
                  <a:rPr b="1" i="1" lang="en-US" sz="1200" spc="-1" strike="noStrike">
                    <a:solidFill>
                      <a:srgbClr val="000054"/>
                    </a:solidFill>
                    <a:latin typeface="Verdana"/>
                  </a:rPr>
                  <a:t>Distance Learning</a:t>
                </a:r>
                <a:endParaRPr b="0" lang="en-US" sz="1200" spc="-1" strike="noStrike">
                  <a:solidFill>
                    <a:srgbClr val="eaeaea"/>
                  </a:solidFill>
                  <a:latin typeface="Arial"/>
                </a:endParaRPr>
              </a:p>
            </p:txBody>
          </p:sp>
          <p:sp>
            <p:nvSpPr>
              <p:cNvPr id="147" name=""/>
              <p:cNvSpPr/>
              <p:nvPr/>
            </p:nvSpPr>
            <p:spPr>
              <a:xfrm>
                <a:off x="6296040" y="2209680"/>
                <a:ext cx="0" cy="2286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48" name=""/>
              <p:cNvSpPr/>
              <p:nvPr/>
            </p:nvSpPr>
            <p:spPr>
              <a:xfrm>
                <a:off x="1236600" y="2324160"/>
                <a:ext cx="681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49" name=""/>
              <p:cNvSpPr/>
              <p:nvPr/>
            </p:nvSpPr>
            <p:spPr>
              <a:xfrm>
                <a:off x="8010360" y="2324160"/>
                <a:ext cx="0" cy="1141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50" name=""/>
              <p:cNvSpPr/>
              <p:nvPr/>
            </p:nvSpPr>
            <p:spPr>
              <a:xfrm>
                <a:off x="4695840" y="2324160"/>
                <a:ext cx="0" cy="1141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51" name=""/>
              <p:cNvSpPr/>
              <p:nvPr/>
            </p:nvSpPr>
            <p:spPr>
              <a:xfrm>
                <a:off x="304920" y="3086280"/>
                <a:ext cx="1846080" cy="121104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noAutofit/>
              </a:bodyPr>
              <a:p>
                <a:pPr marL="60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54"/>
                    </a:solidFill>
                    <a:latin typeface="Verdana"/>
                  </a:rPr>
                  <a:t>Sub-Bag Teknik</a:t>
                </a:r>
                <a:endParaRPr b="0" lang="en-US" sz="1200" spc="-1" strike="noStrike">
                  <a:solidFill>
                    <a:srgbClr val="eaeaea"/>
                  </a:solidFill>
                  <a:latin typeface="Arial"/>
                </a:endParaRPr>
              </a:p>
              <a:p>
                <a:pPr marL="60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60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54"/>
                    </a:solidFill>
                    <a:latin typeface="Verdana"/>
                  </a:rPr>
                  <a:t>Teknisi Kepala</a:t>
                </a:r>
                <a:endParaRPr b="0" lang="en-US" sz="1200" spc="-1" strike="noStrike">
                  <a:solidFill>
                    <a:srgbClr val="eaeaea"/>
                  </a:solidFill>
                  <a:latin typeface="Arial"/>
                </a:endParaRPr>
              </a:p>
              <a:p>
                <a:pPr lvl="1" marL="174600">
                  <a:lnSpc>
                    <a:spcPct val="100000"/>
                  </a:lnSpc>
                  <a:buClr>
                    <a:srgbClr val="00005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4"/>
                    </a:solidFill>
                    <a:latin typeface="Verdana"/>
                  </a:rPr>
                  <a:t>Teknisi </a:t>
                </a:r>
                <a:r>
                  <a:rPr b="0" i="1" lang="en-US" sz="1000" spc="-1" strike="noStrike">
                    <a:solidFill>
                      <a:srgbClr val="000054"/>
                    </a:solidFill>
                    <a:latin typeface="Verdana"/>
                  </a:rPr>
                  <a:t>Hardware</a:t>
                </a:r>
                <a:endParaRPr b="0" lang="en-US" sz="1000" spc="-1" strike="noStrike">
                  <a:solidFill>
                    <a:srgbClr val="eaeaea"/>
                  </a:solidFill>
                  <a:latin typeface="Arial"/>
                </a:endParaRPr>
              </a:p>
              <a:p>
                <a:pPr lvl="1" marL="174600">
                  <a:lnSpc>
                    <a:spcPct val="100000"/>
                  </a:lnSpc>
                  <a:buClr>
                    <a:srgbClr val="00005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4"/>
                    </a:solidFill>
                    <a:latin typeface="Verdana"/>
                  </a:rPr>
                  <a:t>Teknisi</a:t>
                </a:r>
                <a:r>
                  <a:rPr b="0" i="1" lang="en-US" sz="1000" spc="-1" strike="noStrike">
                    <a:solidFill>
                      <a:srgbClr val="000054"/>
                    </a:solidFill>
                    <a:latin typeface="Verdana"/>
                  </a:rPr>
                  <a:t> Software</a:t>
                </a:r>
                <a:endParaRPr b="0" lang="en-US" sz="1000" spc="-1" strike="noStrike">
                  <a:solidFill>
                    <a:srgbClr val="eaeaea"/>
                  </a:solidFill>
                  <a:latin typeface="Arial"/>
                </a:endParaRPr>
              </a:p>
              <a:p>
                <a:pPr lvl="1"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Arial"/>
                </a:endParaRPr>
              </a:p>
            </p:txBody>
          </p:sp>
          <p:sp>
            <p:nvSpPr>
              <p:cNvPr id="152" name=""/>
              <p:cNvSpPr/>
              <p:nvPr/>
            </p:nvSpPr>
            <p:spPr>
              <a:xfrm>
                <a:off x="436680" y="3429000"/>
                <a:ext cx="1714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53" name=""/>
              <p:cNvSpPr/>
              <p:nvPr/>
            </p:nvSpPr>
            <p:spPr>
              <a:xfrm>
                <a:off x="2151000" y="3086280"/>
                <a:ext cx="1714680" cy="111744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54"/>
                    </a:solidFill>
                    <a:latin typeface="Verdana"/>
                  </a:rPr>
                  <a:t>Sub-Bag </a:t>
                </a:r>
                <a:endParaRPr b="0" lang="en-US" sz="12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54"/>
                    </a:solidFill>
                    <a:latin typeface="Verdana"/>
                  </a:rPr>
                  <a:t>Adm. &amp; Keu</a:t>
                </a:r>
                <a:endParaRPr b="0" lang="en-US" sz="12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54"/>
                    </a:solidFill>
                    <a:latin typeface="Verdana"/>
                  </a:rPr>
                  <a:t>Ka-Sub-Bag</a:t>
                </a:r>
                <a:endParaRPr b="0" lang="en-US" sz="12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54"/>
                    </a:solidFill>
                    <a:latin typeface="Verdana"/>
                  </a:rPr>
                  <a:t>+STAF</a:t>
                </a:r>
                <a:endParaRPr b="0" lang="en-US" sz="1200" spc="-1" strike="noStrike">
                  <a:solidFill>
                    <a:srgbClr val="eaeaea"/>
                  </a:solidFill>
                  <a:latin typeface="Arial"/>
                </a:endParaRPr>
              </a:p>
            </p:txBody>
          </p:sp>
          <p:sp>
            <p:nvSpPr>
              <p:cNvPr id="154" name=""/>
              <p:cNvSpPr/>
              <p:nvPr/>
            </p:nvSpPr>
            <p:spPr>
              <a:xfrm>
                <a:off x="2151000" y="3543480"/>
                <a:ext cx="171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55" name=""/>
              <p:cNvSpPr/>
              <p:nvPr/>
            </p:nvSpPr>
            <p:spPr>
              <a:xfrm>
                <a:off x="1236600" y="2286000"/>
                <a:ext cx="0" cy="8002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56" name=""/>
              <p:cNvSpPr/>
              <p:nvPr/>
            </p:nvSpPr>
            <p:spPr>
              <a:xfrm>
                <a:off x="2951280" y="2286000"/>
                <a:ext cx="0" cy="8002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57" name=""/>
              <p:cNvSpPr/>
              <p:nvPr/>
            </p:nvSpPr>
            <p:spPr>
              <a:xfrm>
                <a:off x="3581280" y="2971800"/>
                <a:ext cx="2057400" cy="1371600"/>
              </a:xfrm>
              <a:custGeom>
                <a:avLst/>
                <a:gdLst/>
                <a:ahLst/>
                <a:rect l="l" t="t" r="r" b="b"/>
                <a:pathLst>
                  <a:path w="2934" h="1322">
                    <a:moveTo>
                      <a:pt x="431" y="982"/>
                    </a:moveTo>
                    <a:lnTo>
                      <a:pt x="464" y="1033"/>
                    </a:lnTo>
                    <a:lnTo>
                      <a:pt x="501" y="1081"/>
                    </a:lnTo>
                    <a:lnTo>
                      <a:pt x="544" y="1126"/>
                    </a:lnTo>
                    <a:lnTo>
                      <a:pt x="592" y="1167"/>
                    </a:lnTo>
                    <a:lnTo>
                      <a:pt x="642" y="1205"/>
                    </a:lnTo>
                    <a:lnTo>
                      <a:pt x="694" y="1236"/>
                    </a:lnTo>
                    <a:lnTo>
                      <a:pt x="750" y="1264"/>
                    </a:lnTo>
                    <a:lnTo>
                      <a:pt x="810" y="1286"/>
                    </a:lnTo>
                    <a:lnTo>
                      <a:pt x="870" y="1304"/>
                    </a:lnTo>
                    <a:lnTo>
                      <a:pt x="933" y="1315"/>
                    </a:lnTo>
                    <a:lnTo>
                      <a:pt x="995" y="1322"/>
                    </a:lnTo>
                    <a:lnTo>
                      <a:pt x="1058" y="1322"/>
                    </a:lnTo>
                    <a:lnTo>
                      <a:pt x="1121" y="1318"/>
                    </a:lnTo>
                    <a:lnTo>
                      <a:pt x="1184" y="1307"/>
                    </a:lnTo>
                    <a:lnTo>
                      <a:pt x="1244" y="1292"/>
                    </a:lnTo>
                    <a:lnTo>
                      <a:pt x="1304" y="1271"/>
                    </a:lnTo>
                    <a:lnTo>
                      <a:pt x="1362" y="1244"/>
                    </a:lnTo>
                    <a:lnTo>
                      <a:pt x="1414" y="1214"/>
                    </a:lnTo>
                    <a:lnTo>
                      <a:pt x="1467" y="1178"/>
                    </a:lnTo>
                    <a:lnTo>
                      <a:pt x="1517" y="1214"/>
                    </a:lnTo>
                    <a:lnTo>
                      <a:pt x="1572" y="1244"/>
                    </a:lnTo>
                    <a:lnTo>
                      <a:pt x="1630" y="1271"/>
                    </a:lnTo>
                    <a:lnTo>
                      <a:pt x="1688" y="1292"/>
                    </a:lnTo>
                    <a:lnTo>
                      <a:pt x="1750" y="1307"/>
                    </a:lnTo>
                    <a:lnTo>
                      <a:pt x="1811" y="1318"/>
                    </a:lnTo>
                    <a:lnTo>
                      <a:pt x="1876" y="1322"/>
                    </a:lnTo>
                    <a:lnTo>
                      <a:pt x="1939" y="1322"/>
                    </a:lnTo>
                    <a:lnTo>
                      <a:pt x="2001" y="1315"/>
                    </a:lnTo>
                    <a:lnTo>
                      <a:pt x="2064" y="1304"/>
                    </a:lnTo>
                    <a:lnTo>
                      <a:pt x="2124" y="1286"/>
                    </a:lnTo>
                    <a:lnTo>
                      <a:pt x="2182" y="1264"/>
                    </a:lnTo>
                    <a:lnTo>
                      <a:pt x="2240" y="1236"/>
                    </a:lnTo>
                    <a:lnTo>
                      <a:pt x="2292" y="1205"/>
                    </a:lnTo>
                    <a:lnTo>
                      <a:pt x="2342" y="1167"/>
                    </a:lnTo>
                    <a:lnTo>
                      <a:pt x="2390" y="1126"/>
                    </a:lnTo>
                    <a:lnTo>
                      <a:pt x="2430" y="1081"/>
                    </a:lnTo>
                    <a:lnTo>
                      <a:pt x="2470" y="1033"/>
                    </a:lnTo>
                    <a:lnTo>
                      <a:pt x="2503" y="982"/>
                    </a:lnTo>
                    <a:lnTo>
                      <a:pt x="2546" y="989"/>
                    </a:lnTo>
                    <a:lnTo>
                      <a:pt x="2591" y="992"/>
                    </a:lnTo>
                    <a:lnTo>
                      <a:pt x="2636" y="989"/>
                    </a:lnTo>
                    <a:lnTo>
                      <a:pt x="2681" y="980"/>
                    </a:lnTo>
                    <a:lnTo>
                      <a:pt x="2724" y="966"/>
                    </a:lnTo>
                    <a:lnTo>
                      <a:pt x="2764" y="947"/>
                    </a:lnTo>
                    <a:lnTo>
                      <a:pt x="2799" y="923"/>
                    </a:lnTo>
                    <a:lnTo>
                      <a:pt x="2834" y="894"/>
                    </a:lnTo>
                    <a:lnTo>
                      <a:pt x="2864" y="862"/>
                    </a:lnTo>
                    <a:lnTo>
                      <a:pt x="2889" y="826"/>
                    </a:lnTo>
                    <a:lnTo>
                      <a:pt x="2907" y="787"/>
                    </a:lnTo>
                    <a:lnTo>
                      <a:pt x="2922" y="746"/>
                    </a:lnTo>
                    <a:lnTo>
                      <a:pt x="2932" y="704"/>
                    </a:lnTo>
                    <a:lnTo>
                      <a:pt x="2934" y="662"/>
                    </a:lnTo>
                    <a:lnTo>
                      <a:pt x="2932" y="618"/>
                    </a:lnTo>
                    <a:lnTo>
                      <a:pt x="2922" y="576"/>
                    </a:lnTo>
                    <a:lnTo>
                      <a:pt x="2907" y="535"/>
                    </a:lnTo>
                    <a:lnTo>
                      <a:pt x="2889" y="496"/>
                    </a:lnTo>
                    <a:lnTo>
                      <a:pt x="2864" y="461"/>
                    </a:lnTo>
                    <a:lnTo>
                      <a:pt x="2834" y="428"/>
                    </a:lnTo>
                    <a:lnTo>
                      <a:pt x="2799" y="399"/>
                    </a:lnTo>
                    <a:lnTo>
                      <a:pt x="2764" y="375"/>
                    </a:lnTo>
                    <a:lnTo>
                      <a:pt x="2724" y="356"/>
                    </a:lnTo>
                    <a:lnTo>
                      <a:pt x="2681" y="342"/>
                    </a:lnTo>
                    <a:lnTo>
                      <a:pt x="2636" y="333"/>
                    </a:lnTo>
                    <a:lnTo>
                      <a:pt x="2591" y="330"/>
                    </a:lnTo>
                    <a:lnTo>
                      <a:pt x="2546" y="333"/>
                    </a:lnTo>
                    <a:lnTo>
                      <a:pt x="2503" y="340"/>
                    </a:lnTo>
                    <a:lnTo>
                      <a:pt x="2470" y="289"/>
                    </a:lnTo>
                    <a:lnTo>
                      <a:pt x="2430" y="241"/>
                    </a:lnTo>
                    <a:lnTo>
                      <a:pt x="2390" y="196"/>
                    </a:lnTo>
                    <a:lnTo>
                      <a:pt x="2342" y="155"/>
                    </a:lnTo>
                    <a:lnTo>
                      <a:pt x="2292" y="117"/>
                    </a:lnTo>
                    <a:lnTo>
                      <a:pt x="2240" y="86"/>
                    </a:lnTo>
                    <a:lnTo>
                      <a:pt x="2182" y="58"/>
                    </a:lnTo>
                    <a:lnTo>
                      <a:pt x="2124" y="36"/>
                    </a:lnTo>
                    <a:lnTo>
                      <a:pt x="2064" y="19"/>
                    </a:lnTo>
                    <a:lnTo>
                      <a:pt x="2001" y="7"/>
                    </a:lnTo>
                    <a:lnTo>
                      <a:pt x="1939" y="1"/>
                    </a:lnTo>
                    <a:lnTo>
                      <a:pt x="1876" y="0"/>
                    </a:lnTo>
                    <a:lnTo>
                      <a:pt x="1811" y="4"/>
                    </a:lnTo>
                    <a:lnTo>
                      <a:pt x="1750" y="15"/>
                    </a:lnTo>
                    <a:lnTo>
                      <a:pt x="1688" y="31"/>
                    </a:lnTo>
                    <a:lnTo>
                      <a:pt x="1630" y="52"/>
                    </a:lnTo>
                    <a:lnTo>
                      <a:pt x="1572" y="78"/>
                    </a:lnTo>
                    <a:lnTo>
                      <a:pt x="1517" y="108"/>
                    </a:lnTo>
                    <a:lnTo>
                      <a:pt x="1467" y="144"/>
                    </a:lnTo>
                    <a:lnTo>
                      <a:pt x="1414" y="108"/>
                    </a:lnTo>
                    <a:lnTo>
                      <a:pt x="1362" y="78"/>
                    </a:lnTo>
                    <a:lnTo>
                      <a:pt x="1304" y="52"/>
                    </a:lnTo>
                    <a:lnTo>
                      <a:pt x="1244" y="31"/>
                    </a:lnTo>
                    <a:lnTo>
                      <a:pt x="1184" y="15"/>
                    </a:lnTo>
                    <a:lnTo>
                      <a:pt x="1121" y="4"/>
                    </a:lnTo>
                    <a:lnTo>
                      <a:pt x="1058" y="0"/>
                    </a:lnTo>
                    <a:lnTo>
                      <a:pt x="995" y="1"/>
                    </a:lnTo>
                    <a:lnTo>
                      <a:pt x="933" y="7"/>
                    </a:lnTo>
                    <a:lnTo>
                      <a:pt x="870" y="19"/>
                    </a:lnTo>
                    <a:lnTo>
                      <a:pt x="810" y="36"/>
                    </a:lnTo>
                    <a:lnTo>
                      <a:pt x="750" y="58"/>
                    </a:lnTo>
                    <a:lnTo>
                      <a:pt x="694" y="86"/>
                    </a:lnTo>
                    <a:lnTo>
                      <a:pt x="642" y="117"/>
                    </a:lnTo>
                    <a:lnTo>
                      <a:pt x="592" y="155"/>
                    </a:lnTo>
                    <a:lnTo>
                      <a:pt x="544" y="196"/>
                    </a:lnTo>
                    <a:lnTo>
                      <a:pt x="501" y="241"/>
                    </a:lnTo>
                    <a:lnTo>
                      <a:pt x="464" y="289"/>
                    </a:lnTo>
                    <a:lnTo>
                      <a:pt x="431" y="340"/>
                    </a:lnTo>
                    <a:lnTo>
                      <a:pt x="386" y="333"/>
                    </a:lnTo>
                    <a:lnTo>
                      <a:pt x="341" y="330"/>
                    </a:lnTo>
                    <a:lnTo>
                      <a:pt x="298" y="333"/>
                    </a:lnTo>
                    <a:lnTo>
                      <a:pt x="253" y="342"/>
                    </a:lnTo>
                    <a:lnTo>
                      <a:pt x="210" y="356"/>
                    </a:lnTo>
                    <a:lnTo>
                      <a:pt x="170" y="375"/>
                    </a:lnTo>
                    <a:lnTo>
                      <a:pt x="133" y="399"/>
                    </a:lnTo>
                    <a:lnTo>
                      <a:pt x="100" y="428"/>
                    </a:lnTo>
                    <a:lnTo>
                      <a:pt x="70" y="461"/>
                    </a:lnTo>
                    <a:lnTo>
                      <a:pt x="45" y="496"/>
                    </a:lnTo>
                    <a:lnTo>
                      <a:pt x="25" y="535"/>
                    </a:lnTo>
                    <a:lnTo>
                      <a:pt x="10" y="576"/>
                    </a:lnTo>
                    <a:lnTo>
                      <a:pt x="2" y="618"/>
                    </a:lnTo>
                    <a:lnTo>
                      <a:pt x="0" y="662"/>
                    </a:lnTo>
                    <a:lnTo>
                      <a:pt x="2" y="704"/>
                    </a:lnTo>
                    <a:lnTo>
                      <a:pt x="10" y="746"/>
                    </a:lnTo>
                    <a:lnTo>
                      <a:pt x="25" y="787"/>
                    </a:lnTo>
                    <a:lnTo>
                      <a:pt x="45" y="826"/>
                    </a:lnTo>
                    <a:lnTo>
                      <a:pt x="70" y="862"/>
                    </a:lnTo>
                    <a:lnTo>
                      <a:pt x="100" y="894"/>
                    </a:lnTo>
                    <a:lnTo>
                      <a:pt x="133" y="923"/>
                    </a:lnTo>
                    <a:lnTo>
                      <a:pt x="170" y="947"/>
                    </a:lnTo>
                    <a:lnTo>
                      <a:pt x="210" y="966"/>
                    </a:lnTo>
                    <a:lnTo>
                      <a:pt x="253" y="980"/>
                    </a:lnTo>
                    <a:lnTo>
                      <a:pt x="298" y="989"/>
                    </a:lnTo>
                    <a:lnTo>
                      <a:pt x="341" y="992"/>
                    </a:lnTo>
                    <a:lnTo>
                      <a:pt x="386" y="989"/>
                    </a:lnTo>
                    <a:lnTo>
                      <a:pt x="431" y="982"/>
                    </a:lnTo>
                    <a:close/>
                  </a:path>
                </a:pathLst>
              </a:custGeom>
              <a:solidFill>
                <a:srgbClr val="cc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58" name=""/>
              <p:cNvSpPr/>
              <p:nvPr/>
            </p:nvSpPr>
            <p:spPr>
              <a:xfrm>
                <a:off x="3886200" y="3200400"/>
                <a:ext cx="1257480" cy="1173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54"/>
                    </a:solidFill>
                    <a:latin typeface="Verdana"/>
                  </a:rPr>
                  <a:t>Internet </a:t>
                </a:r>
                <a:endParaRPr b="0" lang="en-US" sz="12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54"/>
                    </a:solidFill>
                    <a:latin typeface="Verdana"/>
                  </a:rPr>
                  <a:t>&amp; </a:t>
                </a:r>
                <a:endParaRPr b="0" lang="en-US" sz="12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54"/>
                    </a:solidFill>
                    <a:latin typeface="Verdana"/>
                  </a:rPr>
                  <a:t>Jaringan Kampus</a:t>
                </a:r>
                <a:endParaRPr b="0" lang="en-US" sz="1200" spc="-1" strike="noStrike">
                  <a:solidFill>
                    <a:srgbClr val="eaeaea"/>
                  </a:solidFill>
                  <a:latin typeface="Arial"/>
                </a:endParaRPr>
              </a:p>
            </p:txBody>
          </p:sp>
          <p:grpSp>
            <p:nvGrpSpPr>
              <p:cNvPr id="159" name=""/>
              <p:cNvGrpSpPr/>
              <p:nvPr/>
            </p:nvGrpSpPr>
            <p:grpSpPr>
              <a:xfrm>
                <a:off x="5181480" y="3154320"/>
                <a:ext cx="2057400" cy="1371600"/>
                <a:chOff x="5181480" y="3154320"/>
                <a:chExt cx="2057400" cy="1371600"/>
              </a:xfrm>
            </p:grpSpPr>
            <p:sp>
              <p:nvSpPr>
                <p:cNvPr id="160" name=""/>
                <p:cNvSpPr/>
                <p:nvPr/>
              </p:nvSpPr>
              <p:spPr>
                <a:xfrm>
                  <a:off x="5181480" y="3154320"/>
                  <a:ext cx="2057400" cy="1371600"/>
                </a:xfrm>
                <a:custGeom>
                  <a:avLst/>
                  <a:gdLst/>
                  <a:ahLst/>
                  <a:rect l="l" t="t" r="r" b="b"/>
                  <a:pathLst>
                    <a:path w="2934" h="1322">
                      <a:moveTo>
                        <a:pt x="431" y="982"/>
                      </a:moveTo>
                      <a:lnTo>
                        <a:pt x="464" y="1033"/>
                      </a:lnTo>
                      <a:lnTo>
                        <a:pt x="501" y="1081"/>
                      </a:lnTo>
                      <a:lnTo>
                        <a:pt x="544" y="1126"/>
                      </a:lnTo>
                      <a:lnTo>
                        <a:pt x="592" y="1167"/>
                      </a:lnTo>
                      <a:lnTo>
                        <a:pt x="642" y="1205"/>
                      </a:lnTo>
                      <a:lnTo>
                        <a:pt x="694" y="1236"/>
                      </a:lnTo>
                      <a:lnTo>
                        <a:pt x="750" y="1264"/>
                      </a:lnTo>
                      <a:lnTo>
                        <a:pt x="810" y="1286"/>
                      </a:lnTo>
                      <a:lnTo>
                        <a:pt x="870" y="1304"/>
                      </a:lnTo>
                      <a:lnTo>
                        <a:pt x="933" y="1315"/>
                      </a:lnTo>
                      <a:lnTo>
                        <a:pt x="995" y="1322"/>
                      </a:lnTo>
                      <a:lnTo>
                        <a:pt x="1058" y="1322"/>
                      </a:lnTo>
                      <a:lnTo>
                        <a:pt x="1121" y="1318"/>
                      </a:lnTo>
                      <a:lnTo>
                        <a:pt x="1184" y="1307"/>
                      </a:lnTo>
                      <a:lnTo>
                        <a:pt x="1244" y="1292"/>
                      </a:lnTo>
                      <a:lnTo>
                        <a:pt x="1304" y="1271"/>
                      </a:lnTo>
                      <a:lnTo>
                        <a:pt x="1362" y="1244"/>
                      </a:lnTo>
                      <a:lnTo>
                        <a:pt x="1414" y="1214"/>
                      </a:lnTo>
                      <a:lnTo>
                        <a:pt x="1467" y="1178"/>
                      </a:lnTo>
                      <a:lnTo>
                        <a:pt x="1517" y="1214"/>
                      </a:lnTo>
                      <a:lnTo>
                        <a:pt x="1572" y="1244"/>
                      </a:lnTo>
                      <a:lnTo>
                        <a:pt x="1630" y="1271"/>
                      </a:lnTo>
                      <a:lnTo>
                        <a:pt x="1688" y="1292"/>
                      </a:lnTo>
                      <a:lnTo>
                        <a:pt x="1750" y="1307"/>
                      </a:lnTo>
                      <a:lnTo>
                        <a:pt x="1811" y="1318"/>
                      </a:lnTo>
                      <a:lnTo>
                        <a:pt x="1876" y="1322"/>
                      </a:lnTo>
                      <a:lnTo>
                        <a:pt x="1939" y="1322"/>
                      </a:lnTo>
                      <a:lnTo>
                        <a:pt x="2001" y="1315"/>
                      </a:lnTo>
                      <a:lnTo>
                        <a:pt x="2064" y="1304"/>
                      </a:lnTo>
                      <a:lnTo>
                        <a:pt x="2124" y="1286"/>
                      </a:lnTo>
                      <a:lnTo>
                        <a:pt x="2182" y="1264"/>
                      </a:lnTo>
                      <a:lnTo>
                        <a:pt x="2240" y="1236"/>
                      </a:lnTo>
                      <a:lnTo>
                        <a:pt x="2292" y="1205"/>
                      </a:lnTo>
                      <a:lnTo>
                        <a:pt x="2342" y="1167"/>
                      </a:lnTo>
                      <a:lnTo>
                        <a:pt x="2390" y="1126"/>
                      </a:lnTo>
                      <a:lnTo>
                        <a:pt x="2430" y="1081"/>
                      </a:lnTo>
                      <a:lnTo>
                        <a:pt x="2470" y="1033"/>
                      </a:lnTo>
                      <a:lnTo>
                        <a:pt x="2503" y="982"/>
                      </a:lnTo>
                      <a:lnTo>
                        <a:pt x="2546" y="989"/>
                      </a:lnTo>
                      <a:lnTo>
                        <a:pt x="2591" y="992"/>
                      </a:lnTo>
                      <a:lnTo>
                        <a:pt x="2636" y="989"/>
                      </a:lnTo>
                      <a:lnTo>
                        <a:pt x="2681" y="980"/>
                      </a:lnTo>
                      <a:lnTo>
                        <a:pt x="2724" y="966"/>
                      </a:lnTo>
                      <a:lnTo>
                        <a:pt x="2764" y="947"/>
                      </a:lnTo>
                      <a:lnTo>
                        <a:pt x="2799" y="923"/>
                      </a:lnTo>
                      <a:lnTo>
                        <a:pt x="2834" y="894"/>
                      </a:lnTo>
                      <a:lnTo>
                        <a:pt x="2864" y="862"/>
                      </a:lnTo>
                      <a:lnTo>
                        <a:pt x="2889" y="826"/>
                      </a:lnTo>
                      <a:lnTo>
                        <a:pt x="2907" y="787"/>
                      </a:lnTo>
                      <a:lnTo>
                        <a:pt x="2922" y="746"/>
                      </a:lnTo>
                      <a:lnTo>
                        <a:pt x="2932" y="704"/>
                      </a:lnTo>
                      <a:lnTo>
                        <a:pt x="2934" y="662"/>
                      </a:lnTo>
                      <a:lnTo>
                        <a:pt x="2932" y="618"/>
                      </a:lnTo>
                      <a:lnTo>
                        <a:pt x="2922" y="576"/>
                      </a:lnTo>
                      <a:lnTo>
                        <a:pt x="2907" y="535"/>
                      </a:lnTo>
                      <a:lnTo>
                        <a:pt x="2889" y="496"/>
                      </a:lnTo>
                      <a:lnTo>
                        <a:pt x="2864" y="461"/>
                      </a:lnTo>
                      <a:lnTo>
                        <a:pt x="2834" y="428"/>
                      </a:lnTo>
                      <a:lnTo>
                        <a:pt x="2799" y="399"/>
                      </a:lnTo>
                      <a:lnTo>
                        <a:pt x="2764" y="375"/>
                      </a:lnTo>
                      <a:lnTo>
                        <a:pt x="2724" y="356"/>
                      </a:lnTo>
                      <a:lnTo>
                        <a:pt x="2681" y="342"/>
                      </a:lnTo>
                      <a:lnTo>
                        <a:pt x="2636" y="333"/>
                      </a:lnTo>
                      <a:lnTo>
                        <a:pt x="2591" y="330"/>
                      </a:lnTo>
                      <a:lnTo>
                        <a:pt x="2546" y="333"/>
                      </a:lnTo>
                      <a:lnTo>
                        <a:pt x="2503" y="340"/>
                      </a:lnTo>
                      <a:lnTo>
                        <a:pt x="2470" y="289"/>
                      </a:lnTo>
                      <a:lnTo>
                        <a:pt x="2430" y="241"/>
                      </a:lnTo>
                      <a:lnTo>
                        <a:pt x="2390" y="196"/>
                      </a:lnTo>
                      <a:lnTo>
                        <a:pt x="2342" y="155"/>
                      </a:lnTo>
                      <a:lnTo>
                        <a:pt x="2292" y="117"/>
                      </a:lnTo>
                      <a:lnTo>
                        <a:pt x="2240" y="86"/>
                      </a:lnTo>
                      <a:lnTo>
                        <a:pt x="2182" y="58"/>
                      </a:lnTo>
                      <a:lnTo>
                        <a:pt x="2124" y="36"/>
                      </a:lnTo>
                      <a:lnTo>
                        <a:pt x="2064" y="19"/>
                      </a:lnTo>
                      <a:lnTo>
                        <a:pt x="2001" y="7"/>
                      </a:lnTo>
                      <a:lnTo>
                        <a:pt x="1939" y="1"/>
                      </a:lnTo>
                      <a:lnTo>
                        <a:pt x="1876" y="0"/>
                      </a:lnTo>
                      <a:lnTo>
                        <a:pt x="1811" y="4"/>
                      </a:lnTo>
                      <a:lnTo>
                        <a:pt x="1750" y="15"/>
                      </a:lnTo>
                      <a:lnTo>
                        <a:pt x="1688" y="31"/>
                      </a:lnTo>
                      <a:lnTo>
                        <a:pt x="1630" y="52"/>
                      </a:lnTo>
                      <a:lnTo>
                        <a:pt x="1572" y="78"/>
                      </a:lnTo>
                      <a:lnTo>
                        <a:pt x="1517" y="108"/>
                      </a:lnTo>
                      <a:lnTo>
                        <a:pt x="1467" y="144"/>
                      </a:lnTo>
                      <a:lnTo>
                        <a:pt x="1414" y="108"/>
                      </a:lnTo>
                      <a:lnTo>
                        <a:pt x="1362" y="78"/>
                      </a:lnTo>
                      <a:lnTo>
                        <a:pt x="1304" y="52"/>
                      </a:lnTo>
                      <a:lnTo>
                        <a:pt x="1244" y="31"/>
                      </a:lnTo>
                      <a:lnTo>
                        <a:pt x="1184" y="15"/>
                      </a:lnTo>
                      <a:lnTo>
                        <a:pt x="1121" y="4"/>
                      </a:lnTo>
                      <a:lnTo>
                        <a:pt x="1058" y="0"/>
                      </a:lnTo>
                      <a:lnTo>
                        <a:pt x="995" y="1"/>
                      </a:lnTo>
                      <a:lnTo>
                        <a:pt x="933" y="7"/>
                      </a:lnTo>
                      <a:lnTo>
                        <a:pt x="870" y="19"/>
                      </a:lnTo>
                      <a:lnTo>
                        <a:pt x="810" y="36"/>
                      </a:lnTo>
                      <a:lnTo>
                        <a:pt x="750" y="58"/>
                      </a:lnTo>
                      <a:lnTo>
                        <a:pt x="694" y="86"/>
                      </a:lnTo>
                      <a:lnTo>
                        <a:pt x="642" y="117"/>
                      </a:lnTo>
                      <a:lnTo>
                        <a:pt x="592" y="155"/>
                      </a:lnTo>
                      <a:lnTo>
                        <a:pt x="544" y="196"/>
                      </a:lnTo>
                      <a:lnTo>
                        <a:pt x="501" y="241"/>
                      </a:lnTo>
                      <a:lnTo>
                        <a:pt x="464" y="289"/>
                      </a:lnTo>
                      <a:lnTo>
                        <a:pt x="431" y="340"/>
                      </a:lnTo>
                      <a:lnTo>
                        <a:pt x="386" y="333"/>
                      </a:lnTo>
                      <a:lnTo>
                        <a:pt x="341" y="330"/>
                      </a:lnTo>
                      <a:lnTo>
                        <a:pt x="298" y="333"/>
                      </a:lnTo>
                      <a:lnTo>
                        <a:pt x="253" y="342"/>
                      </a:lnTo>
                      <a:lnTo>
                        <a:pt x="210" y="356"/>
                      </a:lnTo>
                      <a:lnTo>
                        <a:pt x="170" y="375"/>
                      </a:lnTo>
                      <a:lnTo>
                        <a:pt x="133" y="399"/>
                      </a:lnTo>
                      <a:lnTo>
                        <a:pt x="100" y="428"/>
                      </a:lnTo>
                      <a:lnTo>
                        <a:pt x="70" y="461"/>
                      </a:lnTo>
                      <a:lnTo>
                        <a:pt x="45" y="496"/>
                      </a:lnTo>
                      <a:lnTo>
                        <a:pt x="25" y="535"/>
                      </a:lnTo>
                      <a:lnTo>
                        <a:pt x="10" y="576"/>
                      </a:lnTo>
                      <a:lnTo>
                        <a:pt x="2" y="618"/>
                      </a:lnTo>
                      <a:lnTo>
                        <a:pt x="0" y="662"/>
                      </a:lnTo>
                      <a:lnTo>
                        <a:pt x="2" y="704"/>
                      </a:lnTo>
                      <a:lnTo>
                        <a:pt x="10" y="746"/>
                      </a:lnTo>
                      <a:lnTo>
                        <a:pt x="25" y="787"/>
                      </a:lnTo>
                      <a:lnTo>
                        <a:pt x="45" y="826"/>
                      </a:lnTo>
                      <a:lnTo>
                        <a:pt x="70" y="862"/>
                      </a:lnTo>
                      <a:lnTo>
                        <a:pt x="100" y="894"/>
                      </a:lnTo>
                      <a:lnTo>
                        <a:pt x="133" y="923"/>
                      </a:lnTo>
                      <a:lnTo>
                        <a:pt x="170" y="947"/>
                      </a:lnTo>
                      <a:lnTo>
                        <a:pt x="210" y="966"/>
                      </a:lnTo>
                      <a:lnTo>
                        <a:pt x="253" y="980"/>
                      </a:lnTo>
                      <a:lnTo>
                        <a:pt x="298" y="989"/>
                      </a:lnTo>
                      <a:lnTo>
                        <a:pt x="341" y="992"/>
                      </a:lnTo>
                      <a:lnTo>
                        <a:pt x="386" y="989"/>
                      </a:lnTo>
                      <a:lnTo>
                        <a:pt x="431" y="982"/>
                      </a:lnTo>
                      <a:close/>
                    </a:path>
                  </a:pathLst>
                </a:custGeom>
                <a:solidFill>
                  <a:srgbClr val="cc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61" name=""/>
                <p:cNvSpPr/>
                <p:nvPr/>
              </p:nvSpPr>
              <p:spPr>
                <a:xfrm>
                  <a:off x="5638680" y="3497040"/>
                  <a:ext cx="1257120" cy="68580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54"/>
                      </a:solidFill>
                      <a:latin typeface="Verdana"/>
                    </a:rPr>
                    <a:t>Sistem Informasi Terpadu</a:t>
                  </a:r>
                  <a:endParaRPr b="0" lang="en-US" sz="1200" spc="-1" strike="noStrike">
                    <a:solidFill>
                      <a:srgbClr val="eaeaea"/>
                    </a:solidFill>
                    <a:latin typeface="Arial"/>
                  </a:endParaRPr>
                </a:p>
              </p:txBody>
            </p:sp>
          </p:grpSp>
          <p:sp>
            <p:nvSpPr>
              <p:cNvPr id="162" name=""/>
              <p:cNvSpPr/>
              <p:nvPr/>
            </p:nvSpPr>
            <p:spPr>
              <a:xfrm>
                <a:off x="1236600" y="5715000"/>
                <a:ext cx="7221600" cy="1143000"/>
              </a:xfrm>
              <a:custGeom>
                <a:avLst/>
                <a:gdLst/>
                <a:ahLst/>
                <a:rect l="l" t="t" r="r" b="b"/>
                <a:pathLst>
                  <a:path w="2934" h="1322">
                    <a:moveTo>
                      <a:pt x="431" y="982"/>
                    </a:moveTo>
                    <a:lnTo>
                      <a:pt x="464" y="1033"/>
                    </a:lnTo>
                    <a:lnTo>
                      <a:pt x="501" y="1081"/>
                    </a:lnTo>
                    <a:lnTo>
                      <a:pt x="544" y="1126"/>
                    </a:lnTo>
                    <a:lnTo>
                      <a:pt x="592" y="1167"/>
                    </a:lnTo>
                    <a:lnTo>
                      <a:pt x="642" y="1205"/>
                    </a:lnTo>
                    <a:lnTo>
                      <a:pt x="694" y="1236"/>
                    </a:lnTo>
                    <a:lnTo>
                      <a:pt x="750" y="1264"/>
                    </a:lnTo>
                    <a:lnTo>
                      <a:pt x="810" y="1286"/>
                    </a:lnTo>
                    <a:lnTo>
                      <a:pt x="870" y="1304"/>
                    </a:lnTo>
                    <a:lnTo>
                      <a:pt x="933" y="1315"/>
                    </a:lnTo>
                    <a:lnTo>
                      <a:pt x="995" y="1322"/>
                    </a:lnTo>
                    <a:lnTo>
                      <a:pt x="1058" y="1322"/>
                    </a:lnTo>
                    <a:lnTo>
                      <a:pt x="1121" y="1318"/>
                    </a:lnTo>
                    <a:lnTo>
                      <a:pt x="1184" y="1307"/>
                    </a:lnTo>
                    <a:lnTo>
                      <a:pt x="1244" y="1292"/>
                    </a:lnTo>
                    <a:lnTo>
                      <a:pt x="1304" y="1271"/>
                    </a:lnTo>
                    <a:lnTo>
                      <a:pt x="1362" y="1244"/>
                    </a:lnTo>
                    <a:lnTo>
                      <a:pt x="1414" y="1214"/>
                    </a:lnTo>
                    <a:lnTo>
                      <a:pt x="1467" y="1178"/>
                    </a:lnTo>
                    <a:lnTo>
                      <a:pt x="1517" y="1214"/>
                    </a:lnTo>
                    <a:lnTo>
                      <a:pt x="1572" y="1244"/>
                    </a:lnTo>
                    <a:lnTo>
                      <a:pt x="1630" y="1271"/>
                    </a:lnTo>
                    <a:lnTo>
                      <a:pt x="1688" y="1292"/>
                    </a:lnTo>
                    <a:lnTo>
                      <a:pt x="1750" y="1307"/>
                    </a:lnTo>
                    <a:lnTo>
                      <a:pt x="1811" y="1318"/>
                    </a:lnTo>
                    <a:lnTo>
                      <a:pt x="1876" y="1322"/>
                    </a:lnTo>
                    <a:lnTo>
                      <a:pt x="1939" y="1322"/>
                    </a:lnTo>
                    <a:lnTo>
                      <a:pt x="2001" y="1315"/>
                    </a:lnTo>
                    <a:lnTo>
                      <a:pt x="2064" y="1304"/>
                    </a:lnTo>
                    <a:lnTo>
                      <a:pt x="2124" y="1286"/>
                    </a:lnTo>
                    <a:lnTo>
                      <a:pt x="2182" y="1264"/>
                    </a:lnTo>
                    <a:lnTo>
                      <a:pt x="2240" y="1236"/>
                    </a:lnTo>
                    <a:lnTo>
                      <a:pt x="2292" y="1205"/>
                    </a:lnTo>
                    <a:lnTo>
                      <a:pt x="2342" y="1167"/>
                    </a:lnTo>
                    <a:lnTo>
                      <a:pt x="2390" y="1126"/>
                    </a:lnTo>
                    <a:lnTo>
                      <a:pt x="2430" y="1081"/>
                    </a:lnTo>
                    <a:lnTo>
                      <a:pt x="2470" y="1033"/>
                    </a:lnTo>
                    <a:lnTo>
                      <a:pt x="2503" y="982"/>
                    </a:lnTo>
                    <a:lnTo>
                      <a:pt x="2546" y="989"/>
                    </a:lnTo>
                    <a:lnTo>
                      <a:pt x="2591" y="992"/>
                    </a:lnTo>
                    <a:lnTo>
                      <a:pt x="2636" y="989"/>
                    </a:lnTo>
                    <a:lnTo>
                      <a:pt x="2681" y="980"/>
                    </a:lnTo>
                    <a:lnTo>
                      <a:pt x="2724" y="966"/>
                    </a:lnTo>
                    <a:lnTo>
                      <a:pt x="2764" y="947"/>
                    </a:lnTo>
                    <a:lnTo>
                      <a:pt x="2799" y="923"/>
                    </a:lnTo>
                    <a:lnTo>
                      <a:pt x="2834" y="894"/>
                    </a:lnTo>
                    <a:lnTo>
                      <a:pt x="2864" y="862"/>
                    </a:lnTo>
                    <a:lnTo>
                      <a:pt x="2889" y="826"/>
                    </a:lnTo>
                    <a:lnTo>
                      <a:pt x="2907" y="787"/>
                    </a:lnTo>
                    <a:lnTo>
                      <a:pt x="2922" y="746"/>
                    </a:lnTo>
                    <a:lnTo>
                      <a:pt x="2932" y="704"/>
                    </a:lnTo>
                    <a:lnTo>
                      <a:pt x="2934" y="662"/>
                    </a:lnTo>
                    <a:lnTo>
                      <a:pt x="2932" y="618"/>
                    </a:lnTo>
                    <a:lnTo>
                      <a:pt x="2922" y="576"/>
                    </a:lnTo>
                    <a:lnTo>
                      <a:pt x="2907" y="535"/>
                    </a:lnTo>
                    <a:lnTo>
                      <a:pt x="2889" y="496"/>
                    </a:lnTo>
                    <a:lnTo>
                      <a:pt x="2864" y="461"/>
                    </a:lnTo>
                    <a:lnTo>
                      <a:pt x="2834" y="428"/>
                    </a:lnTo>
                    <a:lnTo>
                      <a:pt x="2799" y="399"/>
                    </a:lnTo>
                    <a:lnTo>
                      <a:pt x="2764" y="375"/>
                    </a:lnTo>
                    <a:lnTo>
                      <a:pt x="2724" y="356"/>
                    </a:lnTo>
                    <a:lnTo>
                      <a:pt x="2681" y="342"/>
                    </a:lnTo>
                    <a:lnTo>
                      <a:pt x="2636" y="333"/>
                    </a:lnTo>
                    <a:lnTo>
                      <a:pt x="2591" y="330"/>
                    </a:lnTo>
                    <a:lnTo>
                      <a:pt x="2546" y="333"/>
                    </a:lnTo>
                    <a:lnTo>
                      <a:pt x="2503" y="340"/>
                    </a:lnTo>
                    <a:lnTo>
                      <a:pt x="2470" y="289"/>
                    </a:lnTo>
                    <a:lnTo>
                      <a:pt x="2430" y="241"/>
                    </a:lnTo>
                    <a:lnTo>
                      <a:pt x="2390" y="196"/>
                    </a:lnTo>
                    <a:lnTo>
                      <a:pt x="2342" y="155"/>
                    </a:lnTo>
                    <a:lnTo>
                      <a:pt x="2292" y="117"/>
                    </a:lnTo>
                    <a:lnTo>
                      <a:pt x="2240" y="86"/>
                    </a:lnTo>
                    <a:lnTo>
                      <a:pt x="2182" y="58"/>
                    </a:lnTo>
                    <a:lnTo>
                      <a:pt x="2124" y="36"/>
                    </a:lnTo>
                    <a:lnTo>
                      <a:pt x="2064" y="19"/>
                    </a:lnTo>
                    <a:lnTo>
                      <a:pt x="2001" y="7"/>
                    </a:lnTo>
                    <a:lnTo>
                      <a:pt x="1939" y="1"/>
                    </a:lnTo>
                    <a:lnTo>
                      <a:pt x="1876" y="0"/>
                    </a:lnTo>
                    <a:lnTo>
                      <a:pt x="1811" y="4"/>
                    </a:lnTo>
                    <a:lnTo>
                      <a:pt x="1750" y="15"/>
                    </a:lnTo>
                    <a:lnTo>
                      <a:pt x="1688" y="31"/>
                    </a:lnTo>
                    <a:lnTo>
                      <a:pt x="1630" y="52"/>
                    </a:lnTo>
                    <a:lnTo>
                      <a:pt x="1572" y="78"/>
                    </a:lnTo>
                    <a:lnTo>
                      <a:pt x="1517" y="108"/>
                    </a:lnTo>
                    <a:lnTo>
                      <a:pt x="1467" y="144"/>
                    </a:lnTo>
                    <a:lnTo>
                      <a:pt x="1414" y="108"/>
                    </a:lnTo>
                    <a:lnTo>
                      <a:pt x="1362" y="78"/>
                    </a:lnTo>
                    <a:lnTo>
                      <a:pt x="1304" y="52"/>
                    </a:lnTo>
                    <a:lnTo>
                      <a:pt x="1244" y="31"/>
                    </a:lnTo>
                    <a:lnTo>
                      <a:pt x="1184" y="15"/>
                    </a:lnTo>
                    <a:lnTo>
                      <a:pt x="1121" y="4"/>
                    </a:lnTo>
                    <a:lnTo>
                      <a:pt x="1058" y="0"/>
                    </a:lnTo>
                    <a:lnTo>
                      <a:pt x="995" y="1"/>
                    </a:lnTo>
                    <a:lnTo>
                      <a:pt x="933" y="7"/>
                    </a:lnTo>
                    <a:lnTo>
                      <a:pt x="870" y="19"/>
                    </a:lnTo>
                    <a:lnTo>
                      <a:pt x="810" y="36"/>
                    </a:lnTo>
                    <a:lnTo>
                      <a:pt x="750" y="58"/>
                    </a:lnTo>
                    <a:lnTo>
                      <a:pt x="694" y="86"/>
                    </a:lnTo>
                    <a:lnTo>
                      <a:pt x="642" y="117"/>
                    </a:lnTo>
                    <a:lnTo>
                      <a:pt x="592" y="155"/>
                    </a:lnTo>
                    <a:lnTo>
                      <a:pt x="544" y="196"/>
                    </a:lnTo>
                    <a:lnTo>
                      <a:pt x="501" y="241"/>
                    </a:lnTo>
                    <a:lnTo>
                      <a:pt x="464" y="289"/>
                    </a:lnTo>
                    <a:lnTo>
                      <a:pt x="431" y="340"/>
                    </a:lnTo>
                    <a:lnTo>
                      <a:pt x="386" y="333"/>
                    </a:lnTo>
                    <a:lnTo>
                      <a:pt x="341" y="330"/>
                    </a:lnTo>
                    <a:lnTo>
                      <a:pt x="298" y="333"/>
                    </a:lnTo>
                    <a:lnTo>
                      <a:pt x="253" y="342"/>
                    </a:lnTo>
                    <a:lnTo>
                      <a:pt x="210" y="356"/>
                    </a:lnTo>
                    <a:lnTo>
                      <a:pt x="170" y="375"/>
                    </a:lnTo>
                    <a:lnTo>
                      <a:pt x="133" y="399"/>
                    </a:lnTo>
                    <a:lnTo>
                      <a:pt x="100" y="428"/>
                    </a:lnTo>
                    <a:lnTo>
                      <a:pt x="70" y="461"/>
                    </a:lnTo>
                    <a:lnTo>
                      <a:pt x="45" y="496"/>
                    </a:lnTo>
                    <a:lnTo>
                      <a:pt x="25" y="535"/>
                    </a:lnTo>
                    <a:lnTo>
                      <a:pt x="10" y="576"/>
                    </a:lnTo>
                    <a:lnTo>
                      <a:pt x="2" y="618"/>
                    </a:lnTo>
                    <a:lnTo>
                      <a:pt x="0" y="662"/>
                    </a:lnTo>
                    <a:lnTo>
                      <a:pt x="2" y="704"/>
                    </a:lnTo>
                    <a:lnTo>
                      <a:pt x="10" y="746"/>
                    </a:lnTo>
                    <a:lnTo>
                      <a:pt x="25" y="787"/>
                    </a:lnTo>
                    <a:lnTo>
                      <a:pt x="45" y="826"/>
                    </a:lnTo>
                    <a:lnTo>
                      <a:pt x="70" y="862"/>
                    </a:lnTo>
                    <a:lnTo>
                      <a:pt x="100" y="894"/>
                    </a:lnTo>
                    <a:lnTo>
                      <a:pt x="133" y="923"/>
                    </a:lnTo>
                    <a:lnTo>
                      <a:pt x="170" y="947"/>
                    </a:lnTo>
                    <a:lnTo>
                      <a:pt x="210" y="966"/>
                    </a:lnTo>
                    <a:lnTo>
                      <a:pt x="253" y="980"/>
                    </a:lnTo>
                    <a:lnTo>
                      <a:pt x="298" y="989"/>
                    </a:lnTo>
                    <a:lnTo>
                      <a:pt x="341" y="992"/>
                    </a:lnTo>
                    <a:lnTo>
                      <a:pt x="386" y="989"/>
                    </a:lnTo>
                    <a:lnTo>
                      <a:pt x="431" y="982"/>
                    </a:lnTo>
                    <a:close/>
                  </a:path>
                </a:pathLst>
              </a:custGeom>
              <a:solidFill>
                <a:srgbClr val="ccffff"/>
              </a:solidFill>
              <a:ln w="648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63" name=""/>
              <p:cNvSpPr/>
              <p:nvPr/>
            </p:nvSpPr>
            <p:spPr>
              <a:xfrm>
                <a:off x="3581280" y="4525920"/>
                <a:ext cx="3429000" cy="3430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54"/>
                    </a:solidFill>
                    <a:latin typeface="Verdana"/>
                  </a:rPr>
                  <a:t>DIGITAL LIBRARY</a:t>
                </a:r>
                <a:endParaRPr b="0" lang="en-US" sz="1200" spc="-1" strike="noStrike">
                  <a:solidFill>
                    <a:srgbClr val="eaeaea"/>
                  </a:solidFill>
                  <a:latin typeface="Arial"/>
                </a:endParaRPr>
              </a:p>
            </p:txBody>
          </p:sp>
          <p:sp>
            <p:nvSpPr>
              <p:cNvPr id="164" name=""/>
              <p:cNvSpPr/>
              <p:nvPr/>
            </p:nvSpPr>
            <p:spPr>
              <a:xfrm>
                <a:off x="3179880" y="5372280"/>
                <a:ext cx="342720" cy="457200"/>
              </a:xfrm>
              <a:prstGeom prst="upArrow">
                <a:avLst>
                  <a:gd name="adj1" fmla="val 50000"/>
                  <a:gd name="adj2" fmla="val 3335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65" name=""/>
              <p:cNvSpPr/>
              <p:nvPr/>
            </p:nvSpPr>
            <p:spPr>
              <a:xfrm>
                <a:off x="3637080" y="5372280"/>
                <a:ext cx="342720" cy="457200"/>
              </a:xfrm>
              <a:prstGeom prst="upArrow">
                <a:avLst>
                  <a:gd name="adj1" fmla="val 50000"/>
                  <a:gd name="adj2" fmla="val 3335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66" name=""/>
              <p:cNvSpPr/>
              <p:nvPr/>
            </p:nvSpPr>
            <p:spPr>
              <a:xfrm>
                <a:off x="4094280" y="5372280"/>
                <a:ext cx="342720" cy="457200"/>
              </a:xfrm>
              <a:prstGeom prst="upArrow">
                <a:avLst>
                  <a:gd name="adj1" fmla="val 50000"/>
                  <a:gd name="adj2" fmla="val 3335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67" name=""/>
              <p:cNvSpPr/>
              <p:nvPr/>
            </p:nvSpPr>
            <p:spPr>
              <a:xfrm>
                <a:off x="4551480" y="5372280"/>
                <a:ext cx="342720" cy="457200"/>
              </a:xfrm>
              <a:prstGeom prst="upArrow">
                <a:avLst>
                  <a:gd name="adj1" fmla="val 50000"/>
                  <a:gd name="adj2" fmla="val 3335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68" name=""/>
              <p:cNvSpPr/>
              <p:nvPr/>
            </p:nvSpPr>
            <p:spPr>
              <a:xfrm>
                <a:off x="5008680" y="5372280"/>
                <a:ext cx="342720" cy="457200"/>
              </a:xfrm>
              <a:prstGeom prst="upArrow">
                <a:avLst>
                  <a:gd name="adj1" fmla="val 50000"/>
                  <a:gd name="adj2" fmla="val 3335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69" name=""/>
              <p:cNvSpPr/>
              <p:nvPr/>
            </p:nvSpPr>
            <p:spPr>
              <a:xfrm>
                <a:off x="5465880" y="5372280"/>
                <a:ext cx="342720" cy="457200"/>
              </a:xfrm>
              <a:prstGeom prst="upArrow">
                <a:avLst>
                  <a:gd name="adj1" fmla="val 50000"/>
                  <a:gd name="adj2" fmla="val 3335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70" name=""/>
              <p:cNvSpPr/>
              <p:nvPr/>
            </p:nvSpPr>
            <p:spPr>
              <a:xfrm>
                <a:off x="6477120" y="4906800"/>
                <a:ext cx="2036520" cy="292320"/>
              </a:xfrm>
              <a:prstGeom prst="rect">
                <a:avLst/>
              </a:prstGeom>
              <a:solidFill>
                <a:srgbClr val="ffff99"/>
              </a:solidFill>
              <a:ln w="9360">
                <a:solidFill>
                  <a:srgbClr val="000000"/>
                </a:solidFill>
                <a:prstDash val="sysDot"/>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54"/>
                    </a:solidFill>
                    <a:latin typeface="Verdana"/>
                  </a:rPr>
                  <a:t>Production House</a:t>
                </a:r>
                <a:endParaRPr b="0" lang="en-US" sz="1200" spc="-1" strike="noStrike">
                  <a:solidFill>
                    <a:srgbClr val="eaeaea"/>
                  </a:solidFill>
                  <a:latin typeface="Arial"/>
                </a:endParaRPr>
              </a:p>
            </p:txBody>
          </p:sp>
          <p:sp>
            <p:nvSpPr>
              <p:cNvPr id="171" name=""/>
              <p:cNvSpPr/>
              <p:nvPr/>
            </p:nvSpPr>
            <p:spPr>
              <a:xfrm>
                <a:off x="7086600" y="5364000"/>
                <a:ext cx="343080" cy="457200"/>
              </a:xfrm>
              <a:prstGeom prst="upArrow">
                <a:avLst>
                  <a:gd name="adj1" fmla="val 50000"/>
                  <a:gd name="adj2" fmla="val 3331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grpSp>
            <p:nvGrpSpPr>
              <p:cNvPr id="172" name=""/>
              <p:cNvGrpSpPr/>
              <p:nvPr/>
            </p:nvGrpSpPr>
            <p:grpSpPr>
              <a:xfrm>
                <a:off x="7391520" y="3230640"/>
                <a:ext cx="1523880" cy="960480"/>
                <a:chOff x="7391520" y="3230640"/>
                <a:chExt cx="1523880" cy="960480"/>
              </a:xfrm>
            </p:grpSpPr>
            <p:sp>
              <p:nvSpPr>
                <p:cNvPr id="173" name=""/>
                <p:cNvSpPr/>
                <p:nvPr/>
              </p:nvSpPr>
              <p:spPr>
                <a:xfrm>
                  <a:off x="7391520" y="3230640"/>
                  <a:ext cx="1523880" cy="960480"/>
                </a:xfrm>
                <a:custGeom>
                  <a:avLst/>
                  <a:gdLst/>
                  <a:ahLst/>
                  <a:rect l="l" t="t" r="r" b="b"/>
                  <a:pathLst>
                    <a:path w="2934" h="1322">
                      <a:moveTo>
                        <a:pt x="431" y="982"/>
                      </a:moveTo>
                      <a:lnTo>
                        <a:pt x="464" y="1033"/>
                      </a:lnTo>
                      <a:lnTo>
                        <a:pt x="501" y="1081"/>
                      </a:lnTo>
                      <a:lnTo>
                        <a:pt x="544" y="1126"/>
                      </a:lnTo>
                      <a:lnTo>
                        <a:pt x="592" y="1167"/>
                      </a:lnTo>
                      <a:lnTo>
                        <a:pt x="642" y="1205"/>
                      </a:lnTo>
                      <a:lnTo>
                        <a:pt x="694" y="1236"/>
                      </a:lnTo>
                      <a:lnTo>
                        <a:pt x="750" y="1264"/>
                      </a:lnTo>
                      <a:lnTo>
                        <a:pt x="810" y="1286"/>
                      </a:lnTo>
                      <a:lnTo>
                        <a:pt x="870" y="1304"/>
                      </a:lnTo>
                      <a:lnTo>
                        <a:pt x="933" y="1315"/>
                      </a:lnTo>
                      <a:lnTo>
                        <a:pt x="995" y="1322"/>
                      </a:lnTo>
                      <a:lnTo>
                        <a:pt x="1058" y="1322"/>
                      </a:lnTo>
                      <a:lnTo>
                        <a:pt x="1121" y="1318"/>
                      </a:lnTo>
                      <a:lnTo>
                        <a:pt x="1184" y="1307"/>
                      </a:lnTo>
                      <a:lnTo>
                        <a:pt x="1244" y="1292"/>
                      </a:lnTo>
                      <a:lnTo>
                        <a:pt x="1304" y="1271"/>
                      </a:lnTo>
                      <a:lnTo>
                        <a:pt x="1362" y="1244"/>
                      </a:lnTo>
                      <a:lnTo>
                        <a:pt x="1414" y="1214"/>
                      </a:lnTo>
                      <a:lnTo>
                        <a:pt x="1467" y="1178"/>
                      </a:lnTo>
                      <a:lnTo>
                        <a:pt x="1517" y="1214"/>
                      </a:lnTo>
                      <a:lnTo>
                        <a:pt x="1572" y="1244"/>
                      </a:lnTo>
                      <a:lnTo>
                        <a:pt x="1630" y="1271"/>
                      </a:lnTo>
                      <a:lnTo>
                        <a:pt x="1688" y="1292"/>
                      </a:lnTo>
                      <a:lnTo>
                        <a:pt x="1750" y="1307"/>
                      </a:lnTo>
                      <a:lnTo>
                        <a:pt x="1811" y="1318"/>
                      </a:lnTo>
                      <a:lnTo>
                        <a:pt x="1876" y="1322"/>
                      </a:lnTo>
                      <a:lnTo>
                        <a:pt x="1939" y="1322"/>
                      </a:lnTo>
                      <a:lnTo>
                        <a:pt x="2001" y="1315"/>
                      </a:lnTo>
                      <a:lnTo>
                        <a:pt x="2064" y="1304"/>
                      </a:lnTo>
                      <a:lnTo>
                        <a:pt x="2124" y="1286"/>
                      </a:lnTo>
                      <a:lnTo>
                        <a:pt x="2182" y="1264"/>
                      </a:lnTo>
                      <a:lnTo>
                        <a:pt x="2240" y="1236"/>
                      </a:lnTo>
                      <a:lnTo>
                        <a:pt x="2292" y="1205"/>
                      </a:lnTo>
                      <a:lnTo>
                        <a:pt x="2342" y="1167"/>
                      </a:lnTo>
                      <a:lnTo>
                        <a:pt x="2390" y="1126"/>
                      </a:lnTo>
                      <a:lnTo>
                        <a:pt x="2430" y="1081"/>
                      </a:lnTo>
                      <a:lnTo>
                        <a:pt x="2470" y="1033"/>
                      </a:lnTo>
                      <a:lnTo>
                        <a:pt x="2503" y="982"/>
                      </a:lnTo>
                      <a:lnTo>
                        <a:pt x="2546" y="989"/>
                      </a:lnTo>
                      <a:lnTo>
                        <a:pt x="2591" y="992"/>
                      </a:lnTo>
                      <a:lnTo>
                        <a:pt x="2636" y="989"/>
                      </a:lnTo>
                      <a:lnTo>
                        <a:pt x="2681" y="980"/>
                      </a:lnTo>
                      <a:lnTo>
                        <a:pt x="2724" y="966"/>
                      </a:lnTo>
                      <a:lnTo>
                        <a:pt x="2764" y="947"/>
                      </a:lnTo>
                      <a:lnTo>
                        <a:pt x="2799" y="923"/>
                      </a:lnTo>
                      <a:lnTo>
                        <a:pt x="2834" y="894"/>
                      </a:lnTo>
                      <a:lnTo>
                        <a:pt x="2864" y="862"/>
                      </a:lnTo>
                      <a:lnTo>
                        <a:pt x="2889" y="826"/>
                      </a:lnTo>
                      <a:lnTo>
                        <a:pt x="2907" y="787"/>
                      </a:lnTo>
                      <a:lnTo>
                        <a:pt x="2922" y="746"/>
                      </a:lnTo>
                      <a:lnTo>
                        <a:pt x="2932" y="704"/>
                      </a:lnTo>
                      <a:lnTo>
                        <a:pt x="2934" y="662"/>
                      </a:lnTo>
                      <a:lnTo>
                        <a:pt x="2932" y="618"/>
                      </a:lnTo>
                      <a:lnTo>
                        <a:pt x="2922" y="576"/>
                      </a:lnTo>
                      <a:lnTo>
                        <a:pt x="2907" y="535"/>
                      </a:lnTo>
                      <a:lnTo>
                        <a:pt x="2889" y="496"/>
                      </a:lnTo>
                      <a:lnTo>
                        <a:pt x="2864" y="461"/>
                      </a:lnTo>
                      <a:lnTo>
                        <a:pt x="2834" y="428"/>
                      </a:lnTo>
                      <a:lnTo>
                        <a:pt x="2799" y="399"/>
                      </a:lnTo>
                      <a:lnTo>
                        <a:pt x="2764" y="375"/>
                      </a:lnTo>
                      <a:lnTo>
                        <a:pt x="2724" y="356"/>
                      </a:lnTo>
                      <a:lnTo>
                        <a:pt x="2681" y="342"/>
                      </a:lnTo>
                      <a:lnTo>
                        <a:pt x="2636" y="333"/>
                      </a:lnTo>
                      <a:lnTo>
                        <a:pt x="2591" y="330"/>
                      </a:lnTo>
                      <a:lnTo>
                        <a:pt x="2546" y="333"/>
                      </a:lnTo>
                      <a:lnTo>
                        <a:pt x="2503" y="340"/>
                      </a:lnTo>
                      <a:lnTo>
                        <a:pt x="2470" y="289"/>
                      </a:lnTo>
                      <a:lnTo>
                        <a:pt x="2430" y="241"/>
                      </a:lnTo>
                      <a:lnTo>
                        <a:pt x="2390" y="196"/>
                      </a:lnTo>
                      <a:lnTo>
                        <a:pt x="2342" y="155"/>
                      </a:lnTo>
                      <a:lnTo>
                        <a:pt x="2292" y="117"/>
                      </a:lnTo>
                      <a:lnTo>
                        <a:pt x="2240" y="86"/>
                      </a:lnTo>
                      <a:lnTo>
                        <a:pt x="2182" y="58"/>
                      </a:lnTo>
                      <a:lnTo>
                        <a:pt x="2124" y="36"/>
                      </a:lnTo>
                      <a:lnTo>
                        <a:pt x="2064" y="19"/>
                      </a:lnTo>
                      <a:lnTo>
                        <a:pt x="2001" y="7"/>
                      </a:lnTo>
                      <a:lnTo>
                        <a:pt x="1939" y="1"/>
                      </a:lnTo>
                      <a:lnTo>
                        <a:pt x="1876" y="0"/>
                      </a:lnTo>
                      <a:lnTo>
                        <a:pt x="1811" y="4"/>
                      </a:lnTo>
                      <a:lnTo>
                        <a:pt x="1750" y="15"/>
                      </a:lnTo>
                      <a:lnTo>
                        <a:pt x="1688" y="31"/>
                      </a:lnTo>
                      <a:lnTo>
                        <a:pt x="1630" y="52"/>
                      </a:lnTo>
                      <a:lnTo>
                        <a:pt x="1572" y="78"/>
                      </a:lnTo>
                      <a:lnTo>
                        <a:pt x="1517" y="108"/>
                      </a:lnTo>
                      <a:lnTo>
                        <a:pt x="1467" y="144"/>
                      </a:lnTo>
                      <a:lnTo>
                        <a:pt x="1414" y="108"/>
                      </a:lnTo>
                      <a:lnTo>
                        <a:pt x="1362" y="78"/>
                      </a:lnTo>
                      <a:lnTo>
                        <a:pt x="1304" y="52"/>
                      </a:lnTo>
                      <a:lnTo>
                        <a:pt x="1244" y="31"/>
                      </a:lnTo>
                      <a:lnTo>
                        <a:pt x="1184" y="15"/>
                      </a:lnTo>
                      <a:lnTo>
                        <a:pt x="1121" y="4"/>
                      </a:lnTo>
                      <a:lnTo>
                        <a:pt x="1058" y="0"/>
                      </a:lnTo>
                      <a:lnTo>
                        <a:pt x="995" y="1"/>
                      </a:lnTo>
                      <a:lnTo>
                        <a:pt x="933" y="7"/>
                      </a:lnTo>
                      <a:lnTo>
                        <a:pt x="870" y="19"/>
                      </a:lnTo>
                      <a:lnTo>
                        <a:pt x="810" y="36"/>
                      </a:lnTo>
                      <a:lnTo>
                        <a:pt x="750" y="58"/>
                      </a:lnTo>
                      <a:lnTo>
                        <a:pt x="694" y="86"/>
                      </a:lnTo>
                      <a:lnTo>
                        <a:pt x="642" y="117"/>
                      </a:lnTo>
                      <a:lnTo>
                        <a:pt x="592" y="155"/>
                      </a:lnTo>
                      <a:lnTo>
                        <a:pt x="544" y="196"/>
                      </a:lnTo>
                      <a:lnTo>
                        <a:pt x="501" y="241"/>
                      </a:lnTo>
                      <a:lnTo>
                        <a:pt x="464" y="289"/>
                      </a:lnTo>
                      <a:lnTo>
                        <a:pt x="431" y="340"/>
                      </a:lnTo>
                      <a:lnTo>
                        <a:pt x="386" y="333"/>
                      </a:lnTo>
                      <a:lnTo>
                        <a:pt x="341" y="330"/>
                      </a:lnTo>
                      <a:lnTo>
                        <a:pt x="298" y="333"/>
                      </a:lnTo>
                      <a:lnTo>
                        <a:pt x="253" y="342"/>
                      </a:lnTo>
                      <a:lnTo>
                        <a:pt x="210" y="356"/>
                      </a:lnTo>
                      <a:lnTo>
                        <a:pt x="170" y="375"/>
                      </a:lnTo>
                      <a:lnTo>
                        <a:pt x="133" y="399"/>
                      </a:lnTo>
                      <a:lnTo>
                        <a:pt x="100" y="428"/>
                      </a:lnTo>
                      <a:lnTo>
                        <a:pt x="70" y="461"/>
                      </a:lnTo>
                      <a:lnTo>
                        <a:pt x="45" y="496"/>
                      </a:lnTo>
                      <a:lnTo>
                        <a:pt x="25" y="535"/>
                      </a:lnTo>
                      <a:lnTo>
                        <a:pt x="10" y="576"/>
                      </a:lnTo>
                      <a:lnTo>
                        <a:pt x="2" y="618"/>
                      </a:lnTo>
                      <a:lnTo>
                        <a:pt x="0" y="662"/>
                      </a:lnTo>
                      <a:lnTo>
                        <a:pt x="2" y="704"/>
                      </a:lnTo>
                      <a:lnTo>
                        <a:pt x="10" y="746"/>
                      </a:lnTo>
                      <a:lnTo>
                        <a:pt x="25" y="787"/>
                      </a:lnTo>
                      <a:lnTo>
                        <a:pt x="45" y="826"/>
                      </a:lnTo>
                      <a:lnTo>
                        <a:pt x="70" y="862"/>
                      </a:lnTo>
                      <a:lnTo>
                        <a:pt x="100" y="894"/>
                      </a:lnTo>
                      <a:lnTo>
                        <a:pt x="133" y="923"/>
                      </a:lnTo>
                      <a:lnTo>
                        <a:pt x="170" y="947"/>
                      </a:lnTo>
                      <a:lnTo>
                        <a:pt x="210" y="966"/>
                      </a:lnTo>
                      <a:lnTo>
                        <a:pt x="253" y="980"/>
                      </a:lnTo>
                      <a:lnTo>
                        <a:pt x="298" y="989"/>
                      </a:lnTo>
                      <a:lnTo>
                        <a:pt x="341" y="992"/>
                      </a:lnTo>
                      <a:lnTo>
                        <a:pt x="386" y="989"/>
                      </a:lnTo>
                      <a:lnTo>
                        <a:pt x="431" y="982"/>
                      </a:lnTo>
                      <a:close/>
                    </a:path>
                  </a:pathLst>
                </a:custGeom>
                <a:solidFill>
                  <a:srgbClr val="cc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74" name=""/>
                <p:cNvSpPr/>
                <p:nvPr/>
              </p:nvSpPr>
              <p:spPr>
                <a:xfrm>
                  <a:off x="7729920" y="3422520"/>
                  <a:ext cx="1072080" cy="51192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54"/>
                      </a:solidFill>
                      <a:latin typeface="Arial Narrow"/>
                    </a:rPr>
                    <a:t>Self Learning Facilities</a:t>
                  </a:r>
                  <a:endParaRPr b="0" lang="en-US" sz="1200" spc="-1" strike="noStrike">
                    <a:solidFill>
                      <a:srgbClr val="eaeaea"/>
                    </a:solidFill>
                    <a:latin typeface="Arial"/>
                  </a:endParaRPr>
                </a:p>
              </p:txBody>
            </p:sp>
          </p:grpSp>
          <p:grpSp>
            <p:nvGrpSpPr>
              <p:cNvPr id="175" name=""/>
              <p:cNvGrpSpPr/>
              <p:nvPr/>
            </p:nvGrpSpPr>
            <p:grpSpPr>
              <a:xfrm>
                <a:off x="6705720" y="3611520"/>
                <a:ext cx="1523880" cy="914400"/>
                <a:chOff x="6705720" y="3611520"/>
                <a:chExt cx="1523880" cy="914400"/>
              </a:xfrm>
            </p:grpSpPr>
            <p:sp>
              <p:nvSpPr>
                <p:cNvPr id="176" name=""/>
                <p:cNvSpPr/>
                <p:nvPr/>
              </p:nvSpPr>
              <p:spPr>
                <a:xfrm>
                  <a:off x="6705720" y="3611520"/>
                  <a:ext cx="1523880" cy="914400"/>
                </a:xfrm>
                <a:custGeom>
                  <a:avLst/>
                  <a:gdLst/>
                  <a:ahLst/>
                  <a:rect l="l" t="t" r="r" b="b"/>
                  <a:pathLst>
                    <a:path w="2934" h="1322">
                      <a:moveTo>
                        <a:pt x="431" y="982"/>
                      </a:moveTo>
                      <a:lnTo>
                        <a:pt x="464" y="1033"/>
                      </a:lnTo>
                      <a:lnTo>
                        <a:pt x="501" y="1081"/>
                      </a:lnTo>
                      <a:lnTo>
                        <a:pt x="544" y="1126"/>
                      </a:lnTo>
                      <a:lnTo>
                        <a:pt x="592" y="1167"/>
                      </a:lnTo>
                      <a:lnTo>
                        <a:pt x="642" y="1205"/>
                      </a:lnTo>
                      <a:lnTo>
                        <a:pt x="694" y="1236"/>
                      </a:lnTo>
                      <a:lnTo>
                        <a:pt x="750" y="1264"/>
                      </a:lnTo>
                      <a:lnTo>
                        <a:pt x="810" y="1286"/>
                      </a:lnTo>
                      <a:lnTo>
                        <a:pt x="870" y="1304"/>
                      </a:lnTo>
                      <a:lnTo>
                        <a:pt x="933" y="1315"/>
                      </a:lnTo>
                      <a:lnTo>
                        <a:pt x="995" y="1322"/>
                      </a:lnTo>
                      <a:lnTo>
                        <a:pt x="1058" y="1322"/>
                      </a:lnTo>
                      <a:lnTo>
                        <a:pt x="1121" y="1318"/>
                      </a:lnTo>
                      <a:lnTo>
                        <a:pt x="1184" y="1307"/>
                      </a:lnTo>
                      <a:lnTo>
                        <a:pt x="1244" y="1292"/>
                      </a:lnTo>
                      <a:lnTo>
                        <a:pt x="1304" y="1271"/>
                      </a:lnTo>
                      <a:lnTo>
                        <a:pt x="1362" y="1244"/>
                      </a:lnTo>
                      <a:lnTo>
                        <a:pt x="1414" y="1214"/>
                      </a:lnTo>
                      <a:lnTo>
                        <a:pt x="1467" y="1178"/>
                      </a:lnTo>
                      <a:lnTo>
                        <a:pt x="1517" y="1214"/>
                      </a:lnTo>
                      <a:lnTo>
                        <a:pt x="1572" y="1244"/>
                      </a:lnTo>
                      <a:lnTo>
                        <a:pt x="1630" y="1271"/>
                      </a:lnTo>
                      <a:lnTo>
                        <a:pt x="1688" y="1292"/>
                      </a:lnTo>
                      <a:lnTo>
                        <a:pt x="1750" y="1307"/>
                      </a:lnTo>
                      <a:lnTo>
                        <a:pt x="1811" y="1318"/>
                      </a:lnTo>
                      <a:lnTo>
                        <a:pt x="1876" y="1322"/>
                      </a:lnTo>
                      <a:lnTo>
                        <a:pt x="1939" y="1322"/>
                      </a:lnTo>
                      <a:lnTo>
                        <a:pt x="2001" y="1315"/>
                      </a:lnTo>
                      <a:lnTo>
                        <a:pt x="2064" y="1304"/>
                      </a:lnTo>
                      <a:lnTo>
                        <a:pt x="2124" y="1286"/>
                      </a:lnTo>
                      <a:lnTo>
                        <a:pt x="2182" y="1264"/>
                      </a:lnTo>
                      <a:lnTo>
                        <a:pt x="2240" y="1236"/>
                      </a:lnTo>
                      <a:lnTo>
                        <a:pt x="2292" y="1205"/>
                      </a:lnTo>
                      <a:lnTo>
                        <a:pt x="2342" y="1167"/>
                      </a:lnTo>
                      <a:lnTo>
                        <a:pt x="2390" y="1126"/>
                      </a:lnTo>
                      <a:lnTo>
                        <a:pt x="2430" y="1081"/>
                      </a:lnTo>
                      <a:lnTo>
                        <a:pt x="2470" y="1033"/>
                      </a:lnTo>
                      <a:lnTo>
                        <a:pt x="2503" y="982"/>
                      </a:lnTo>
                      <a:lnTo>
                        <a:pt x="2546" y="989"/>
                      </a:lnTo>
                      <a:lnTo>
                        <a:pt x="2591" y="992"/>
                      </a:lnTo>
                      <a:lnTo>
                        <a:pt x="2636" y="989"/>
                      </a:lnTo>
                      <a:lnTo>
                        <a:pt x="2681" y="980"/>
                      </a:lnTo>
                      <a:lnTo>
                        <a:pt x="2724" y="966"/>
                      </a:lnTo>
                      <a:lnTo>
                        <a:pt x="2764" y="947"/>
                      </a:lnTo>
                      <a:lnTo>
                        <a:pt x="2799" y="923"/>
                      </a:lnTo>
                      <a:lnTo>
                        <a:pt x="2834" y="894"/>
                      </a:lnTo>
                      <a:lnTo>
                        <a:pt x="2864" y="862"/>
                      </a:lnTo>
                      <a:lnTo>
                        <a:pt x="2889" y="826"/>
                      </a:lnTo>
                      <a:lnTo>
                        <a:pt x="2907" y="787"/>
                      </a:lnTo>
                      <a:lnTo>
                        <a:pt x="2922" y="746"/>
                      </a:lnTo>
                      <a:lnTo>
                        <a:pt x="2932" y="704"/>
                      </a:lnTo>
                      <a:lnTo>
                        <a:pt x="2934" y="662"/>
                      </a:lnTo>
                      <a:lnTo>
                        <a:pt x="2932" y="618"/>
                      </a:lnTo>
                      <a:lnTo>
                        <a:pt x="2922" y="576"/>
                      </a:lnTo>
                      <a:lnTo>
                        <a:pt x="2907" y="535"/>
                      </a:lnTo>
                      <a:lnTo>
                        <a:pt x="2889" y="496"/>
                      </a:lnTo>
                      <a:lnTo>
                        <a:pt x="2864" y="461"/>
                      </a:lnTo>
                      <a:lnTo>
                        <a:pt x="2834" y="428"/>
                      </a:lnTo>
                      <a:lnTo>
                        <a:pt x="2799" y="399"/>
                      </a:lnTo>
                      <a:lnTo>
                        <a:pt x="2764" y="375"/>
                      </a:lnTo>
                      <a:lnTo>
                        <a:pt x="2724" y="356"/>
                      </a:lnTo>
                      <a:lnTo>
                        <a:pt x="2681" y="342"/>
                      </a:lnTo>
                      <a:lnTo>
                        <a:pt x="2636" y="333"/>
                      </a:lnTo>
                      <a:lnTo>
                        <a:pt x="2591" y="330"/>
                      </a:lnTo>
                      <a:lnTo>
                        <a:pt x="2546" y="333"/>
                      </a:lnTo>
                      <a:lnTo>
                        <a:pt x="2503" y="340"/>
                      </a:lnTo>
                      <a:lnTo>
                        <a:pt x="2470" y="289"/>
                      </a:lnTo>
                      <a:lnTo>
                        <a:pt x="2430" y="241"/>
                      </a:lnTo>
                      <a:lnTo>
                        <a:pt x="2390" y="196"/>
                      </a:lnTo>
                      <a:lnTo>
                        <a:pt x="2342" y="155"/>
                      </a:lnTo>
                      <a:lnTo>
                        <a:pt x="2292" y="117"/>
                      </a:lnTo>
                      <a:lnTo>
                        <a:pt x="2240" y="86"/>
                      </a:lnTo>
                      <a:lnTo>
                        <a:pt x="2182" y="58"/>
                      </a:lnTo>
                      <a:lnTo>
                        <a:pt x="2124" y="36"/>
                      </a:lnTo>
                      <a:lnTo>
                        <a:pt x="2064" y="19"/>
                      </a:lnTo>
                      <a:lnTo>
                        <a:pt x="2001" y="7"/>
                      </a:lnTo>
                      <a:lnTo>
                        <a:pt x="1939" y="1"/>
                      </a:lnTo>
                      <a:lnTo>
                        <a:pt x="1876" y="0"/>
                      </a:lnTo>
                      <a:lnTo>
                        <a:pt x="1811" y="4"/>
                      </a:lnTo>
                      <a:lnTo>
                        <a:pt x="1750" y="15"/>
                      </a:lnTo>
                      <a:lnTo>
                        <a:pt x="1688" y="31"/>
                      </a:lnTo>
                      <a:lnTo>
                        <a:pt x="1630" y="52"/>
                      </a:lnTo>
                      <a:lnTo>
                        <a:pt x="1572" y="78"/>
                      </a:lnTo>
                      <a:lnTo>
                        <a:pt x="1517" y="108"/>
                      </a:lnTo>
                      <a:lnTo>
                        <a:pt x="1467" y="144"/>
                      </a:lnTo>
                      <a:lnTo>
                        <a:pt x="1414" y="108"/>
                      </a:lnTo>
                      <a:lnTo>
                        <a:pt x="1362" y="78"/>
                      </a:lnTo>
                      <a:lnTo>
                        <a:pt x="1304" y="52"/>
                      </a:lnTo>
                      <a:lnTo>
                        <a:pt x="1244" y="31"/>
                      </a:lnTo>
                      <a:lnTo>
                        <a:pt x="1184" y="15"/>
                      </a:lnTo>
                      <a:lnTo>
                        <a:pt x="1121" y="4"/>
                      </a:lnTo>
                      <a:lnTo>
                        <a:pt x="1058" y="0"/>
                      </a:lnTo>
                      <a:lnTo>
                        <a:pt x="995" y="1"/>
                      </a:lnTo>
                      <a:lnTo>
                        <a:pt x="933" y="7"/>
                      </a:lnTo>
                      <a:lnTo>
                        <a:pt x="870" y="19"/>
                      </a:lnTo>
                      <a:lnTo>
                        <a:pt x="810" y="36"/>
                      </a:lnTo>
                      <a:lnTo>
                        <a:pt x="750" y="58"/>
                      </a:lnTo>
                      <a:lnTo>
                        <a:pt x="694" y="86"/>
                      </a:lnTo>
                      <a:lnTo>
                        <a:pt x="642" y="117"/>
                      </a:lnTo>
                      <a:lnTo>
                        <a:pt x="592" y="155"/>
                      </a:lnTo>
                      <a:lnTo>
                        <a:pt x="544" y="196"/>
                      </a:lnTo>
                      <a:lnTo>
                        <a:pt x="501" y="241"/>
                      </a:lnTo>
                      <a:lnTo>
                        <a:pt x="464" y="289"/>
                      </a:lnTo>
                      <a:lnTo>
                        <a:pt x="431" y="340"/>
                      </a:lnTo>
                      <a:lnTo>
                        <a:pt x="386" y="333"/>
                      </a:lnTo>
                      <a:lnTo>
                        <a:pt x="341" y="330"/>
                      </a:lnTo>
                      <a:lnTo>
                        <a:pt x="298" y="333"/>
                      </a:lnTo>
                      <a:lnTo>
                        <a:pt x="253" y="342"/>
                      </a:lnTo>
                      <a:lnTo>
                        <a:pt x="210" y="356"/>
                      </a:lnTo>
                      <a:lnTo>
                        <a:pt x="170" y="375"/>
                      </a:lnTo>
                      <a:lnTo>
                        <a:pt x="133" y="399"/>
                      </a:lnTo>
                      <a:lnTo>
                        <a:pt x="100" y="428"/>
                      </a:lnTo>
                      <a:lnTo>
                        <a:pt x="70" y="461"/>
                      </a:lnTo>
                      <a:lnTo>
                        <a:pt x="45" y="496"/>
                      </a:lnTo>
                      <a:lnTo>
                        <a:pt x="25" y="535"/>
                      </a:lnTo>
                      <a:lnTo>
                        <a:pt x="10" y="576"/>
                      </a:lnTo>
                      <a:lnTo>
                        <a:pt x="2" y="618"/>
                      </a:lnTo>
                      <a:lnTo>
                        <a:pt x="0" y="662"/>
                      </a:lnTo>
                      <a:lnTo>
                        <a:pt x="2" y="704"/>
                      </a:lnTo>
                      <a:lnTo>
                        <a:pt x="10" y="746"/>
                      </a:lnTo>
                      <a:lnTo>
                        <a:pt x="25" y="787"/>
                      </a:lnTo>
                      <a:lnTo>
                        <a:pt x="45" y="826"/>
                      </a:lnTo>
                      <a:lnTo>
                        <a:pt x="70" y="862"/>
                      </a:lnTo>
                      <a:lnTo>
                        <a:pt x="100" y="894"/>
                      </a:lnTo>
                      <a:lnTo>
                        <a:pt x="133" y="923"/>
                      </a:lnTo>
                      <a:lnTo>
                        <a:pt x="170" y="947"/>
                      </a:lnTo>
                      <a:lnTo>
                        <a:pt x="210" y="966"/>
                      </a:lnTo>
                      <a:lnTo>
                        <a:pt x="253" y="980"/>
                      </a:lnTo>
                      <a:lnTo>
                        <a:pt x="298" y="989"/>
                      </a:lnTo>
                      <a:lnTo>
                        <a:pt x="341" y="992"/>
                      </a:lnTo>
                      <a:lnTo>
                        <a:pt x="386" y="989"/>
                      </a:lnTo>
                      <a:lnTo>
                        <a:pt x="431" y="982"/>
                      </a:lnTo>
                      <a:close/>
                    </a:path>
                  </a:pathLst>
                </a:custGeom>
                <a:solidFill>
                  <a:srgbClr val="cc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77" name=""/>
                <p:cNvSpPr/>
                <p:nvPr/>
              </p:nvSpPr>
              <p:spPr>
                <a:xfrm>
                  <a:off x="7044120" y="3794400"/>
                  <a:ext cx="1072080" cy="48744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54"/>
                      </a:solidFill>
                      <a:latin typeface="Verdana"/>
                    </a:rPr>
                    <a:t>Learning Management Systems</a:t>
                  </a:r>
                  <a:endParaRPr b="0" lang="en-US" sz="900" spc="-1" strike="noStrike">
                    <a:solidFill>
                      <a:srgbClr val="eaeaea"/>
                    </a:solidFill>
                    <a:latin typeface="Arial"/>
                  </a:endParaRPr>
                </a:p>
              </p:txBody>
            </p:sp>
          </p:grpSp>
          <p:grpSp>
            <p:nvGrpSpPr>
              <p:cNvPr id="178" name=""/>
              <p:cNvGrpSpPr/>
              <p:nvPr/>
            </p:nvGrpSpPr>
            <p:grpSpPr>
              <a:xfrm>
                <a:off x="6608880" y="4457880"/>
                <a:ext cx="1790640" cy="533160"/>
                <a:chOff x="6608880" y="4457880"/>
                <a:chExt cx="1790640" cy="533160"/>
              </a:xfrm>
            </p:grpSpPr>
            <p:sp>
              <p:nvSpPr>
                <p:cNvPr id="179" name=""/>
                <p:cNvSpPr/>
                <p:nvPr/>
              </p:nvSpPr>
              <p:spPr>
                <a:xfrm>
                  <a:off x="6608880" y="4457880"/>
                  <a:ext cx="1790640" cy="533160"/>
                </a:xfrm>
                <a:custGeom>
                  <a:avLst/>
                  <a:gdLst/>
                  <a:ahLst/>
                  <a:rect l="l" t="t" r="r" b="b"/>
                  <a:pathLst>
                    <a:path w="2934" h="1322">
                      <a:moveTo>
                        <a:pt x="431" y="982"/>
                      </a:moveTo>
                      <a:lnTo>
                        <a:pt x="464" y="1033"/>
                      </a:lnTo>
                      <a:lnTo>
                        <a:pt x="501" y="1081"/>
                      </a:lnTo>
                      <a:lnTo>
                        <a:pt x="544" y="1126"/>
                      </a:lnTo>
                      <a:lnTo>
                        <a:pt x="592" y="1167"/>
                      </a:lnTo>
                      <a:lnTo>
                        <a:pt x="642" y="1205"/>
                      </a:lnTo>
                      <a:lnTo>
                        <a:pt x="694" y="1236"/>
                      </a:lnTo>
                      <a:lnTo>
                        <a:pt x="750" y="1264"/>
                      </a:lnTo>
                      <a:lnTo>
                        <a:pt x="810" y="1286"/>
                      </a:lnTo>
                      <a:lnTo>
                        <a:pt x="870" y="1304"/>
                      </a:lnTo>
                      <a:lnTo>
                        <a:pt x="933" y="1315"/>
                      </a:lnTo>
                      <a:lnTo>
                        <a:pt x="995" y="1322"/>
                      </a:lnTo>
                      <a:lnTo>
                        <a:pt x="1058" y="1322"/>
                      </a:lnTo>
                      <a:lnTo>
                        <a:pt x="1121" y="1318"/>
                      </a:lnTo>
                      <a:lnTo>
                        <a:pt x="1184" y="1307"/>
                      </a:lnTo>
                      <a:lnTo>
                        <a:pt x="1244" y="1292"/>
                      </a:lnTo>
                      <a:lnTo>
                        <a:pt x="1304" y="1271"/>
                      </a:lnTo>
                      <a:lnTo>
                        <a:pt x="1362" y="1244"/>
                      </a:lnTo>
                      <a:lnTo>
                        <a:pt x="1414" y="1214"/>
                      </a:lnTo>
                      <a:lnTo>
                        <a:pt x="1467" y="1178"/>
                      </a:lnTo>
                      <a:lnTo>
                        <a:pt x="1517" y="1214"/>
                      </a:lnTo>
                      <a:lnTo>
                        <a:pt x="1572" y="1244"/>
                      </a:lnTo>
                      <a:lnTo>
                        <a:pt x="1630" y="1271"/>
                      </a:lnTo>
                      <a:lnTo>
                        <a:pt x="1688" y="1292"/>
                      </a:lnTo>
                      <a:lnTo>
                        <a:pt x="1750" y="1307"/>
                      </a:lnTo>
                      <a:lnTo>
                        <a:pt x="1811" y="1318"/>
                      </a:lnTo>
                      <a:lnTo>
                        <a:pt x="1876" y="1322"/>
                      </a:lnTo>
                      <a:lnTo>
                        <a:pt x="1939" y="1322"/>
                      </a:lnTo>
                      <a:lnTo>
                        <a:pt x="2001" y="1315"/>
                      </a:lnTo>
                      <a:lnTo>
                        <a:pt x="2064" y="1304"/>
                      </a:lnTo>
                      <a:lnTo>
                        <a:pt x="2124" y="1286"/>
                      </a:lnTo>
                      <a:lnTo>
                        <a:pt x="2182" y="1264"/>
                      </a:lnTo>
                      <a:lnTo>
                        <a:pt x="2240" y="1236"/>
                      </a:lnTo>
                      <a:lnTo>
                        <a:pt x="2292" y="1205"/>
                      </a:lnTo>
                      <a:lnTo>
                        <a:pt x="2342" y="1167"/>
                      </a:lnTo>
                      <a:lnTo>
                        <a:pt x="2390" y="1126"/>
                      </a:lnTo>
                      <a:lnTo>
                        <a:pt x="2430" y="1081"/>
                      </a:lnTo>
                      <a:lnTo>
                        <a:pt x="2470" y="1033"/>
                      </a:lnTo>
                      <a:lnTo>
                        <a:pt x="2503" y="982"/>
                      </a:lnTo>
                      <a:lnTo>
                        <a:pt x="2546" y="989"/>
                      </a:lnTo>
                      <a:lnTo>
                        <a:pt x="2591" y="992"/>
                      </a:lnTo>
                      <a:lnTo>
                        <a:pt x="2636" y="989"/>
                      </a:lnTo>
                      <a:lnTo>
                        <a:pt x="2681" y="980"/>
                      </a:lnTo>
                      <a:lnTo>
                        <a:pt x="2724" y="966"/>
                      </a:lnTo>
                      <a:lnTo>
                        <a:pt x="2764" y="947"/>
                      </a:lnTo>
                      <a:lnTo>
                        <a:pt x="2799" y="923"/>
                      </a:lnTo>
                      <a:lnTo>
                        <a:pt x="2834" y="894"/>
                      </a:lnTo>
                      <a:lnTo>
                        <a:pt x="2864" y="862"/>
                      </a:lnTo>
                      <a:lnTo>
                        <a:pt x="2889" y="826"/>
                      </a:lnTo>
                      <a:lnTo>
                        <a:pt x="2907" y="787"/>
                      </a:lnTo>
                      <a:lnTo>
                        <a:pt x="2922" y="746"/>
                      </a:lnTo>
                      <a:lnTo>
                        <a:pt x="2932" y="704"/>
                      </a:lnTo>
                      <a:lnTo>
                        <a:pt x="2934" y="662"/>
                      </a:lnTo>
                      <a:lnTo>
                        <a:pt x="2932" y="618"/>
                      </a:lnTo>
                      <a:lnTo>
                        <a:pt x="2922" y="576"/>
                      </a:lnTo>
                      <a:lnTo>
                        <a:pt x="2907" y="535"/>
                      </a:lnTo>
                      <a:lnTo>
                        <a:pt x="2889" y="496"/>
                      </a:lnTo>
                      <a:lnTo>
                        <a:pt x="2864" y="461"/>
                      </a:lnTo>
                      <a:lnTo>
                        <a:pt x="2834" y="428"/>
                      </a:lnTo>
                      <a:lnTo>
                        <a:pt x="2799" y="399"/>
                      </a:lnTo>
                      <a:lnTo>
                        <a:pt x="2764" y="375"/>
                      </a:lnTo>
                      <a:lnTo>
                        <a:pt x="2724" y="356"/>
                      </a:lnTo>
                      <a:lnTo>
                        <a:pt x="2681" y="342"/>
                      </a:lnTo>
                      <a:lnTo>
                        <a:pt x="2636" y="333"/>
                      </a:lnTo>
                      <a:lnTo>
                        <a:pt x="2591" y="330"/>
                      </a:lnTo>
                      <a:lnTo>
                        <a:pt x="2546" y="333"/>
                      </a:lnTo>
                      <a:lnTo>
                        <a:pt x="2503" y="340"/>
                      </a:lnTo>
                      <a:lnTo>
                        <a:pt x="2470" y="289"/>
                      </a:lnTo>
                      <a:lnTo>
                        <a:pt x="2430" y="241"/>
                      </a:lnTo>
                      <a:lnTo>
                        <a:pt x="2390" y="196"/>
                      </a:lnTo>
                      <a:lnTo>
                        <a:pt x="2342" y="155"/>
                      </a:lnTo>
                      <a:lnTo>
                        <a:pt x="2292" y="117"/>
                      </a:lnTo>
                      <a:lnTo>
                        <a:pt x="2240" y="86"/>
                      </a:lnTo>
                      <a:lnTo>
                        <a:pt x="2182" y="58"/>
                      </a:lnTo>
                      <a:lnTo>
                        <a:pt x="2124" y="36"/>
                      </a:lnTo>
                      <a:lnTo>
                        <a:pt x="2064" y="19"/>
                      </a:lnTo>
                      <a:lnTo>
                        <a:pt x="2001" y="7"/>
                      </a:lnTo>
                      <a:lnTo>
                        <a:pt x="1939" y="1"/>
                      </a:lnTo>
                      <a:lnTo>
                        <a:pt x="1876" y="0"/>
                      </a:lnTo>
                      <a:lnTo>
                        <a:pt x="1811" y="4"/>
                      </a:lnTo>
                      <a:lnTo>
                        <a:pt x="1750" y="15"/>
                      </a:lnTo>
                      <a:lnTo>
                        <a:pt x="1688" y="31"/>
                      </a:lnTo>
                      <a:lnTo>
                        <a:pt x="1630" y="52"/>
                      </a:lnTo>
                      <a:lnTo>
                        <a:pt x="1572" y="78"/>
                      </a:lnTo>
                      <a:lnTo>
                        <a:pt x="1517" y="108"/>
                      </a:lnTo>
                      <a:lnTo>
                        <a:pt x="1467" y="144"/>
                      </a:lnTo>
                      <a:lnTo>
                        <a:pt x="1414" y="108"/>
                      </a:lnTo>
                      <a:lnTo>
                        <a:pt x="1362" y="78"/>
                      </a:lnTo>
                      <a:lnTo>
                        <a:pt x="1304" y="52"/>
                      </a:lnTo>
                      <a:lnTo>
                        <a:pt x="1244" y="31"/>
                      </a:lnTo>
                      <a:lnTo>
                        <a:pt x="1184" y="15"/>
                      </a:lnTo>
                      <a:lnTo>
                        <a:pt x="1121" y="4"/>
                      </a:lnTo>
                      <a:lnTo>
                        <a:pt x="1058" y="0"/>
                      </a:lnTo>
                      <a:lnTo>
                        <a:pt x="995" y="1"/>
                      </a:lnTo>
                      <a:lnTo>
                        <a:pt x="933" y="7"/>
                      </a:lnTo>
                      <a:lnTo>
                        <a:pt x="870" y="19"/>
                      </a:lnTo>
                      <a:lnTo>
                        <a:pt x="810" y="36"/>
                      </a:lnTo>
                      <a:lnTo>
                        <a:pt x="750" y="58"/>
                      </a:lnTo>
                      <a:lnTo>
                        <a:pt x="694" y="86"/>
                      </a:lnTo>
                      <a:lnTo>
                        <a:pt x="642" y="117"/>
                      </a:lnTo>
                      <a:lnTo>
                        <a:pt x="592" y="155"/>
                      </a:lnTo>
                      <a:lnTo>
                        <a:pt x="544" y="196"/>
                      </a:lnTo>
                      <a:lnTo>
                        <a:pt x="501" y="241"/>
                      </a:lnTo>
                      <a:lnTo>
                        <a:pt x="464" y="289"/>
                      </a:lnTo>
                      <a:lnTo>
                        <a:pt x="431" y="340"/>
                      </a:lnTo>
                      <a:lnTo>
                        <a:pt x="386" y="333"/>
                      </a:lnTo>
                      <a:lnTo>
                        <a:pt x="341" y="330"/>
                      </a:lnTo>
                      <a:lnTo>
                        <a:pt x="298" y="333"/>
                      </a:lnTo>
                      <a:lnTo>
                        <a:pt x="253" y="342"/>
                      </a:lnTo>
                      <a:lnTo>
                        <a:pt x="210" y="356"/>
                      </a:lnTo>
                      <a:lnTo>
                        <a:pt x="170" y="375"/>
                      </a:lnTo>
                      <a:lnTo>
                        <a:pt x="133" y="399"/>
                      </a:lnTo>
                      <a:lnTo>
                        <a:pt x="100" y="428"/>
                      </a:lnTo>
                      <a:lnTo>
                        <a:pt x="70" y="461"/>
                      </a:lnTo>
                      <a:lnTo>
                        <a:pt x="45" y="496"/>
                      </a:lnTo>
                      <a:lnTo>
                        <a:pt x="25" y="535"/>
                      </a:lnTo>
                      <a:lnTo>
                        <a:pt x="10" y="576"/>
                      </a:lnTo>
                      <a:lnTo>
                        <a:pt x="2" y="618"/>
                      </a:lnTo>
                      <a:lnTo>
                        <a:pt x="0" y="662"/>
                      </a:lnTo>
                      <a:lnTo>
                        <a:pt x="2" y="704"/>
                      </a:lnTo>
                      <a:lnTo>
                        <a:pt x="10" y="746"/>
                      </a:lnTo>
                      <a:lnTo>
                        <a:pt x="25" y="787"/>
                      </a:lnTo>
                      <a:lnTo>
                        <a:pt x="45" y="826"/>
                      </a:lnTo>
                      <a:lnTo>
                        <a:pt x="70" y="862"/>
                      </a:lnTo>
                      <a:lnTo>
                        <a:pt x="100" y="894"/>
                      </a:lnTo>
                      <a:lnTo>
                        <a:pt x="133" y="923"/>
                      </a:lnTo>
                      <a:lnTo>
                        <a:pt x="170" y="947"/>
                      </a:lnTo>
                      <a:lnTo>
                        <a:pt x="210" y="966"/>
                      </a:lnTo>
                      <a:lnTo>
                        <a:pt x="253" y="980"/>
                      </a:lnTo>
                      <a:lnTo>
                        <a:pt x="298" y="989"/>
                      </a:lnTo>
                      <a:lnTo>
                        <a:pt x="341" y="992"/>
                      </a:lnTo>
                      <a:lnTo>
                        <a:pt x="386" y="989"/>
                      </a:lnTo>
                      <a:lnTo>
                        <a:pt x="431" y="982"/>
                      </a:lnTo>
                      <a:close/>
                    </a:path>
                  </a:pathLst>
                </a:custGeom>
                <a:solidFill>
                  <a:srgbClr val="cc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80" name=""/>
                <p:cNvSpPr/>
                <p:nvPr/>
              </p:nvSpPr>
              <p:spPr>
                <a:xfrm>
                  <a:off x="7006680" y="4564440"/>
                  <a:ext cx="1260000" cy="28404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54"/>
                      </a:solidFill>
                      <a:latin typeface="Verdana"/>
                    </a:rPr>
                    <a:t>MULTIMEDIA</a:t>
                  </a:r>
                  <a:endParaRPr b="0" lang="en-US" sz="1000" spc="-1" strike="noStrike">
                    <a:solidFill>
                      <a:srgbClr val="eaeaea"/>
                    </a:solidFill>
                    <a:latin typeface="Arial"/>
                  </a:endParaRPr>
                </a:p>
              </p:txBody>
            </p:sp>
          </p:grpSp>
        </p:grpSp>
        <p:sp>
          <p:nvSpPr>
            <p:cNvPr id="181" name=""/>
            <p:cNvSpPr/>
            <p:nvPr/>
          </p:nvSpPr>
          <p:spPr>
            <a:xfrm>
              <a:off x="2133720" y="6019920"/>
              <a:ext cx="5562360" cy="495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54"/>
                  </a:solidFill>
                  <a:latin typeface="Verdana"/>
                </a:rPr>
                <a:t>5C: Computer, Communication, Contents, ……………….COMMITMENT and CARE</a:t>
              </a:r>
              <a:endParaRPr b="0" lang="en-US" sz="1200" spc="-1" strike="noStrike">
                <a:solidFill>
                  <a:srgbClr val="eaeaea"/>
                </a:solidFill>
                <a:latin typeface="Arial"/>
              </a:endParaRPr>
            </a:p>
          </p:txBody>
        </p:sp>
      </p:grpSp>
      <p:sp>
        <p:nvSpPr>
          <p:cNvPr id="3" name="PlaceHolder 2"/>
          <p:cNvSpPr>
            <a:spLocks noGrp="1"/>
          </p:cNvSpPr>
          <p:nvPr>
            <p:ph type="sldNum" idx="3"/>
          </p:nvPr>
        </p:nvSpPr>
        <p:spPr/>
        <p:txBody>
          <a:bodyPr/>
          <a:p>
            <a:fld id="{48CEED57-CCC2-4D1C-98F5-E49C35D2C4AA}" type="slidenum">
              <a:t>10</a:t>
            </a:fld>
          </a:p>
        </p:txBody>
      </p:sp>
      <p:sp>
        <p:nvSpPr>
          <p:cNvPr id="4" name="PlaceHolder 3"/>
          <p:cNvSpPr>
            <a:spLocks noGrp="1"/>
          </p:cNvSpPr>
          <p:nvPr>
            <p:ph type="dt" idx="1"/>
          </p:nvPr>
        </p:nvSpPr>
        <p:spPr/>
        <p:txBody>
          <a:bodyPr/>
          <a:p>
            <a:fld id="{22135F72-84E7-4D4A-A337-25E3CD512301}"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762120"/>
            <a:ext cx="77724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Pelayanan INTERNET:</a:t>
            </a:r>
            <a:endParaRPr b="0" lang="en-US" sz="4400" spc="-1" strike="noStrike">
              <a:solidFill>
                <a:srgbClr val="ebd189"/>
              </a:solidFill>
              <a:latin typeface="Arial"/>
            </a:endParaRPr>
          </a:p>
        </p:txBody>
      </p:sp>
      <p:sp>
        <p:nvSpPr>
          <p:cNvPr id="183" name="PlaceHolder 2"/>
          <p:cNvSpPr>
            <a:spLocks noGrp="1"/>
          </p:cNvSpPr>
          <p:nvPr>
            <p:ph/>
          </p:nvPr>
        </p:nvSpPr>
        <p:spPr>
          <a:xfrm>
            <a:off x="990720" y="17524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t>
            </a:r>
            <a:r>
              <a:rPr b="0" lang="en-US" sz="2400" spc="-1" strike="noStrike">
                <a:solidFill>
                  <a:srgbClr val="eaeaea"/>
                </a:solidFill>
                <a:latin typeface="Arial"/>
              </a:rPr>
              <a:t>Gratis” dalam kampus</a:t>
            </a:r>
            <a:endParaRPr b="0" lang="en-US" sz="2400" spc="-1" strike="noStrike">
              <a:solidFill>
                <a:srgbClr val="eaeaea"/>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Fasilitas </a:t>
            </a:r>
            <a:r>
              <a:rPr b="0" i="1" lang="en-US" sz="2400" spc="-1" strike="noStrike">
                <a:solidFill>
                  <a:srgbClr val="eaeaea"/>
                </a:solidFill>
                <a:latin typeface="Arial"/>
              </a:rPr>
              <a:t>e-mail</a:t>
            </a:r>
            <a:r>
              <a:rPr b="0" lang="en-US" sz="2400" spc="-1" strike="noStrike">
                <a:solidFill>
                  <a:srgbClr val="eaeaea"/>
                </a:solidFill>
                <a:latin typeface="Arial"/>
              </a:rPr>
              <a:t> untuk staf, mahasiswa dan alumni (Nama_pemakai@</a:t>
            </a:r>
            <a:r>
              <a:rPr b="0" lang="en-US" sz="2800" spc="-1" strike="noStrike">
                <a:solidFill>
                  <a:srgbClr val="eaeaea"/>
                </a:solidFill>
                <a:latin typeface="Arial"/>
              </a:rPr>
              <a:t>stmik-handayani.ac.id</a:t>
            </a:r>
            <a:r>
              <a:rPr b="0" lang="en-US" sz="2400" spc="-1" strike="noStrike">
                <a:solidFill>
                  <a:srgbClr val="eaeaea"/>
                </a:solidFill>
                <a:latin typeface="Arial"/>
              </a:rPr>
              <a:t>)</a:t>
            </a:r>
            <a:endParaRPr b="0" lang="en-US" sz="2400" spc="-1" strike="noStrike">
              <a:solidFill>
                <a:srgbClr val="eaeaea"/>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Fasilitas </a:t>
            </a:r>
            <a:r>
              <a:rPr b="0" i="1" lang="en-US" sz="2400" spc="-1" strike="noStrike">
                <a:solidFill>
                  <a:srgbClr val="eaeaea"/>
                </a:solidFill>
                <a:latin typeface="Arial"/>
              </a:rPr>
              <a:t>browsing</a:t>
            </a:r>
            <a:r>
              <a:rPr b="0" lang="en-US" sz="2400" spc="-1" strike="noStrike">
                <a:solidFill>
                  <a:srgbClr val="eaeaea"/>
                </a:solidFill>
                <a:latin typeface="Arial"/>
              </a:rPr>
              <a:t> (akses ke Internet) yang cukup cepat</a:t>
            </a:r>
            <a:endParaRPr b="0" lang="en-US" sz="2400" spc="-1" strike="noStrike">
              <a:solidFill>
                <a:srgbClr val="eaeaea"/>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Website</a:t>
            </a:r>
            <a:r>
              <a:rPr b="0" lang="en-US" sz="2400" spc="-1" strike="noStrike">
                <a:solidFill>
                  <a:srgbClr val="eaeaea"/>
                </a:solidFill>
                <a:latin typeface="Arial"/>
              </a:rPr>
              <a:t> (</a:t>
            </a:r>
            <a:r>
              <a:rPr b="0" i="1" lang="en-US" sz="2400" spc="-1" strike="noStrike">
                <a:solidFill>
                  <a:srgbClr val="eaeaea"/>
                </a:solidFill>
                <a:latin typeface="Arial"/>
              </a:rPr>
              <a:t>Official Homepage</a:t>
            </a:r>
            <a:r>
              <a:rPr b="0" lang="en-US" sz="2400" spc="-1" strike="noStrike">
                <a:solidFill>
                  <a:srgbClr val="eaeaea"/>
                </a:solidFill>
                <a:latin typeface="Arial"/>
              </a:rPr>
              <a:t>: </a:t>
            </a:r>
            <a:r>
              <a:rPr b="0" lang="en-US" sz="2800" spc="-1" strike="noStrike">
                <a:solidFill>
                  <a:srgbClr val="eaeaea"/>
                </a:solidFill>
                <a:latin typeface="Arial"/>
              </a:rPr>
              <a:t>http://www.stmik-handayani.ac.id/</a:t>
            </a:r>
            <a:r>
              <a:rPr b="0" lang="en-US" sz="2400" spc="-1" strike="noStrike" u="sng">
                <a:solidFill>
                  <a:srgbClr val="b97c01"/>
                </a:solidFill>
                <a:uFillTx/>
                <a:latin typeface="Arial"/>
                <a:hlinkClick r:id="rId1"/>
              </a:rPr>
              <a:t>/</a:t>
            </a:r>
            <a:r>
              <a:rPr b="0" lang="en-US" sz="2400" spc="-1" strike="noStrike">
                <a:solidFill>
                  <a:srgbClr val="eaeaea"/>
                </a:solidFill>
                <a:latin typeface="Arial"/>
              </a:rPr>
              <a:t>) yang dapat di-akses DARI seluruh penjuru dunia, dan selalu di-</a:t>
            </a:r>
            <a:r>
              <a:rPr b="0" i="1" lang="en-US" sz="2400" spc="-1" strike="noStrike">
                <a:solidFill>
                  <a:srgbClr val="eaeaea"/>
                </a:solidFill>
                <a:latin typeface="Arial"/>
              </a:rPr>
              <a:t>update</a:t>
            </a:r>
            <a:r>
              <a:rPr b="0" lang="en-US" sz="2400" spc="-1" strike="noStrike">
                <a:solidFill>
                  <a:srgbClr val="eaeaea"/>
                </a:solidFill>
                <a:latin typeface="Arial"/>
              </a:rPr>
              <a:t> setiap saat</a:t>
            </a:r>
            <a:endParaRPr b="0" lang="en-US" sz="2400" spc="-1" strike="noStrike">
              <a:solidFill>
                <a:srgbClr val="eaeaea"/>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an lain-lain ………….</a:t>
            </a:r>
            <a:endParaRPr b="0" lang="en-US" sz="2400" spc="-1" strike="noStrike">
              <a:solidFill>
                <a:srgbClr val="eaeaea"/>
              </a:solidFill>
              <a:latin typeface="Arial"/>
            </a:endParaRPr>
          </a:p>
        </p:txBody>
      </p:sp>
      <p:sp>
        <p:nvSpPr>
          <p:cNvPr id="4" name="PlaceHolder 3"/>
          <p:cNvSpPr>
            <a:spLocks noGrp="1"/>
          </p:cNvSpPr>
          <p:nvPr>
            <p:ph type="sldNum" idx="3"/>
          </p:nvPr>
        </p:nvSpPr>
        <p:spPr/>
        <p:txBody>
          <a:bodyPr/>
          <a:p>
            <a:fld id="{91EDEB6E-E5A8-4814-8CE4-6F7268E555A1}" type="slidenum">
              <a:t>11</a:t>
            </a:fld>
          </a:p>
        </p:txBody>
      </p:sp>
      <p:sp>
        <p:nvSpPr>
          <p:cNvPr id="5" name="PlaceHolder 4"/>
          <p:cNvSpPr>
            <a:spLocks noGrp="1"/>
          </p:cNvSpPr>
          <p:nvPr>
            <p:ph type="dt" idx="1"/>
          </p:nvPr>
        </p:nvSpPr>
        <p:spPr/>
        <p:txBody>
          <a:bodyPr/>
          <a:p>
            <a:fld id="{15D23ACB-5179-4851-BE9B-B78C21389DFF}"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istem INFORMASI Terpadu</a:t>
            </a:r>
            <a:endParaRPr b="0" lang="en-US" sz="4400" spc="-1" strike="noStrike">
              <a:solidFill>
                <a:srgbClr val="ebd189"/>
              </a:solidFill>
              <a:latin typeface="Arial"/>
            </a:endParaRPr>
          </a:p>
        </p:txBody>
      </p:sp>
      <p:sp>
        <p:nvSpPr>
          <p:cNvPr id="185" name="PlaceHolder 2"/>
          <p:cNvSpPr>
            <a:spLocks noGrp="1"/>
          </p:cNvSpPr>
          <p:nvPr>
            <p:ph/>
          </p:nvPr>
        </p:nvSpPr>
        <p:spPr>
          <a:xfrm>
            <a:off x="1066680" y="1523880"/>
            <a:ext cx="7772400" cy="4267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ISTEM INFORMASI MANAJEMEN:</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istem Informasi Akademik</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istem Informasi Keuangan</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istem Informasi Kemahasiswaan</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istem Informasi Manajemen </a:t>
            </a:r>
            <a:r>
              <a:rPr b="0" i="1" lang="en-US" sz="2800" spc="-1" strike="noStrike">
                <a:solidFill>
                  <a:srgbClr val="eaeaea"/>
                </a:solidFill>
                <a:latin typeface="Arial"/>
              </a:rPr>
              <a:t>Asset</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istem Informasi SDM</a:t>
            </a: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ISTEM PENJAMINAN MUTU, MONEV, AKREDITASI, HIBAH KOMPETISI</a:t>
            </a: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ISTEM INFORMASI </a:t>
            </a:r>
            <a:r>
              <a:rPr b="0" i="1" lang="en-US" sz="2800" spc="-1" strike="noStrike">
                <a:solidFill>
                  <a:srgbClr val="eaeaea"/>
                </a:solidFill>
                <a:latin typeface="Arial"/>
              </a:rPr>
              <a:t>ON-LINE</a:t>
            </a: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
        <p:nvSpPr>
          <p:cNvPr id="4" name="PlaceHolder 3"/>
          <p:cNvSpPr>
            <a:spLocks noGrp="1"/>
          </p:cNvSpPr>
          <p:nvPr>
            <p:ph type="sldNum" idx="3"/>
          </p:nvPr>
        </p:nvSpPr>
        <p:spPr/>
        <p:txBody>
          <a:bodyPr/>
          <a:p>
            <a:fld id="{CF98AE93-0CBD-477A-9833-ED27278BE693}" type="slidenum">
              <a:t>12</a:t>
            </a:fld>
          </a:p>
        </p:txBody>
      </p:sp>
      <p:sp>
        <p:nvSpPr>
          <p:cNvPr id="5" name="PlaceHolder 4"/>
          <p:cNvSpPr>
            <a:spLocks noGrp="1"/>
          </p:cNvSpPr>
          <p:nvPr>
            <p:ph type="dt" idx="1"/>
          </p:nvPr>
        </p:nvSpPr>
        <p:spPr/>
        <p:txBody>
          <a:bodyPr/>
          <a:p>
            <a:fld id="{F7296F3B-C838-451B-AEA4-37F4A1B1F62E}"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ebd189"/>
                </a:solidFill>
                <a:latin typeface="Arial"/>
              </a:rPr>
              <a:t>E-learning</a:t>
            </a:r>
            <a:r>
              <a:rPr b="0" lang="en-US" sz="4000" spc="-1" strike="noStrike">
                <a:solidFill>
                  <a:srgbClr val="ebd189"/>
                </a:solidFill>
                <a:latin typeface="Arial"/>
              </a:rPr>
              <a:t> dan </a:t>
            </a:r>
            <a:r>
              <a:rPr b="0" i="1" lang="en-US" sz="4000" spc="-1" strike="noStrike">
                <a:solidFill>
                  <a:srgbClr val="ebd189"/>
                </a:solidFill>
                <a:latin typeface="Arial"/>
              </a:rPr>
              <a:t>Distant Learning</a:t>
            </a:r>
            <a:endParaRPr b="0" lang="en-US" sz="4000" spc="-1" strike="noStrike">
              <a:solidFill>
                <a:srgbClr val="ebd189"/>
              </a:solidFill>
              <a:latin typeface="Arial"/>
            </a:endParaRPr>
          </a:p>
        </p:txBody>
      </p:sp>
      <p:sp>
        <p:nvSpPr>
          <p:cNvPr id="18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aeaea"/>
                </a:solidFill>
                <a:latin typeface="Arial"/>
              </a:rPr>
              <a:t>Student-centered learning</a:t>
            </a:r>
            <a:r>
              <a:rPr b="0" lang="en-US" sz="3200" spc="-1" strike="noStrike">
                <a:solidFill>
                  <a:srgbClr val="eaeaea"/>
                </a:solidFill>
                <a:latin typeface="Arial"/>
              </a:rPr>
              <a:t>, </a:t>
            </a:r>
            <a:r>
              <a:rPr b="0" i="1" lang="en-US" sz="3200" spc="-1" strike="noStrike">
                <a:solidFill>
                  <a:srgbClr val="eaeaea"/>
                </a:solidFill>
                <a:latin typeface="Arial"/>
              </a:rPr>
              <a:t>self-access</a:t>
            </a:r>
            <a:r>
              <a:rPr b="0" lang="en-US" sz="3200" spc="-1" strike="noStrike">
                <a:solidFill>
                  <a:srgbClr val="eaeaea"/>
                </a:solidFill>
                <a:latin typeface="Arial"/>
              </a:rPr>
              <a:t>, belajar mandiri, sumber tak terbatas</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aeaea"/>
                </a:solidFill>
                <a:latin typeface="Arial"/>
              </a:rPr>
              <a:t>Multimedia-based</a:t>
            </a:r>
            <a:r>
              <a:rPr b="0" lang="en-US" sz="3200" spc="-1" strike="noStrike">
                <a:solidFill>
                  <a:srgbClr val="eaeaea"/>
                </a:solidFill>
                <a:latin typeface="Arial"/>
              </a:rPr>
              <a:t>, Production House, </a:t>
            </a:r>
            <a:r>
              <a:rPr b="0" i="1" lang="en-US" sz="3200" spc="-1" strike="noStrike">
                <a:solidFill>
                  <a:srgbClr val="eaeaea"/>
                </a:solidFill>
                <a:latin typeface="Arial"/>
              </a:rPr>
              <a:t>Digital Library</a:t>
            </a:r>
            <a:r>
              <a:rPr b="0" lang="en-US" sz="3200" spc="-1" strike="noStrike">
                <a:solidFill>
                  <a:srgbClr val="eaeaea"/>
                </a:solidFill>
                <a:latin typeface="Arial"/>
              </a:rPr>
              <a:t>.</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Belajar secara </a:t>
            </a:r>
            <a:r>
              <a:rPr b="0" i="1" lang="en-US" sz="3200" spc="-1" strike="noStrike">
                <a:solidFill>
                  <a:srgbClr val="eaeaea"/>
                </a:solidFill>
                <a:latin typeface="Arial"/>
              </a:rPr>
              <a:t>on-line</a:t>
            </a:r>
            <a:r>
              <a:rPr b="0" lang="en-US" sz="3200" spc="-1" strike="noStrike">
                <a:solidFill>
                  <a:srgbClr val="eaeaea"/>
                </a:solidFill>
                <a:latin typeface="Arial"/>
              </a:rPr>
              <a:t>, </a:t>
            </a:r>
            <a:r>
              <a:rPr b="0" i="1" lang="en-US" sz="3200" spc="-1" strike="noStrike">
                <a:solidFill>
                  <a:srgbClr val="eaeaea"/>
                </a:solidFill>
                <a:latin typeface="Arial"/>
              </a:rPr>
              <a:t>distant learning, credit earning systems</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i="1" lang="en-US" sz="3200" spc="-1" strike="noStrike">
                <a:solidFill>
                  <a:srgbClr val="eaeaea"/>
                </a:solidFill>
                <a:latin typeface="Arial"/>
              </a:rPr>
              <a:t>Learning Management System</a:t>
            </a:r>
            <a:endParaRPr b="0" lang="en-US" sz="3200" spc="-1" strike="noStrike">
              <a:solidFill>
                <a:srgbClr val="eaeaea"/>
              </a:solidFill>
              <a:latin typeface="Arial"/>
            </a:endParaRPr>
          </a:p>
        </p:txBody>
      </p:sp>
      <p:sp>
        <p:nvSpPr>
          <p:cNvPr id="4" name="PlaceHolder 3"/>
          <p:cNvSpPr>
            <a:spLocks noGrp="1"/>
          </p:cNvSpPr>
          <p:nvPr>
            <p:ph type="sldNum" idx="3"/>
          </p:nvPr>
        </p:nvSpPr>
        <p:spPr/>
        <p:txBody>
          <a:bodyPr/>
          <a:p>
            <a:fld id="{8E7BE07E-A2D4-4056-9B25-D681ABFA9E20}" type="slidenum">
              <a:t>13</a:t>
            </a:fld>
          </a:p>
        </p:txBody>
      </p:sp>
      <p:sp>
        <p:nvSpPr>
          <p:cNvPr id="5" name="PlaceHolder 4"/>
          <p:cNvSpPr>
            <a:spLocks noGrp="1"/>
          </p:cNvSpPr>
          <p:nvPr>
            <p:ph type="dt" idx="1"/>
          </p:nvPr>
        </p:nvSpPr>
        <p:spPr/>
        <p:txBody>
          <a:bodyPr/>
          <a:p>
            <a:fld id="{558B18D9-3125-4142-8491-9F63B7F7F75D}"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bd189"/>
                </a:solidFill>
                <a:latin typeface="Arial"/>
              </a:rPr>
              <a:t>CONTOH NYATA</a:t>
            </a:r>
            <a:endParaRPr b="0" lang="en-US" sz="5400" spc="-1" strike="noStrike">
              <a:solidFill>
                <a:srgbClr val="ebd189"/>
              </a:solidFill>
              <a:latin typeface="Arial"/>
            </a:endParaRPr>
          </a:p>
        </p:txBody>
      </p:sp>
      <p:sp>
        <p:nvSpPr>
          <p:cNvPr id="189"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b97c01"/>
                </a:solidFill>
                <a:uFillTx/>
                <a:latin typeface="Arial"/>
                <a:hlinkClick r:id="rId1"/>
              </a:rPr>
              <a:t>Politeknik</a:t>
            </a:r>
            <a:r>
              <a:rPr b="0" lang="en-US" sz="3200" spc="-1" strike="noStrike" u="sng">
                <a:solidFill>
                  <a:srgbClr val="b97c01"/>
                </a:solidFill>
                <a:uFillTx/>
                <a:latin typeface="Arial"/>
                <a:hlinkClick r:id="rId2"/>
              </a:rPr>
              <a:t> </a:t>
            </a:r>
            <a:r>
              <a:rPr b="0" lang="en-US" sz="3200" spc="-1" strike="noStrike" u="sng">
                <a:solidFill>
                  <a:srgbClr val="b97c01"/>
                </a:solidFill>
                <a:uFillTx/>
                <a:latin typeface="Arial"/>
                <a:hlinkClick r:id="rId3"/>
              </a:rPr>
              <a:t>Informatika</a:t>
            </a:r>
            <a:r>
              <a:rPr b="0" lang="en-US" sz="3200" spc="-1" strike="noStrike" u="sng">
                <a:solidFill>
                  <a:srgbClr val="b97c01"/>
                </a:solidFill>
                <a:uFillTx/>
                <a:latin typeface="Arial"/>
                <a:hlinkClick r:id="rId4"/>
              </a:rPr>
              <a:t> DEL </a:t>
            </a:r>
            <a:r>
              <a:rPr b="0" lang="en-US" sz="3200" spc="-1" strike="noStrike" u="sng">
                <a:solidFill>
                  <a:srgbClr val="b97c01"/>
                </a:solidFill>
                <a:uFillTx/>
                <a:latin typeface="Arial"/>
                <a:hlinkClick r:id="rId5"/>
              </a:rPr>
              <a:t>di</a:t>
            </a:r>
            <a:r>
              <a:rPr b="0" lang="en-US" sz="3200" spc="-1" strike="noStrike" u="sng">
                <a:solidFill>
                  <a:srgbClr val="b97c01"/>
                </a:solidFill>
                <a:uFillTx/>
                <a:latin typeface="Arial"/>
                <a:hlinkClick r:id="rId6"/>
              </a:rPr>
              <a:t> </a:t>
            </a:r>
            <a:r>
              <a:rPr b="0" lang="en-US" sz="3200" spc="-1" strike="noStrike" u="sng">
                <a:solidFill>
                  <a:srgbClr val="b97c01"/>
                </a:solidFill>
                <a:uFillTx/>
                <a:latin typeface="Arial"/>
                <a:hlinkClick r:id="rId7"/>
              </a:rPr>
              <a:t>Sumatera</a:t>
            </a:r>
            <a:r>
              <a:rPr b="0" lang="en-US" sz="3200" spc="-1" strike="noStrike" u="sng">
                <a:solidFill>
                  <a:srgbClr val="b97c01"/>
                </a:solidFill>
                <a:uFillTx/>
                <a:latin typeface="Arial"/>
                <a:hlinkClick r:id="rId8"/>
              </a:rPr>
              <a:t> </a:t>
            </a:r>
            <a:r>
              <a:rPr b="0" lang="en-US" sz="3200" spc="-1" strike="noStrike" u="sng">
                <a:solidFill>
                  <a:srgbClr val="b97c01"/>
                </a:solidFill>
                <a:uFillTx/>
                <a:latin typeface="Arial"/>
                <a:hlinkClick r:id="rId9"/>
              </a:rPr>
              <a:t>Utara</a:t>
            </a:r>
            <a:r>
              <a:rPr b="0" lang="en-US" sz="3200" spc="-1" strike="noStrike">
                <a:solidFill>
                  <a:srgbClr val="eaeaea"/>
                </a:solidFill>
                <a:latin typeface="Arial"/>
              </a:rPr>
              <a:t>:</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LOKASI di Internet:</a:t>
            </a:r>
            <a:endParaRPr b="0" lang="en-US" sz="3200" spc="-1" strike="noStrike">
              <a:solidFill>
                <a:srgbClr val="eaeaea"/>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Arial"/>
              </a:rPr>
              <a:t>http://www.pidel.org/</a:t>
            </a:r>
            <a:endParaRPr b="0" lang="en-US" sz="40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LOKASI di BUMI …………………</a:t>
            </a:r>
            <a:endParaRPr b="0" lang="en-US" sz="3200" spc="-1" strike="noStrike">
              <a:solidFill>
                <a:srgbClr val="eaeaea"/>
              </a:solidFill>
              <a:latin typeface="Arial"/>
            </a:endParaRPr>
          </a:p>
        </p:txBody>
      </p:sp>
      <p:sp>
        <p:nvSpPr>
          <p:cNvPr id="4" name="PlaceHolder 3"/>
          <p:cNvSpPr>
            <a:spLocks noGrp="1"/>
          </p:cNvSpPr>
          <p:nvPr>
            <p:ph type="sldNum" idx="3"/>
          </p:nvPr>
        </p:nvSpPr>
        <p:spPr/>
        <p:txBody>
          <a:bodyPr/>
          <a:p>
            <a:fld id="{3AD7A47E-706C-4EE4-B6D6-3368890C1130}" type="slidenum">
              <a:t>14</a:t>
            </a:fld>
          </a:p>
        </p:txBody>
      </p:sp>
      <p:sp>
        <p:nvSpPr>
          <p:cNvPr id="5" name="PlaceHolder 4"/>
          <p:cNvSpPr>
            <a:spLocks noGrp="1"/>
          </p:cNvSpPr>
          <p:nvPr>
            <p:ph type="dt" idx="1"/>
          </p:nvPr>
        </p:nvSpPr>
        <p:spPr/>
        <p:txBody>
          <a:bodyPr/>
          <a:p>
            <a:fld id="{C66D09B6-8475-4ACC-9B7A-2CBB5F6C98F3}"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	</a:t>
            </a:r>
            <a:r>
              <a:rPr b="0" lang="en-US" sz="1600" spc="-1" strike="noStrike">
                <a:solidFill>
                  <a:srgbClr val="eaeaea"/>
                </a:solidFill>
                <a:latin typeface="Arial"/>
              </a:rPr>
              <a:t>Lokasi PI-Del</a:t>
            </a:r>
            <a:r>
              <a:rPr b="0" lang="es-ES" sz="1600" spc="-1" strike="noStrike">
                <a:solidFill>
                  <a:srgbClr val="eaeaea"/>
                </a:solidFill>
                <a:latin typeface="Arial"/>
              </a:rPr>
              <a:t>Politeknik Informatika Del berlokasi di Sitoluama, Laguboti, Toba Samosir, Sumatera Utara. Letaknya </a:t>
            </a:r>
            <a:r>
              <a:rPr b="1" lang="es-ES" sz="1600" spc="-1" strike="noStrike">
                <a:solidFill>
                  <a:srgbClr val="eaeaea"/>
                </a:solidFill>
                <a:latin typeface="Arial"/>
              </a:rPr>
              <a:t>persis di pinggir danau Toba</a:t>
            </a:r>
            <a:r>
              <a:rPr b="0" lang="es-ES" sz="1600" spc="-1" strike="noStrike">
                <a:solidFill>
                  <a:srgbClr val="eaeaea"/>
                </a:solidFill>
                <a:latin typeface="Arial"/>
              </a:rPr>
              <a:t>. Berjarak kira-kira </a:t>
            </a:r>
            <a:r>
              <a:rPr b="1" lang="es-ES" sz="1600" spc="-1" strike="noStrike">
                <a:solidFill>
                  <a:srgbClr val="eaeaea"/>
                </a:solidFill>
                <a:latin typeface="Arial"/>
              </a:rPr>
              <a:t>200 s/d 250 KM dari Medan</a:t>
            </a:r>
            <a:r>
              <a:rPr b="0" lang="es-ES" sz="1600" spc="-1" strike="noStrike">
                <a:solidFill>
                  <a:srgbClr val="eaeaea"/>
                </a:solidFill>
                <a:latin typeface="Arial"/>
              </a:rPr>
              <a:t>, 10 KM dari Balige. Pemilihan tempat yang "</a:t>
            </a:r>
            <a:r>
              <a:rPr b="1" i="1" lang="es-ES" sz="1600" spc="-1" strike="noStrike">
                <a:solidFill>
                  <a:srgbClr val="eaeaea"/>
                </a:solidFill>
                <a:latin typeface="Arial"/>
              </a:rPr>
              <a:t>remote area</a:t>
            </a:r>
            <a:r>
              <a:rPr b="0" lang="es-ES" sz="1600" spc="-1" strike="noStrike">
                <a:solidFill>
                  <a:srgbClr val="eaeaea"/>
                </a:solidFill>
                <a:latin typeface="Arial"/>
              </a:rPr>
              <a:t>" bertujuan agar proses pendidikan benar-benar terfocus dan tidak terpengaruh oleh kegiatan atau aktifitas luar/perkotaan pada umumnya. Sementara untuk </a:t>
            </a:r>
            <a:r>
              <a:rPr b="1" lang="es-ES" sz="1600" spc="-1" strike="noStrike">
                <a:solidFill>
                  <a:srgbClr val="eaeaea"/>
                </a:solidFill>
                <a:latin typeface="Arial"/>
              </a:rPr>
              <a:t>akses informasi</a:t>
            </a:r>
            <a:r>
              <a:rPr b="0" lang="es-ES" sz="1600" spc="-1" strike="noStrike">
                <a:solidFill>
                  <a:srgbClr val="eaeaea"/>
                </a:solidFill>
                <a:latin typeface="Arial"/>
              </a:rPr>
              <a:t> dari luar dapat dilakukan dengan </a:t>
            </a:r>
            <a:r>
              <a:rPr b="1" lang="es-ES" sz="1600" spc="-1" strike="noStrike">
                <a:solidFill>
                  <a:srgbClr val="eaeaea"/>
                </a:solidFill>
                <a:latin typeface="Arial"/>
              </a:rPr>
              <a:t>Internet dan TV Satelit (Kabel</a:t>
            </a:r>
            <a:r>
              <a:rPr b="0" lang="es-ES" sz="1600" spc="-1" strike="noStrike">
                <a:solidFill>
                  <a:srgbClr val="eaeaea"/>
                </a:solidFill>
                <a:latin typeface="Arial"/>
              </a:rPr>
              <a:t>). Pemilihan lokasi di pinggir danau Toba agar suasana iklim mendukung proses pendidikan yang lebih baik. Dengan demikian juga, arsitektur dari setiap bangunan diusahakan ergonomis sehingga menumbuhkan suasana betah untuk berada di kampus. Alamat Lengkap Politeknik Informatika Del: Politeknik Informatika DEL</a:t>
            </a:r>
            <a:br>
              <a:rPr sz="1600"/>
            </a:br>
            <a:br>
              <a:rPr sz="1600"/>
            </a:br>
            <a:r>
              <a:rPr b="0" lang="es-ES" sz="1200" spc="-1" strike="noStrike">
                <a:solidFill>
                  <a:srgbClr val="eaeaea"/>
                </a:solidFill>
                <a:latin typeface="Arial"/>
              </a:rPr>
              <a:t>Jl. Sisingamangaraja, Sitoluama</a:t>
            </a:r>
            <a:br>
              <a:rPr sz="1200"/>
            </a:br>
            <a:r>
              <a:rPr b="0" lang="es-ES" sz="1200" spc="-1" strike="noStrike">
                <a:solidFill>
                  <a:srgbClr val="eaeaea"/>
                </a:solidFill>
                <a:latin typeface="Arial"/>
              </a:rPr>
              <a:t>Laguboti, Kab. </a:t>
            </a:r>
            <a:r>
              <a:rPr b="0" lang="en-US" sz="1200" spc="-1" strike="noStrike">
                <a:solidFill>
                  <a:srgbClr val="eaeaea"/>
                </a:solidFill>
                <a:latin typeface="Arial"/>
              </a:rPr>
              <a:t>Tobasa</a:t>
            </a:r>
            <a:br>
              <a:rPr sz="1200"/>
            </a:br>
            <a:r>
              <a:rPr b="0" lang="en-US" sz="1200" spc="-1" strike="noStrike">
                <a:solidFill>
                  <a:srgbClr val="eaeaea"/>
                </a:solidFill>
                <a:latin typeface="Arial"/>
              </a:rPr>
              <a:t>SUMUT, Indonesia</a:t>
            </a:r>
            <a:br>
              <a:rPr sz="1200"/>
            </a:br>
            <a:r>
              <a:rPr b="0" lang="en-US" sz="1200" spc="-1" strike="noStrike">
                <a:solidFill>
                  <a:srgbClr val="eaeaea"/>
                </a:solidFill>
                <a:latin typeface="Arial"/>
              </a:rPr>
              <a:t>KODE POS: 22381</a:t>
            </a:r>
            <a:br>
              <a:rPr sz="1200"/>
            </a:br>
            <a:br>
              <a:rPr sz="1200"/>
            </a:br>
            <a:r>
              <a:rPr b="0" lang="en-US" sz="1200" spc="-1" strike="noStrike" u="sng">
                <a:solidFill>
                  <a:srgbClr val="b97c01"/>
                </a:solidFill>
                <a:uFillTx/>
                <a:latin typeface="Arial"/>
                <a:hlinkClick r:id="rId1"/>
              </a:rPr>
              <a:t>http://www.pidel.org</a:t>
            </a:r>
            <a:br>
              <a:rPr sz="1200"/>
            </a:br>
            <a:r>
              <a:rPr b="0" lang="en-US" sz="1200" spc="-1" strike="noStrike">
                <a:solidFill>
                  <a:srgbClr val="eaeaea"/>
                </a:solidFill>
                <a:latin typeface="Arial"/>
              </a:rPr>
              <a:t>email : </a:t>
            </a:r>
            <a:r>
              <a:rPr b="0" lang="en-US" sz="1200" spc="-1" strike="noStrike" u="sng">
                <a:solidFill>
                  <a:srgbClr val="b97c01"/>
                </a:solidFill>
                <a:uFillTx/>
                <a:latin typeface="Arial"/>
                <a:hlinkClick r:id="rId2"/>
              </a:rPr>
              <a:t>info@del.ac.id</a:t>
            </a:r>
            <a:endParaRPr b="0" lang="en-US" sz="1200" spc="-1" strike="noStrike">
              <a:solidFill>
                <a:srgbClr val="eaeaea"/>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600" spc="-1" strike="noStrike" u="sng">
                <a:solidFill>
                  <a:srgbClr val="b97c01"/>
                </a:solidFill>
                <a:uFillTx/>
                <a:latin typeface="Arial"/>
                <a:hlinkClick r:id="rId3"/>
              </a:rPr>
              <a:t>BROSUR</a:t>
            </a:r>
            <a:endParaRPr b="0" lang="en-US" sz="1600" spc="-1" strike="noStrike">
              <a:solidFill>
                <a:srgbClr val="eaeaea"/>
              </a:solidFill>
              <a:latin typeface="Arial"/>
            </a:endParaRPr>
          </a:p>
        </p:txBody>
      </p:sp>
      <p:sp>
        <p:nvSpPr>
          <p:cNvPr id="191" name="PlaceHolder 2"/>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LOKASI PIDEL</a:t>
            </a:r>
            <a:endParaRPr b="0" lang="en-US" sz="4400" spc="-1" strike="noStrike">
              <a:solidFill>
                <a:srgbClr val="ebd189"/>
              </a:solidFill>
              <a:latin typeface="Arial"/>
            </a:endParaRPr>
          </a:p>
        </p:txBody>
      </p:sp>
      <p:pic>
        <p:nvPicPr>
          <p:cNvPr id="192" name="" descr=""/>
          <p:cNvPicPr/>
          <p:nvPr/>
        </p:nvPicPr>
        <p:blipFill>
          <a:blip r:embed="rId4"/>
          <a:stretch/>
        </p:blipFill>
        <p:spPr>
          <a:xfrm>
            <a:off x="6172200" y="4038480"/>
            <a:ext cx="1371600" cy="1298520"/>
          </a:xfrm>
          <a:prstGeom prst="rect">
            <a:avLst/>
          </a:prstGeom>
          <a:ln w="0">
            <a:noFill/>
          </a:ln>
        </p:spPr>
      </p:pic>
      <p:pic>
        <p:nvPicPr>
          <p:cNvPr id="193" name="" descr=""/>
          <p:cNvPicPr/>
          <p:nvPr/>
        </p:nvPicPr>
        <p:blipFill>
          <a:blip r:embed="rId5"/>
          <a:stretch/>
        </p:blipFill>
        <p:spPr>
          <a:xfrm>
            <a:off x="6781680" y="228600"/>
            <a:ext cx="1295640" cy="1352520"/>
          </a:xfrm>
          <a:prstGeom prst="rect">
            <a:avLst/>
          </a:prstGeom>
          <a:ln w="0">
            <a:noFill/>
          </a:ln>
        </p:spPr>
      </p:pic>
      <p:pic>
        <p:nvPicPr>
          <p:cNvPr id="194" name="" descr=""/>
          <p:cNvPicPr/>
          <p:nvPr/>
        </p:nvPicPr>
        <p:blipFill>
          <a:blip r:embed="rId6"/>
          <a:stretch/>
        </p:blipFill>
        <p:spPr>
          <a:xfrm>
            <a:off x="5410080" y="228600"/>
            <a:ext cx="1333800" cy="1333440"/>
          </a:xfrm>
          <a:prstGeom prst="rect">
            <a:avLst/>
          </a:prstGeom>
          <a:ln w="0">
            <a:noFill/>
          </a:ln>
        </p:spPr>
      </p:pic>
      <p:sp>
        <p:nvSpPr>
          <p:cNvPr id="4" name="PlaceHolder 3"/>
          <p:cNvSpPr>
            <a:spLocks noGrp="1"/>
          </p:cNvSpPr>
          <p:nvPr>
            <p:ph type="sldNum" idx="3"/>
          </p:nvPr>
        </p:nvSpPr>
        <p:spPr/>
        <p:txBody>
          <a:bodyPr/>
          <a:p>
            <a:fld id="{9B278277-227B-4D77-8405-5876B5429841}" type="slidenum">
              <a:t>15</a:t>
            </a:fld>
          </a:p>
        </p:txBody>
      </p:sp>
      <p:sp>
        <p:nvSpPr>
          <p:cNvPr id="5" name="PlaceHolder 4"/>
          <p:cNvSpPr>
            <a:spLocks noGrp="1"/>
          </p:cNvSpPr>
          <p:nvPr>
            <p:ph type="dt" idx="1"/>
          </p:nvPr>
        </p:nvSpPr>
        <p:spPr/>
        <p:txBody>
          <a:bodyPr/>
          <a:p>
            <a:fld id="{936AF61A-5F55-42C0-9A9D-42EFBA66D454}"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95" name=""/>
          <p:cNvSpPr txBox="1"/>
          <p:nvPr/>
        </p:nvSpPr>
        <p:spPr>
          <a:xfrm>
            <a:off x="2133720" y="1219320"/>
            <a:ext cx="4647960" cy="15415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SELESAI</a:t>
            </a:r>
            <a:endParaRPr b="0"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196" name=""/>
          <p:cNvSpPr txBox="1"/>
          <p:nvPr/>
        </p:nvSpPr>
        <p:spPr>
          <a:xfrm>
            <a:off x="3657600" y="3352680"/>
            <a:ext cx="175248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Times New Roman"/>
              </a:rPr>
              <a:t>The END</a:t>
            </a:r>
            <a:endParaRPr b="0" lang="en-US" sz="2400" spc="1" strike="noStrike">
              <a:ln w="9360">
                <a:solidFill>
                  <a:srgbClr val="008000"/>
                </a:solidFill>
                <a:miter/>
              </a:ln>
              <a:blipFill rotWithShape="0">
                <a:blip r:embed="rId4"/>
                <a:srcRect/>
                <a:tile tx="0" ty="0" sx="100000" sy="100000" algn="ctr"/>
              </a:blipFill>
              <a:effectLst>
                <a:outerShdw dist="153753" dir="2700000" blurRad="0" rotWithShape="0">
                  <a:srgbClr val="c7dfd3"/>
                </a:outerShdw>
              </a:effectLst>
              <a:latin typeface="Times New Roman"/>
              <a:ea typeface="Times New Roman"/>
            </a:endParaRPr>
          </a:p>
        </p:txBody>
      </p:sp>
      <p:sp>
        <p:nvSpPr>
          <p:cNvPr id="197" name="PlaceHolder 1"/>
          <p:cNvSpPr>
            <a:spLocks noGrp="1"/>
          </p:cNvSpPr>
          <p:nvPr>
            <p:ph type="title"/>
          </p:nvPr>
        </p:nvSpPr>
        <p:spPr>
          <a:xfrm>
            <a:off x="4952520" y="3657240"/>
            <a:ext cx="358164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HE END</a:t>
            </a:r>
            <a:endParaRPr b="0" lang="en-US" sz="4400" spc="-1" strike="noStrike">
              <a:solidFill>
                <a:srgbClr val="ebd189"/>
              </a:solidFill>
              <a:latin typeface="Arial"/>
            </a:endParaRPr>
          </a:p>
        </p:txBody>
      </p:sp>
      <p:sp>
        <p:nvSpPr>
          <p:cNvPr id="3" name="PlaceHolder 2"/>
          <p:cNvSpPr>
            <a:spLocks noGrp="1"/>
          </p:cNvSpPr>
          <p:nvPr>
            <p:ph type="sldNum" idx="6"/>
          </p:nvPr>
        </p:nvSpPr>
        <p:spPr/>
        <p:txBody>
          <a:bodyPr/>
          <a:p>
            <a:fld id="{0F078BF3-058B-41D5-AD6A-BFA24AF1F61E}" type="slidenum">
              <a:t>16</a:t>
            </a:fld>
          </a:p>
        </p:txBody>
      </p:sp>
      <p:sp>
        <p:nvSpPr>
          <p:cNvPr id="4" name="PlaceHolder 3"/>
          <p:cNvSpPr>
            <a:spLocks noGrp="1"/>
          </p:cNvSpPr>
          <p:nvPr>
            <p:ph type="dt" idx="4"/>
          </p:nvPr>
        </p:nvSpPr>
        <p:spPr/>
        <p:txBody>
          <a:bodyPr/>
          <a:p>
            <a:fld id="{D2676E55-C4E6-49CD-A49E-50E213B25D11}" type="datetime1">
              <a:rPr lang="en-US"/>
              <a:t>07/30/26</a:t>
            </a:fld>
          </a:p>
        </p:txBody>
      </p:sp>
    </p:spTree>
  </p:cSld>
  <p:transition spd="slow" advTm="31000">
    <p:wipe dir="r"/>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4" presetSubtype="5">
                                  <p:stCondLst>
                                    <p:cond delay="0"/>
                                  </p:stCondLst>
                                  <p:childTnLst>
                                    <p:audio isNarration="0">
                                      <p:cMediaNode showWhenStopped="1">
                                        <p:cTn/>
                                        <p:tgtEl>
                                          <p:sndTgt r:embed="rId5" name="applause.wav"/>
                                        </p:tgtEl>
                                      </p:cMediaNode>
                                    </p:audio>
                                    <p:set>
                                      <p:cBhvr>
                                        <p:cTn id="82" dur="1" fill="hold">
                                          <p:stCondLst>
                                            <p:cond delay="0"/>
                                          </p:stCondLst>
                                        </p:cTn>
                                        <p:tgtEl>
                                          <p:spTgt spid="195"/>
                                        </p:tgtEl>
                                        <p:attrNameLst>
                                          <p:attrName>style.visibility</p:attrName>
                                        </p:attrNameLst>
                                      </p:cBhvr>
                                      <p:to>
                                        <p:strVal val="visible"/>
                                      </p:to>
                                    </p:set>
                                    <p:animEffect filter="randombar(vertical)" transition="in">
                                      <p:cBhvr additive="repl">
                                        <p:cTn id="83" dur="500"/>
                                        <p:tgtEl>
                                          <p:spTgt spid="195"/>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5">
                                  <p:stCondLst>
                                    <p:cond delay="0"/>
                                  </p:stCondLst>
                                  <p:childTnLst>
                                    <p:audio isNarration="0">
                                      <p:cMediaNode showWhenStopped="1">
                                        <p:cTn/>
                                        <p:tgtEl>
                                          <p:sndTgt r:embed="rId6" name="applause.wav"/>
                                        </p:tgtEl>
                                      </p:cMediaNode>
                                    </p:audio>
                                    <p:set>
                                      <p:cBhvr>
                                        <p:cTn id="87" dur="1" fill="hold">
                                          <p:stCondLst>
                                            <p:cond delay="0"/>
                                          </p:stCondLst>
                                        </p:cTn>
                                        <p:tgtEl>
                                          <p:spTgt spid="196"/>
                                        </p:tgtEl>
                                        <p:attrNameLst>
                                          <p:attrName>style.visibility</p:attrName>
                                        </p:attrNameLst>
                                      </p:cBhvr>
                                      <p:to>
                                        <p:strVal val="visible"/>
                                      </p:to>
                                    </p:set>
                                    <p:anim calcmode="lin" valueType="num">
                                      <p:cBhvr additive="repl">
                                        <p:cTn id="88" dur="1000" fill="hold"/>
                                        <p:tgtEl>
                                          <p:spTgt spid="196"/>
                                        </p:tgtEl>
                                        <p:attrNameLst>
                                          <p:attrName>ppt_w</p:attrName>
                                        </p:attrNameLst>
                                      </p:cBhvr>
                                      <p:tavLst>
                                        <p:tav tm="0">
                                          <p:val>
                                            <p:fltVal val="0"/>
                                          </p:val>
                                        </p:tav>
                                        <p:tav tm="100000">
                                          <p:val>
                                            <p:strVal val="#ppt_w"/>
                                          </p:val>
                                        </p:tav>
                                      </p:tavLst>
                                    </p:anim>
                                    <p:anim calcmode="lin" valueType="num">
                                      <p:cBhvr additive="repl">
                                        <p:cTn id="89" dur="1000" fill="hold"/>
                                        <p:tgtEl>
                                          <p:spTgt spid="196"/>
                                        </p:tgtEl>
                                        <p:attrNameLst>
                                          <p:attrName>ppt_h</p:attrName>
                                        </p:attrNameLst>
                                      </p:cBhvr>
                                      <p:tavLst>
                                        <p:tav tm="0">
                                          <p:val>
                                            <p:fltVal val="0"/>
                                          </p:val>
                                        </p:tav>
                                        <p:tav tm="100000">
                                          <p:val>
                                            <p:strVal val="#ppt_h"/>
                                          </p:val>
                                        </p:tav>
                                      </p:tavLst>
                                    </p:anim>
                                    <p:anim calcmode="lin" valueType="num">
                                      <p:cBhvr additive="repl">
                                        <p:cTn id="90" dur="1000" fill="hold"/>
                                        <p:tgtEl>
                                          <p:spTgt spid="196"/>
                                        </p:tgtEl>
                                        <p:attrNameLst>
                                          <p:attrName>ppt_x</p:attrName>
                                        </p:attrNameLst>
                                      </p:cBhvr>
                                      <p:tavLst>
                                        <p:tav fmla="x+(cos(-2*pi*(1-$))*-x-sin(-2*pi*(1-$))*(1-y))*(1-$)" tm="0">
                                          <p:val>
                                            <p:fltVal val="0"/>
                                          </p:val>
                                        </p:tav>
                                        <p:tav fmla="x+(cos(-2*pi*(1-$))*-x-sin(-2*pi*(1-$))*(1-y))*(1-$)" tm="100000">
                                          <p:val>
                                            <p:fltVal val="1"/>
                                          </p:val>
                                        </p:tav>
                                      </p:tavLst>
                                    </p:anim>
                                    <p:anim calcmode="lin" valueType="num">
                                      <p:cBhvr additive="repl">
                                        <p:cTn id="91" dur="1000" fill="hold"/>
                                        <p:tgtEl>
                                          <p:spTgt spid="19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3000" y="609120"/>
            <a:ext cx="7772400" cy="1752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189"/>
                </a:solidFill>
                <a:latin typeface="Arial"/>
              </a:rPr>
              <a:t>Selamat Datang Mahasiswa Baru STMIK Handayani MAKASSAR Angkatan 2006 !</a:t>
            </a:r>
            <a:endParaRPr b="0" lang="en-US" sz="4000" spc="-1" strike="noStrike">
              <a:solidFill>
                <a:srgbClr val="ebd189"/>
              </a:solidFill>
              <a:latin typeface="Arial"/>
            </a:endParaRPr>
          </a:p>
        </p:txBody>
      </p:sp>
      <p:sp>
        <p:nvSpPr>
          <p:cNvPr id="104" name="PlaceHolder 2"/>
          <p:cNvSpPr>
            <a:spLocks noGrp="1"/>
          </p:cNvSpPr>
          <p:nvPr>
            <p:ph/>
          </p:nvPr>
        </p:nvSpPr>
        <p:spPr>
          <a:xfrm>
            <a:off x="1066680" y="2666880"/>
            <a:ext cx="7772400" cy="373392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engenal STMIK Handayani di </a:t>
            </a:r>
            <a:r>
              <a:rPr b="0" lang="en-US" sz="3200" spc="-1" strike="noStrike" u="sng">
                <a:solidFill>
                  <a:srgbClr val="b97c01"/>
                </a:solidFill>
                <a:uFillTx/>
                <a:latin typeface="Arial"/>
                <a:hlinkClick r:id="rId1"/>
              </a:rPr>
              <a:t>INTERNET</a:t>
            </a:r>
            <a:r>
              <a:rPr b="0" lang="en-US" sz="3200" spc="-1" strike="noStrike">
                <a:solidFill>
                  <a:srgbClr val="eaeaea"/>
                </a:solidFill>
                <a:latin typeface="Arial"/>
              </a:rPr>
              <a:t>:</a:t>
            </a:r>
            <a:endParaRPr b="0" lang="en-US" sz="3200" spc="-1" strike="noStrike">
              <a:solidFill>
                <a:srgbClr val="eaeaea"/>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http://www.stmik-handayani.ac.id/</a:t>
            </a:r>
            <a:endParaRPr b="0" lang="en-US" sz="3200" spc="-1" strike="noStrike">
              <a:solidFill>
                <a:srgbClr val="eaeaea"/>
              </a:solidFill>
              <a:latin typeface="Arial"/>
            </a:endParaRPr>
          </a:p>
        </p:txBody>
      </p:sp>
      <p:sp>
        <p:nvSpPr>
          <p:cNvPr id="4" name="PlaceHolder 3"/>
          <p:cNvSpPr>
            <a:spLocks noGrp="1"/>
          </p:cNvSpPr>
          <p:nvPr>
            <p:ph type="sldNum" idx="3"/>
          </p:nvPr>
        </p:nvSpPr>
        <p:spPr/>
        <p:txBody>
          <a:bodyPr/>
          <a:p>
            <a:fld id="{06AC9D35-6348-4AAF-A5F9-5B2FCD420415}" type="slidenum">
              <a:t>2</a:t>
            </a:fld>
          </a:p>
        </p:txBody>
      </p:sp>
      <p:sp>
        <p:nvSpPr>
          <p:cNvPr id="5" name="PlaceHolder 4"/>
          <p:cNvSpPr>
            <a:spLocks noGrp="1"/>
          </p:cNvSpPr>
          <p:nvPr>
            <p:ph type="dt" idx="1"/>
          </p:nvPr>
        </p:nvSpPr>
        <p:spPr/>
        <p:txBody>
          <a:bodyPr/>
          <a:p>
            <a:fld id="{8686C15F-85E9-4F4E-8E71-6C4754593E02}"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18960" y="533160"/>
            <a:ext cx="7086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ekilas Sejarah Peradaban</a:t>
            </a:r>
            <a:endParaRPr b="0" lang="en-US" sz="4400" spc="-1" strike="noStrike">
              <a:solidFill>
                <a:srgbClr val="ebd189"/>
              </a:solidFill>
              <a:latin typeface="Arial"/>
            </a:endParaRPr>
          </a:p>
        </p:txBody>
      </p:sp>
      <p:graphicFrame>
        <p:nvGraphicFramePr>
          <p:cNvPr id="106" name=""/>
          <p:cNvGraphicFramePr/>
          <p:nvPr/>
        </p:nvGraphicFramePr>
        <p:xfrm>
          <a:off x="304920" y="1752480"/>
          <a:ext cx="8381880" cy="3834000"/>
        </p:xfrm>
        <a:graphic>
          <a:graphicData uri="http://schemas.openxmlformats.org/drawingml/2006/table">
            <a:tbl>
              <a:tblPr/>
              <a:tblGrid>
                <a:gridCol w="2793960"/>
                <a:gridCol w="2793960"/>
                <a:gridCol w="2793960"/>
              </a:tblGrid>
              <a:tr h="75888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ra Peradaban</a:t>
                      </a:r>
                      <a:endParaRPr b="0" lang="en-US" sz="2800" spc="-1" strike="noStrike">
                        <a:solidFill>
                          <a:srgbClr val="eaeaea"/>
                        </a:solidFill>
                        <a:latin typeface="Arial"/>
                      </a:endParaRPr>
                    </a:p>
                  </a:txBody>
                  <a:tcPr anchor="ctr"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ssue Sentral</a:t>
                      </a:r>
                      <a:endParaRPr b="0" lang="en-US" sz="2800" spc="-1" strike="noStrike">
                        <a:solidFill>
                          <a:srgbClr val="eaeaea"/>
                        </a:solidFill>
                        <a:latin typeface="Arial"/>
                      </a:endParaRPr>
                    </a:p>
                  </a:txBody>
                  <a:tcPr anchor="ctr"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eristiwa Dahsyat</a:t>
                      </a:r>
                      <a:endParaRPr b="0" lang="en-US" sz="2400" spc="-1" strike="noStrike">
                        <a:solidFill>
                          <a:srgbClr val="eaeaea"/>
                        </a:solidFill>
                        <a:latin typeface="Arial"/>
                      </a:endParaRPr>
                    </a:p>
                  </a:txBody>
                  <a:tcPr anchor="ctr" marL="90000" marR="90000">
                    <a:lnL w="5760">
                      <a:solidFill>
                        <a:srgbClr val="eaeaea"/>
                      </a:solidFill>
                    </a:lnL>
                    <a:lnR w="13680">
                      <a:solidFill>
                        <a:srgbClr val="eaeaea"/>
                      </a:solidFill>
                    </a:lnR>
                    <a:lnT w="13680">
                      <a:solidFill>
                        <a:srgbClr val="eaeaea"/>
                      </a:solidFill>
                    </a:lnT>
                    <a:lnB w="5760">
                      <a:solidFill>
                        <a:srgbClr val="eaeaea"/>
                      </a:solidFill>
                    </a:lnB>
                    <a:noFill/>
                  </a:tcPr>
                </a:tc>
              </a:tr>
              <a:tr h="119124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ERTANIAN</a:t>
                      </a:r>
                      <a:endParaRPr b="0" lang="en-US" sz="2800" spc="-1" strike="noStrike">
                        <a:solidFill>
                          <a:srgbClr val="eaeaea"/>
                        </a:solidFill>
                        <a:latin typeface="Arial"/>
                      </a:endParaRPr>
                    </a:p>
                  </a:txBody>
                  <a:tcPr anchor="ctr"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LAHAN TANAM</a:t>
                      </a:r>
                      <a:endParaRPr b="0" lang="en-US" sz="2800" spc="-1" strike="noStrike">
                        <a:solidFill>
                          <a:srgbClr val="eaeaea"/>
                        </a:solidFill>
                        <a:latin typeface="Arial"/>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VOLUSI SOSIAL dan KEMERDEKAAN</a:t>
                      </a:r>
                      <a:endParaRPr b="0" lang="en-US" sz="2400" spc="-1" strike="noStrike">
                        <a:solidFill>
                          <a:srgbClr val="eaeaea"/>
                        </a:solidFill>
                        <a:latin typeface="Arial"/>
                      </a:endParaRPr>
                    </a:p>
                  </a:txBody>
                  <a:tcPr anchor="ctr"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DUSTRI</a:t>
                      </a:r>
                      <a:endParaRPr b="0" lang="en-US" sz="2800" spc="-1" strike="noStrike">
                        <a:solidFill>
                          <a:srgbClr val="eaeaea"/>
                        </a:solidFill>
                        <a:latin typeface="Arial"/>
                      </a:endParaRPr>
                    </a:p>
                  </a:txBody>
                  <a:tcPr anchor="ctr"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NERGI</a:t>
                      </a:r>
                      <a:endParaRPr b="0" lang="en-US" sz="2800" spc="-1" strike="noStrike">
                        <a:solidFill>
                          <a:srgbClr val="eaeaea"/>
                        </a:solidFill>
                        <a:latin typeface="Arial"/>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IROSHIMA NAGASAKI</a:t>
                      </a:r>
                      <a:endParaRPr b="0" lang="en-US" sz="2800" spc="-1" strike="noStrike">
                        <a:solidFill>
                          <a:srgbClr val="eaeaea"/>
                        </a:solidFill>
                        <a:latin typeface="Arial"/>
                      </a:endParaRPr>
                    </a:p>
                  </a:txBody>
                  <a:tcPr anchor="ctr" marL="90000" marR="90000">
                    <a:lnL w="5760">
                      <a:solidFill>
                        <a:srgbClr val="eaeaea"/>
                      </a:solidFill>
                    </a:lnL>
                    <a:lnR w="13680">
                      <a:solidFill>
                        <a:srgbClr val="eaeaea"/>
                      </a:solidFill>
                    </a:lnR>
                    <a:lnT w="5760">
                      <a:solidFill>
                        <a:srgbClr val="eaeaea"/>
                      </a:solidFill>
                    </a:lnT>
                    <a:lnB w="5760">
                      <a:solidFill>
                        <a:srgbClr val="eaeaea"/>
                      </a:solidFill>
                    </a:lnB>
                    <a:noFill/>
                  </a:tcPr>
                </a:tc>
              </a:tr>
              <a:tr h="9367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FORMASI</a:t>
                      </a:r>
                      <a:endParaRPr b="0" lang="en-US" sz="2800" spc="-1" strike="noStrike">
                        <a:solidFill>
                          <a:srgbClr val="eaeaea"/>
                        </a:solidFill>
                        <a:latin typeface="Arial"/>
                      </a:endParaRPr>
                    </a:p>
                  </a:txBody>
                  <a:tcPr anchor="ctr"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FORMASI</a:t>
                      </a:r>
                      <a:endParaRPr b="0" lang="en-US" sz="2800" spc="-1" strike="noStrike">
                        <a:solidFill>
                          <a:srgbClr val="eaeaea"/>
                        </a:solidFill>
                        <a:latin typeface="Arial"/>
                      </a:endParaRPr>
                    </a:p>
                  </a:txBody>
                  <a:tcPr anchor="ctr"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TC 911</a:t>
                      </a:r>
                      <a:endParaRPr b="0" lang="en-US" sz="2800" spc="-1" strike="noStrike">
                        <a:solidFill>
                          <a:srgbClr val="eaeaea"/>
                        </a:solidFill>
                        <a:latin typeface="Arial"/>
                      </a:endParaRPr>
                    </a:p>
                  </a:txBody>
                  <a:tcPr anchor="ctr"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3" name="PlaceHolder 2"/>
          <p:cNvSpPr>
            <a:spLocks noGrp="1"/>
          </p:cNvSpPr>
          <p:nvPr>
            <p:ph type="sldNum" idx="3"/>
          </p:nvPr>
        </p:nvSpPr>
        <p:spPr/>
        <p:txBody>
          <a:bodyPr/>
          <a:p>
            <a:fld id="{773D47D0-395D-4A23-B64E-DC8B731573BE}" type="slidenum">
              <a:t>3</a:t>
            </a:fld>
          </a:p>
        </p:txBody>
      </p:sp>
      <p:sp>
        <p:nvSpPr>
          <p:cNvPr id="4" name="PlaceHolder 3"/>
          <p:cNvSpPr>
            <a:spLocks noGrp="1"/>
          </p:cNvSpPr>
          <p:nvPr>
            <p:ph type="dt" idx="1"/>
          </p:nvPr>
        </p:nvSpPr>
        <p:spPr/>
        <p:txBody>
          <a:bodyPr/>
          <a:p>
            <a:fld id="{BFA9FDF6-BE52-403E-9B8B-87623BFE828E}" type="datetime1">
              <a:rPr lang="en-US"/>
              <a:t>07/30/26</a:t>
            </a:fld>
          </a:p>
        </p:txBody>
      </p:sp>
    </p:spTree>
  </p:cSld>
  <p:transition spd="slow" advTm="60000">
    <p:wipe dir="r"/>
  </p:transition>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2" presetSubtype="8">
                                  <p:stCondLst>
                                    <p:cond delay="0"/>
                                  </p:stCondLst>
                                  <p:childTnLst>
                                    <p:set>
                                      <p:cBhvr>
                                        <p:cTn id="17" dur="1" fill="hold">
                                          <p:stCondLst>
                                            <p:cond delay="0"/>
                                          </p:stCondLst>
                                        </p:cTn>
                                        <p:tgtEl>
                                          <p:spTgt spid="105"/>
                                        </p:tgtEl>
                                        <p:attrNameLst>
                                          <p:attrName>style.visibility</p:attrName>
                                        </p:attrNameLst>
                                      </p:cBhvr>
                                      <p:to>
                                        <p:strVal val="visible"/>
                                      </p:to>
                                    </p:set>
                                    <p:anim calcmode="lin" valueType="num">
                                      <p:cBhvr additive="base">
                                        <p:cTn id="18" dur="500" fill="hold"/>
                                        <p:tgtEl>
                                          <p:spTgt spid="105"/>
                                        </p:tgtEl>
                                        <p:attrNameLst>
                                          <p:attrName>ppt_x</p:attrName>
                                        </p:attrNameLst>
                                      </p:cBhvr>
                                      <p:tavLst>
                                        <p:tav tm="0">
                                          <p:val>
                                            <p:strVal val="0-#ppt_w/2"/>
                                          </p:val>
                                        </p:tav>
                                        <p:tav tm="100000">
                                          <p:val>
                                            <p:strVal val="#ppt_x"/>
                                          </p:val>
                                        </p:tav>
                                      </p:tavLst>
                                    </p:anim>
                                    <p:anim calcmode="lin" valueType="num">
                                      <p:cBhvr additive="base">
                                        <p:cTn id="19"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106"/>
                                        </p:tgtEl>
                                        <p:attrNameLst>
                                          <p:attrName>style.visibility</p:attrName>
                                        </p:attrNameLst>
                                      </p:cBhvr>
                                      <p:to>
                                        <p:strVal val="visible"/>
                                      </p:to>
                                    </p:set>
                                    <p:anim calcmode="lin" valueType="num">
                                      <p:cBhvr additive="base">
                                        <p:cTn id="24" dur="500" fill="hold"/>
                                        <p:tgtEl>
                                          <p:spTgt spid="106"/>
                                        </p:tgtEl>
                                        <p:attrNameLst>
                                          <p:attrName>ppt_x</p:attrName>
                                        </p:attrNameLst>
                                      </p:cBhvr>
                                      <p:tavLst>
                                        <p:tav tm="0">
                                          <p:val>
                                            <p:strVal val="0-#ppt_w/2"/>
                                          </p:val>
                                        </p:tav>
                                        <p:tav tm="100000">
                                          <p:val>
                                            <p:strVal val="#ppt_x"/>
                                          </p:val>
                                        </p:tav>
                                      </p:tavLst>
                                    </p:anim>
                                    <p:anim calcmode="lin" valueType="num">
                                      <p:cBhvr additive="base">
                                        <p:cTn id="25" dur="500" fill="hold"/>
                                        <p:tgtEl>
                                          <p:spTgt spid="1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477120" y="0"/>
            <a:ext cx="266688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TC 911</a:t>
            </a:r>
            <a:endParaRPr b="0" lang="en-US" sz="4400" spc="-1" strike="noStrike">
              <a:solidFill>
                <a:srgbClr val="ebd189"/>
              </a:solidFill>
              <a:latin typeface="Arial"/>
            </a:endParaRPr>
          </a:p>
        </p:txBody>
      </p:sp>
      <p:pic>
        <p:nvPicPr>
          <p:cNvPr id="108" name="" descr=""/>
          <p:cNvPicPr/>
          <p:nvPr/>
        </p:nvPicPr>
        <p:blipFill>
          <a:blip r:embed="rId1"/>
          <a:stretch/>
        </p:blipFill>
        <p:spPr>
          <a:xfrm>
            <a:off x="0" y="0"/>
            <a:ext cx="3787920" cy="6858000"/>
          </a:xfrm>
          <a:prstGeom prst="rect">
            <a:avLst/>
          </a:prstGeom>
          <a:ln w="0">
            <a:noFill/>
          </a:ln>
        </p:spPr>
      </p:pic>
      <p:pic>
        <p:nvPicPr>
          <p:cNvPr id="109" name="" descr=""/>
          <p:cNvPicPr/>
          <p:nvPr/>
        </p:nvPicPr>
        <p:blipFill>
          <a:blip r:embed="rId2"/>
          <a:stretch/>
        </p:blipFill>
        <p:spPr>
          <a:xfrm>
            <a:off x="3809880" y="3543480"/>
            <a:ext cx="5334120" cy="3314520"/>
          </a:xfrm>
          <a:prstGeom prst="rect">
            <a:avLst/>
          </a:prstGeom>
          <a:ln w="0">
            <a:noFill/>
          </a:ln>
        </p:spPr>
      </p:pic>
      <p:pic>
        <p:nvPicPr>
          <p:cNvPr id="110" name="" descr=""/>
          <p:cNvPicPr/>
          <p:nvPr/>
        </p:nvPicPr>
        <p:blipFill>
          <a:blip r:embed="rId3"/>
          <a:stretch/>
        </p:blipFill>
        <p:spPr>
          <a:xfrm>
            <a:off x="3809880" y="1219320"/>
            <a:ext cx="3733920" cy="2306520"/>
          </a:xfrm>
          <a:prstGeom prst="rect">
            <a:avLst/>
          </a:prstGeom>
          <a:ln w="0">
            <a:noFill/>
          </a:ln>
        </p:spPr>
      </p:pic>
      <p:sp>
        <p:nvSpPr>
          <p:cNvPr id="3" name="PlaceHolder 2"/>
          <p:cNvSpPr>
            <a:spLocks noGrp="1"/>
          </p:cNvSpPr>
          <p:nvPr>
            <p:ph type="sldNum" idx="3"/>
          </p:nvPr>
        </p:nvSpPr>
        <p:spPr/>
        <p:txBody>
          <a:bodyPr/>
          <a:p>
            <a:fld id="{6BC4ED75-CB9F-4CBA-91BE-126053F9DDDB}" type="slidenum">
              <a:t>4</a:t>
            </a:fld>
          </a:p>
        </p:txBody>
      </p:sp>
      <p:sp>
        <p:nvSpPr>
          <p:cNvPr id="4" name="PlaceHolder 3"/>
          <p:cNvSpPr>
            <a:spLocks noGrp="1"/>
          </p:cNvSpPr>
          <p:nvPr>
            <p:ph type="dt" idx="1"/>
          </p:nvPr>
        </p:nvSpPr>
        <p:spPr/>
        <p:txBody>
          <a:bodyPr/>
          <a:p>
            <a:fld id="{35BE688A-1B15-4238-BCDA-45E0BE61B2B5}" type="datetime1">
              <a:rPr lang="en-US"/>
              <a:t>07/30/26</a:t>
            </a:fld>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499"/>
                                          </p:stCondLst>
                                        </p:cTn>
                                        <p:tgtEl>
                                          <p:spTgt spid="107"/>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108"/>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499"/>
                                          </p:stCondLst>
                                        </p:cTn>
                                        <p:tgtEl>
                                          <p:spTgt spid="110"/>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499"/>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2209680"/>
            <a:ext cx="3735360" cy="4191120"/>
          </a:xfrm>
          <a:prstGeom prst="rect">
            <a:avLst/>
          </a:prstGeom>
          <a:ln w="0">
            <a:noFill/>
          </a:ln>
        </p:spPr>
      </p:pic>
      <p:pic>
        <p:nvPicPr>
          <p:cNvPr id="112" name="" descr=""/>
          <p:cNvPicPr/>
          <p:nvPr/>
        </p:nvPicPr>
        <p:blipFill>
          <a:blip r:embed="rId2"/>
          <a:stretch/>
        </p:blipFill>
        <p:spPr>
          <a:xfrm>
            <a:off x="3759120" y="0"/>
            <a:ext cx="2911680" cy="4381560"/>
          </a:xfrm>
          <a:prstGeom prst="rect">
            <a:avLst/>
          </a:prstGeom>
          <a:ln w="0">
            <a:noFill/>
          </a:ln>
        </p:spPr>
      </p:pic>
      <p:pic>
        <p:nvPicPr>
          <p:cNvPr id="113" name="" descr=""/>
          <p:cNvPicPr/>
          <p:nvPr/>
        </p:nvPicPr>
        <p:blipFill>
          <a:blip r:embed="rId3"/>
          <a:stretch/>
        </p:blipFill>
        <p:spPr>
          <a:xfrm>
            <a:off x="6676920" y="1371600"/>
            <a:ext cx="2467080" cy="4324320"/>
          </a:xfrm>
          <a:prstGeom prst="rect">
            <a:avLst/>
          </a:prstGeom>
          <a:ln w="0">
            <a:noFill/>
          </a:ln>
        </p:spPr>
      </p:pic>
      <p:sp>
        <p:nvSpPr>
          <p:cNvPr id="114" name="PlaceHolder 1"/>
          <p:cNvSpPr>
            <a:spLocks noGrp="1"/>
          </p:cNvSpPr>
          <p:nvPr>
            <p:ph type="title"/>
          </p:nvPr>
        </p:nvSpPr>
        <p:spPr>
          <a:xfrm>
            <a:off x="6705360" y="-360"/>
            <a:ext cx="243828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TC 911</a:t>
            </a:r>
            <a:endParaRPr b="0" lang="en-US" sz="4400" spc="-1" strike="noStrike">
              <a:solidFill>
                <a:srgbClr val="ebd189"/>
              </a:solidFill>
              <a:latin typeface="Arial"/>
            </a:endParaRPr>
          </a:p>
        </p:txBody>
      </p:sp>
      <p:sp>
        <p:nvSpPr>
          <p:cNvPr id="3" name="PlaceHolder 2"/>
          <p:cNvSpPr>
            <a:spLocks noGrp="1"/>
          </p:cNvSpPr>
          <p:nvPr>
            <p:ph type="sldNum" idx="3"/>
          </p:nvPr>
        </p:nvSpPr>
        <p:spPr/>
        <p:txBody>
          <a:bodyPr/>
          <a:p>
            <a:fld id="{7A2D0FF0-033A-4CB1-872D-4C703FF467ED}" type="slidenum">
              <a:t>5</a:t>
            </a:fld>
          </a:p>
        </p:txBody>
      </p:sp>
      <p:sp>
        <p:nvSpPr>
          <p:cNvPr id="4" name="PlaceHolder 3"/>
          <p:cNvSpPr>
            <a:spLocks noGrp="1"/>
          </p:cNvSpPr>
          <p:nvPr>
            <p:ph type="dt" idx="1"/>
          </p:nvPr>
        </p:nvSpPr>
        <p:spPr/>
        <p:txBody>
          <a:bodyPr/>
          <a:p>
            <a:fld id="{87C58C8E-4F32-4481-8BD1-C881DAE7CAC9}" type="datetime1">
              <a:rPr lang="en-US"/>
              <a:t>07/30/26</a:t>
            </a:fld>
          </a:p>
        </p:txBody>
      </p:sp>
    </p:spTree>
  </p:cSld>
  <p:transition spd="med">
    <p:wipe dir="r"/>
  </p:transition>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114"/>
                                        </p:tgtEl>
                                        <p:attrNameLst>
                                          <p:attrName>style.visibility</p:attrName>
                                        </p:attrNameLst>
                                      </p:cBhvr>
                                      <p:to>
                                        <p:strVal val="visible"/>
                                      </p:to>
                                    </p:set>
                                    <p:anim calcmode="lin" valueType="num">
                                      <p:cBhvr additive="base">
                                        <p:cTn id="50" dur="500" fill="hold"/>
                                        <p:tgtEl>
                                          <p:spTgt spid="114"/>
                                        </p:tgtEl>
                                        <p:attrNameLst>
                                          <p:attrName>ppt_x</p:attrName>
                                        </p:attrNameLst>
                                      </p:cBhvr>
                                      <p:tavLst>
                                        <p:tav tm="0">
                                          <p:val>
                                            <p:strVal val="0-#ppt_w/2"/>
                                          </p:val>
                                        </p:tav>
                                        <p:tav tm="100000">
                                          <p:val>
                                            <p:strVal val="#ppt_x"/>
                                          </p:val>
                                        </p:tav>
                                      </p:tavLst>
                                    </p:anim>
                                    <p:anim calcmode="lin" valueType="num">
                                      <p:cBhvr additive="base">
                                        <p:cTn id="51"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111"/>
                                        </p:tgtEl>
                                        <p:attrNameLst>
                                          <p:attrName>style.visibility</p:attrName>
                                        </p:attrNameLst>
                                      </p:cBhvr>
                                      <p:to>
                                        <p:strVal val="visible"/>
                                      </p:to>
                                    </p:set>
                                    <p:anim calcmode="lin" valueType="num">
                                      <p:cBhvr additive="base">
                                        <p:cTn id="56" dur="500" fill="hold"/>
                                        <p:tgtEl>
                                          <p:spTgt spid="111"/>
                                        </p:tgtEl>
                                        <p:attrNameLst>
                                          <p:attrName>ppt_x</p:attrName>
                                        </p:attrNameLst>
                                      </p:cBhvr>
                                      <p:tavLst>
                                        <p:tav tm="0">
                                          <p:val>
                                            <p:strVal val="0-#ppt_w/2"/>
                                          </p:val>
                                        </p:tav>
                                        <p:tav tm="100000">
                                          <p:val>
                                            <p:strVal val="#ppt_x"/>
                                          </p:val>
                                        </p:tav>
                                      </p:tavLst>
                                    </p:anim>
                                    <p:anim calcmode="lin" valueType="num">
                                      <p:cBhvr additive="base">
                                        <p:cTn id="57"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112"/>
                                        </p:tgtEl>
                                        <p:attrNameLst>
                                          <p:attrName>style.visibility</p:attrName>
                                        </p:attrNameLst>
                                      </p:cBhvr>
                                      <p:to>
                                        <p:strVal val="visible"/>
                                      </p:to>
                                    </p:set>
                                    <p:anim calcmode="lin" valueType="num">
                                      <p:cBhvr additive="base">
                                        <p:cTn id="62" dur="500" fill="hold"/>
                                        <p:tgtEl>
                                          <p:spTgt spid="112"/>
                                        </p:tgtEl>
                                        <p:attrNameLst>
                                          <p:attrName>ppt_x</p:attrName>
                                        </p:attrNameLst>
                                      </p:cBhvr>
                                      <p:tavLst>
                                        <p:tav tm="0">
                                          <p:val>
                                            <p:strVal val="0-#ppt_w/2"/>
                                          </p:val>
                                        </p:tav>
                                        <p:tav tm="100000">
                                          <p:val>
                                            <p:strVal val="#ppt_x"/>
                                          </p:val>
                                        </p:tav>
                                      </p:tavLst>
                                    </p:anim>
                                    <p:anim calcmode="lin" valueType="num">
                                      <p:cBhvr additive="base">
                                        <p:cTn id="63"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113"/>
                                        </p:tgtEl>
                                        <p:attrNameLst>
                                          <p:attrName>style.visibility</p:attrName>
                                        </p:attrNameLst>
                                      </p:cBhvr>
                                      <p:to>
                                        <p:strVal val="visible"/>
                                      </p:to>
                                    </p:set>
                                    <p:anim calcmode="lin" valueType="num">
                                      <p:cBhvr additive="base">
                                        <p:cTn id="68" dur="500" fill="hold"/>
                                        <p:tgtEl>
                                          <p:spTgt spid="113"/>
                                        </p:tgtEl>
                                        <p:attrNameLst>
                                          <p:attrName>ppt_x</p:attrName>
                                        </p:attrNameLst>
                                      </p:cBhvr>
                                      <p:tavLst>
                                        <p:tav tm="0">
                                          <p:val>
                                            <p:strVal val="0-#ppt_w/2"/>
                                          </p:val>
                                        </p:tav>
                                        <p:tav tm="100000">
                                          <p:val>
                                            <p:strVal val="#ppt_x"/>
                                          </p:val>
                                        </p:tav>
                                      </p:tavLst>
                                    </p:anim>
                                    <p:anim calcmode="lin" valueType="num">
                                      <p:cBhvr additive="base">
                                        <p:cTn id="69" dur="500" fill="hold"/>
                                        <p:tgtEl>
                                          <p:spTgt spid="1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762120" y="609480"/>
            <a:ext cx="7848360" cy="5940720"/>
          </a:xfrm>
          <a:prstGeom prst="rect">
            <a:avLst/>
          </a:prstGeom>
          <a:ln w="0">
            <a:noFill/>
          </a:ln>
        </p:spPr>
      </p:pic>
      <p:sp>
        <p:nvSpPr>
          <p:cNvPr id="2" name="PlaceHolder 1"/>
          <p:cNvSpPr>
            <a:spLocks noGrp="1"/>
          </p:cNvSpPr>
          <p:nvPr>
            <p:ph type="sldNum" idx="3"/>
          </p:nvPr>
        </p:nvSpPr>
        <p:spPr/>
        <p:txBody>
          <a:bodyPr/>
          <a:p>
            <a:fld id="{7B3828EC-B08B-499D-8B9F-5D65E49EF44B}" type="slidenum">
              <a:t>6</a:t>
            </a:fld>
          </a:p>
        </p:txBody>
      </p:sp>
      <p:sp>
        <p:nvSpPr>
          <p:cNvPr id="3" name="PlaceHolder 2"/>
          <p:cNvSpPr>
            <a:spLocks noGrp="1"/>
          </p:cNvSpPr>
          <p:nvPr>
            <p:ph type="dt" idx="1"/>
          </p:nvPr>
        </p:nvSpPr>
        <p:spPr/>
        <p:txBody>
          <a:bodyPr/>
          <a:p>
            <a:fld id="{E03E84B9-C6C5-481A-B38C-725BC58AC8D3}" type="datetime1">
              <a:rPr lang="en-US"/>
              <a:t>07/30/26</a:t>
            </a:fld>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4" presetSubtype="5">
                                  <p:stCondLst>
                                    <p:cond delay="0"/>
                                  </p:stCondLst>
                                  <p:childTnLst>
                                    <p:set>
                                      <p:cBhvr>
                                        <p:cTn id="75" dur="1" fill="hold">
                                          <p:stCondLst>
                                            <p:cond delay="0"/>
                                          </p:stCondLst>
                                        </p:cTn>
                                        <p:tgtEl>
                                          <p:spTgt spid="115"/>
                                        </p:tgtEl>
                                        <p:attrNameLst>
                                          <p:attrName>style.visibility</p:attrName>
                                        </p:attrNameLst>
                                      </p:cBhvr>
                                      <p:to>
                                        <p:strVal val="visible"/>
                                      </p:to>
                                    </p:set>
                                    <p:animEffect filter="randombar(vertical)" transition="in">
                                      <p:cBhvr additive="repl">
                                        <p:cTn id="76"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6" name=""/>
          <p:cNvSpPr/>
          <p:nvPr/>
        </p:nvSpPr>
        <p:spPr>
          <a:xfrm>
            <a:off x="457200" y="1828800"/>
            <a:ext cx="3886200" cy="2971800"/>
          </a:xfrm>
          <a:prstGeom prst="ellipse">
            <a:avLst/>
          </a:prstGeom>
          <a:no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117" name=""/>
          <p:cNvSpPr/>
          <p:nvPr/>
        </p:nvSpPr>
        <p:spPr>
          <a:xfrm>
            <a:off x="228600" y="2514600"/>
            <a:ext cx="3962520" cy="132804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eaeaea"/>
                </a:solidFill>
                <a:latin typeface="Arial"/>
              </a:rPr>
              <a:t>Masyarakat</a:t>
            </a:r>
            <a:endParaRPr b="0" lang="en-US" sz="5400" spc="-1" strike="noStrike">
              <a:solidFill>
                <a:srgbClr val="eaeaea"/>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eaeaea"/>
                </a:solidFill>
                <a:latin typeface="Arial"/>
              </a:rPr>
              <a:t>“</a:t>
            </a:r>
            <a:r>
              <a:rPr b="0" i="1" lang="en-US" sz="5400" spc="-1" strike="noStrike">
                <a:solidFill>
                  <a:srgbClr val="eaeaea"/>
                </a:solidFill>
                <a:latin typeface="Arial"/>
              </a:rPr>
              <a:t>nyata”</a:t>
            </a:r>
            <a:endParaRPr b="0" lang="en-US" sz="5400" spc="-1" strike="noStrike">
              <a:solidFill>
                <a:srgbClr val="eaeaea"/>
              </a:solidFill>
              <a:latin typeface="Arial"/>
            </a:endParaRPr>
          </a:p>
        </p:txBody>
      </p:sp>
      <p:sp>
        <p:nvSpPr>
          <p:cNvPr id="118" name=""/>
          <p:cNvSpPr/>
          <p:nvPr/>
        </p:nvSpPr>
        <p:spPr>
          <a:xfrm>
            <a:off x="2514600" y="4343400"/>
            <a:ext cx="1143000" cy="1143000"/>
          </a:xfrm>
          <a:prstGeom prst="ellipse">
            <a:avLst/>
          </a:prstGeom>
          <a:solidFill>
            <a:srgbClr val="000054"/>
          </a:solidFill>
          <a:ln w="9360">
            <a:solidFill>
              <a:srgbClr val="eaeaea"/>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119" name=""/>
          <p:cNvSpPr/>
          <p:nvPr/>
        </p:nvSpPr>
        <p:spPr>
          <a:xfrm>
            <a:off x="304920" y="4724280"/>
            <a:ext cx="28954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Arial"/>
              </a:rPr>
              <a:t>“</a:t>
            </a:r>
            <a:r>
              <a:rPr b="1" i="1" lang="en-US" sz="2400" spc="-1" strike="noStrike">
                <a:solidFill>
                  <a:srgbClr val="eaeaea"/>
                </a:solidFill>
                <a:latin typeface="Arial"/>
              </a:rPr>
              <a:t>MASYARAKAT” MAYA</a:t>
            </a:r>
            <a:endParaRPr b="0" lang="en-US" sz="2400" spc="-1" strike="noStrike">
              <a:solidFill>
                <a:srgbClr val="eaeaea"/>
              </a:solidFill>
              <a:latin typeface="Arial"/>
            </a:endParaRPr>
          </a:p>
        </p:txBody>
      </p:sp>
      <p:sp>
        <p:nvSpPr>
          <p:cNvPr id="120" name=""/>
          <p:cNvSpPr/>
          <p:nvPr/>
        </p:nvSpPr>
        <p:spPr>
          <a:xfrm>
            <a:off x="4800600" y="380880"/>
            <a:ext cx="3809880" cy="3353040"/>
          </a:xfrm>
          <a:prstGeom prst="ellipse">
            <a:avLst/>
          </a:prstGeom>
          <a:noFill/>
          <a:ln w="7632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121" name=""/>
          <p:cNvSpPr/>
          <p:nvPr/>
        </p:nvSpPr>
        <p:spPr>
          <a:xfrm>
            <a:off x="5210280" y="1066680"/>
            <a:ext cx="31874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Arial"/>
              </a:rPr>
              <a:t>MASYARAKAT </a:t>
            </a:r>
            <a:endParaRPr b="0" lang="en-US" sz="32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Arial"/>
              </a:rPr>
              <a:t>INFORMASI</a:t>
            </a:r>
            <a:endParaRPr b="0" lang="en-US" sz="3200" spc="-1" strike="noStrike">
              <a:solidFill>
                <a:srgbClr val="eaeaea"/>
              </a:solidFill>
              <a:latin typeface="Arial"/>
            </a:endParaRPr>
          </a:p>
        </p:txBody>
      </p:sp>
      <p:sp>
        <p:nvSpPr>
          <p:cNvPr id="122" name=""/>
          <p:cNvSpPr/>
          <p:nvPr/>
        </p:nvSpPr>
        <p:spPr>
          <a:xfrm rot="19828800">
            <a:off x="3809880" y="2361960"/>
            <a:ext cx="2133720" cy="609480"/>
          </a:xfrm>
          <a:custGeom>
            <a:avLst/>
            <a:gdLst>
              <a:gd name="textAreaLeft" fmla="*/ 333360 w 2133720"/>
              <a:gd name="textAreaRight" fmla="*/ 1867320 w 213372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123" name=""/>
          <p:cNvSpPr/>
          <p:nvPr/>
        </p:nvSpPr>
        <p:spPr>
          <a:xfrm rot="19544400">
            <a:off x="3373200" y="3477960"/>
            <a:ext cx="3298680" cy="709560"/>
          </a:xfrm>
          <a:custGeom>
            <a:avLst/>
            <a:gdLst>
              <a:gd name="textAreaLeft" fmla="*/ 515160 w 3298680"/>
              <a:gd name="textAreaRight" fmla="*/ 2886480 w 3298680"/>
              <a:gd name="textAreaTop" fmla="*/ 177480 h 709560"/>
              <a:gd name="textAreaBottom" fmla="*/ 532440 h 709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124" name="PlaceHolder 1"/>
          <p:cNvSpPr>
            <a:spLocks noGrp="1"/>
          </p:cNvSpPr>
          <p:nvPr>
            <p:ph type="title"/>
          </p:nvPr>
        </p:nvSpPr>
        <p:spPr>
          <a:xfrm>
            <a:off x="-360" y="609120"/>
            <a:ext cx="48769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d189"/>
                </a:solidFill>
                <a:latin typeface="Arial"/>
              </a:rPr>
              <a:t>The Information Society</a:t>
            </a:r>
            <a:endParaRPr b="0" lang="en-US" sz="3200" spc="-1" strike="noStrike">
              <a:solidFill>
                <a:srgbClr val="ebd189"/>
              </a:solidFill>
              <a:latin typeface="Arial"/>
            </a:endParaRPr>
          </a:p>
        </p:txBody>
      </p:sp>
    </p:spTree>
  </p:cSld>
  <p:transition spd="slow" advTm="60000">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graphicFrame>
        <p:nvGraphicFramePr>
          <p:cNvPr id="125" name=""/>
          <p:cNvGraphicFramePr/>
          <p:nvPr/>
        </p:nvGraphicFramePr>
        <p:xfrm>
          <a:off x="1143000" y="68400"/>
          <a:ext cx="7162920" cy="6446880"/>
        </p:xfrm>
        <a:graphic>
          <a:graphicData uri="http://schemas.openxmlformats.org/presentationml/2006/ole">
            <p:oleObj progId="Word.Document.12" r:id="rId1" spid="">
              <p:embed/>
              <p:pic>
                <p:nvPicPr>
                  <p:cNvPr id="126" name="" descr=""/>
                  <p:cNvPicPr/>
                  <p:nvPr/>
                </p:nvPicPr>
                <p:blipFill>
                  <a:blip r:embed="rId2"/>
                  <a:stretch/>
                </p:blipFill>
                <p:spPr>
                  <a:xfrm>
                    <a:off x="1143000" y="68400"/>
                    <a:ext cx="7162920" cy="6446880"/>
                  </a:xfrm>
                  <a:prstGeom prst="rect">
                    <a:avLst/>
                  </a:prstGeom>
                  <a:ln w="0">
                    <a:noFill/>
                  </a:ln>
                </p:spPr>
              </p:pic>
            </p:oleObj>
          </a:graphicData>
        </a:graphic>
      </p:graphicFrame>
      <p:sp>
        <p:nvSpPr>
          <p:cNvPr id="127" name="PlaceHolder 1"/>
          <p:cNvSpPr>
            <a:spLocks noGrp="1"/>
          </p:cNvSpPr>
          <p:nvPr>
            <p:ph type="title"/>
          </p:nvPr>
        </p:nvSpPr>
        <p:spPr>
          <a:xfrm>
            <a:off x="304560" y="304920"/>
            <a:ext cx="55623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a"/>
                </a:solidFill>
                <a:latin typeface="Arial"/>
              </a:rPr>
              <a:t>KOMPOSISI TENAGA KERJA</a:t>
            </a:r>
            <a:endParaRPr b="0" lang="en-US" sz="2800" spc="-1" strike="noStrike">
              <a:solidFill>
                <a:srgbClr val="ebd189"/>
              </a:solidFill>
              <a:latin typeface="Arial"/>
            </a:endParaRPr>
          </a:p>
        </p:txBody>
      </p:sp>
      <p:sp>
        <p:nvSpPr>
          <p:cNvPr id="3" name="PlaceHolder 2"/>
          <p:cNvSpPr>
            <a:spLocks noGrp="1"/>
          </p:cNvSpPr>
          <p:nvPr>
            <p:ph type="sldNum" idx="3"/>
          </p:nvPr>
        </p:nvSpPr>
        <p:spPr/>
        <p:txBody>
          <a:bodyPr/>
          <a:p>
            <a:fld id="{D86CA674-F104-4416-9E2B-904C1E704B3D}" type="slidenum">
              <a:t>8</a:t>
            </a:fld>
          </a:p>
        </p:txBody>
      </p:sp>
      <p:sp>
        <p:nvSpPr>
          <p:cNvPr id="4" name="PlaceHolder 3"/>
          <p:cNvSpPr>
            <a:spLocks noGrp="1"/>
          </p:cNvSpPr>
          <p:nvPr>
            <p:ph type="dt" idx="1"/>
          </p:nvPr>
        </p:nvSpPr>
        <p:spPr/>
        <p:txBody>
          <a:bodyPr/>
          <a:p>
            <a:fld id="{C414C127-0FD6-478D-BFB1-071E6BCCF814}" type="datetime1">
              <a:rPr lang="en-US"/>
              <a:t>07/30/26</a:t>
            </a:fld>
          </a:p>
        </p:txBody>
      </p:sp>
    </p:spTree>
  </p:cSld>
  <p:transition spd="slow" advTm="60000">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50000">
              <a:srgbClr val="ffffff"/>
            </a:gs>
            <a:gs pos="100000">
              <a:srgbClr val="eaeaea"/>
            </a:gs>
          </a:gsLst>
          <a:lin ang="5400000"/>
        </a:gradFill>
      </p:bgPr>
    </p:bg>
    <p:spTree>
      <p:nvGrpSpPr>
        <p:cNvPr id="1" name=""/>
        <p:cNvGrpSpPr/>
        <p:nvPr/>
      </p:nvGrpSpPr>
      <p:grpSpPr>
        <a:xfrm>
          <a:off x="0" y="0"/>
          <a:ext cx="0" cy="0"/>
          <a:chOff x="0" y="0"/>
          <a:chExt cx="0" cy="0"/>
        </a:xfrm>
      </p:grpSpPr>
      <p:sp>
        <p:nvSpPr>
          <p:cNvPr id="128" name=""/>
          <p:cNvSpPr txBox="1"/>
          <p:nvPr/>
        </p:nvSpPr>
        <p:spPr>
          <a:xfrm>
            <a:off x="3504960" y="6324480"/>
            <a:ext cx="2895480" cy="457200"/>
          </a:xfrm>
          <a:prstGeom prst="rect">
            <a:avLst/>
          </a:prstGeom>
          <a:no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9" name=""/>
          <p:cNvSpPr txBox="1"/>
          <p:nvPr/>
        </p:nvSpPr>
        <p:spPr>
          <a:xfrm>
            <a:off x="1066680" y="6324480"/>
            <a:ext cx="190512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pic>
        <p:nvPicPr>
          <p:cNvPr id="130" name="" descr=""/>
          <p:cNvPicPr/>
          <p:nvPr/>
        </p:nvPicPr>
        <p:blipFill>
          <a:blip r:embed="rId1"/>
          <a:stretch/>
        </p:blipFill>
        <p:spPr>
          <a:xfrm>
            <a:off x="304920" y="2057400"/>
            <a:ext cx="4519440" cy="3467160"/>
          </a:xfrm>
          <a:prstGeom prst="rect">
            <a:avLst/>
          </a:prstGeom>
          <a:ln w="0">
            <a:noFill/>
          </a:ln>
        </p:spPr>
      </p:pic>
      <p:sp>
        <p:nvSpPr>
          <p:cNvPr id="131" name=""/>
          <p:cNvSpPr/>
          <p:nvPr/>
        </p:nvSpPr>
        <p:spPr>
          <a:xfrm>
            <a:off x="4419720" y="1371600"/>
            <a:ext cx="38862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Arial"/>
              </a:rPr>
              <a:t>Mem-produksi ………..</a:t>
            </a:r>
            <a:endParaRPr b="0" lang="en-US" sz="2400" spc="-1" strike="noStrike">
              <a:solidFill>
                <a:srgbClr val="eaeaea"/>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Arial"/>
              </a:rPr>
              <a:t>Mengolah……………..</a:t>
            </a:r>
            <a:endParaRPr b="0" lang="en-US" sz="2400" spc="-1" strike="noStrike">
              <a:solidFill>
                <a:srgbClr val="eaeaea"/>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Arial"/>
              </a:rPr>
              <a:t>Men-distribusikan ……..</a:t>
            </a:r>
            <a:endParaRPr b="0" lang="en-US" sz="2400" spc="-1" strike="noStrike">
              <a:solidFill>
                <a:srgbClr val="eaeaea"/>
              </a:solidFill>
              <a:latin typeface="Arial"/>
            </a:endParaRPr>
          </a:p>
        </p:txBody>
      </p:sp>
      <p:sp>
        <p:nvSpPr>
          <p:cNvPr id="132" name=""/>
          <p:cNvSpPr/>
          <p:nvPr/>
        </p:nvSpPr>
        <p:spPr>
          <a:xfrm>
            <a:off x="5943600" y="2971800"/>
            <a:ext cx="2666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Arial"/>
              </a:rPr>
              <a:t>INFORMASI</a:t>
            </a:r>
            <a:endParaRPr b="0" lang="en-US" sz="2800" spc="-1" strike="noStrike">
              <a:solidFill>
                <a:srgbClr val="eaeaea"/>
              </a:solidFill>
              <a:latin typeface="Arial"/>
            </a:endParaRPr>
          </a:p>
        </p:txBody>
      </p:sp>
      <p:sp>
        <p:nvSpPr>
          <p:cNvPr id="133" name=""/>
          <p:cNvSpPr/>
          <p:nvPr/>
        </p:nvSpPr>
        <p:spPr>
          <a:xfrm>
            <a:off x="4836600" y="3352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Arial"/>
              </a:rPr>
              <a:t>dan</a:t>
            </a:r>
            <a:endParaRPr b="0" lang="en-US" sz="2400" spc="-1" strike="noStrike">
              <a:solidFill>
                <a:srgbClr val="eaeaea"/>
              </a:solidFill>
              <a:latin typeface="Arial"/>
            </a:endParaRPr>
          </a:p>
        </p:txBody>
      </p:sp>
      <p:sp>
        <p:nvSpPr>
          <p:cNvPr id="134" name=""/>
          <p:cNvSpPr/>
          <p:nvPr/>
        </p:nvSpPr>
        <p:spPr>
          <a:xfrm>
            <a:off x="5029200" y="3886200"/>
            <a:ext cx="35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Arial"/>
              </a:rPr>
              <a:t>Memproduksi </a:t>
            </a:r>
            <a:endParaRPr b="0" lang="en-US" sz="2400" spc="-1" strike="noStrike">
              <a:solidFill>
                <a:srgbClr val="eaeaea"/>
              </a:solidFill>
              <a:latin typeface="Arial"/>
            </a:endParaRPr>
          </a:p>
        </p:txBody>
      </p:sp>
      <p:sp>
        <p:nvSpPr>
          <p:cNvPr id="135" name=""/>
          <p:cNvSpPr/>
          <p:nvPr/>
        </p:nvSpPr>
        <p:spPr>
          <a:xfrm>
            <a:off x="2656080" y="4419720"/>
            <a:ext cx="4377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Arial"/>
              </a:rPr>
              <a:t>TEKNOLOGI INFORMASI</a:t>
            </a:r>
            <a:endParaRPr b="0" lang="en-US" sz="2800" spc="-1" strike="noStrike">
              <a:solidFill>
                <a:srgbClr val="eaeaea"/>
              </a:solidFill>
              <a:latin typeface="Arial"/>
            </a:endParaRPr>
          </a:p>
        </p:txBody>
      </p:sp>
      <p:sp>
        <p:nvSpPr>
          <p:cNvPr id="136" name=""/>
          <p:cNvSpPr/>
          <p:nvPr/>
        </p:nvSpPr>
        <p:spPr>
          <a:xfrm>
            <a:off x="6667920" y="5486400"/>
            <a:ext cx="11743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aeaea"/>
                </a:solidFill>
                <a:latin typeface="Arial"/>
              </a:rPr>
              <a:t>CIO</a:t>
            </a:r>
            <a:endParaRPr b="0" lang="en-US" sz="4400" spc="-1" strike="noStrike">
              <a:solidFill>
                <a:srgbClr val="eaeaea"/>
              </a:solidFill>
              <a:latin typeface="Arial"/>
            </a:endParaRPr>
          </a:p>
        </p:txBody>
      </p:sp>
      <p:sp>
        <p:nvSpPr>
          <p:cNvPr id="137" name="PlaceHolder 1"/>
          <p:cNvSpPr>
            <a:spLocks noGrp="1"/>
          </p:cNvSpPr>
          <p:nvPr>
            <p:ph type="title"/>
          </p:nvPr>
        </p:nvSpPr>
        <p:spPr>
          <a:xfrm>
            <a:off x="1523520" y="609480"/>
            <a:ext cx="4343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Pekerja informasi:</a:t>
            </a:r>
            <a:endParaRPr b="0" lang="en-US" sz="3600" spc="-1" strike="noStrike">
              <a:solidFill>
                <a:srgbClr val="ebd189"/>
              </a:solidFill>
              <a:latin typeface="Arial"/>
            </a:endParaRPr>
          </a:p>
        </p:txBody>
      </p:sp>
      <p:sp>
        <p:nvSpPr>
          <p:cNvPr id="138" name=""/>
          <p:cNvSpPr/>
          <p:nvPr/>
        </p:nvSpPr>
        <p:spPr>
          <a:xfrm>
            <a:off x="1066680" y="5791320"/>
            <a:ext cx="4800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Arial"/>
              </a:rPr>
              <a:t>Contoh: sekretaris, manajer, dll.</a:t>
            </a:r>
            <a:endParaRPr b="0" lang="en-US" sz="2400" spc="-1" strike="noStrike">
              <a:solidFill>
                <a:srgbClr val="eaeaea"/>
              </a:solidFill>
              <a:latin typeface="Arial"/>
            </a:endParaRPr>
          </a:p>
        </p:txBody>
      </p:sp>
    </p:spTree>
  </p:cSld>
  <p:transition spd="slow" advTm="78000">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inXp</cp:lastModifiedBy>
  <dcterms:modified xsi:type="dcterms:W3CDTF">2006-09-21T02:36:36Z</dcterms:modified>
  <cp:revision>121</cp:revision>
  <dc:subject/>
  <dc:title>PowerPoint Presentation</dc:title>
</cp:coreProperties>
</file>