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A17D-3EFB-460F-AEE8-F0744E9BE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D89E-690A-446C-952F-22A296A35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B5C3-453E-4186-BC12-8CF3F47B6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974E-1D40-4270-B4CB-2B81318FD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D4E6A-0919-4427-8DE2-E0D7E39B5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50236-E8EA-48AC-8D8C-1FD8DBA31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E53B9-1DED-4501-8C31-46431E820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BFA33-7096-41C6-91E1-FF49FDA68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EB69F-355D-438B-85EB-D52BBD09A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AF73C-0FA4-4375-AE7C-344306289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3AB86-2A40-44EC-BB64-E6841AC4D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BF56-661A-4811-8E09-0B6D0C182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97908-230A-4693-ABC2-0CFF93E5B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6E4D1-1189-483D-A0A6-32114B281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5004C-CF5F-4C3A-90DB-307DC7AAD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350CA-8CB9-4AD2-ACA5-DE31ED187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A4143-3288-4ABE-B757-444B4A897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6C38-C7B8-4FE5-B4F2-10A4F837B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8ACF-94E8-4357-ABB3-3CB4D4372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4A04-6EBC-4FC2-83DC-8454A964F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E927-51DC-4D6B-BF61-2C377D5B3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D468-E628-46A5-928B-6D88F2558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8498-BF1D-4B29-A078-93C282747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95DD-D274-44C7-B85A-BD8A969FB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F87BD-BFD2-4BB4-9AC3-76B9F0886110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EE4DB-88CF-4BB2-A565-F70983ACA0AC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600" spc="-1" strike="noStrike">
                <a:solidFill>
                  <a:srgbClr val="006633"/>
                </a:solidFill>
                <a:latin typeface="Garamond"/>
              </a:rPr>
              <a:t>Hasanuddin University Engineering Faculty Department Project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403280" y="3933360"/>
            <a:ext cx="6553440" cy="23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Equipment Discussion No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July 20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SAPROF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96EC9-0FE9-4936-A3A3-DCBE3F68B7B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rocurement Polic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ckage for Bidding (by ICB, LCB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ICB: International Competitive Bid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LCB: Local Competitive Bid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curement schedule by Package (By year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6F47-9DCC-44FC-8C31-565CF54379B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Equipment discussion procedur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Preparation and confirmation of Equipment list (Draft)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Target schedule: By July 17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Discussion based on “Equipment reference sheet” with Department,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3b812f"/>
                </a:solidFill>
                <a:latin typeface="Arial"/>
              </a:rPr>
              <a:t>format is prepared by SAPROF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b812f"/>
                </a:solidFill>
                <a:latin typeface="Arial"/>
              </a:rPr>
              <a:t>       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Target schedule: By August 12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Cost estimation (SAPROF team in char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Target schedule: By Middle of September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BDEB-8ABA-4CAE-8C0F-97DCD57E1C4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Necessary information on Equipment Discussion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lease provide information as below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quipment list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w,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Major Existing Equipment to be moved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boratory list (new campu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urriculum </a:t>
            </a:r>
            <a:r>
              <a:rPr b="0" i="1" lang="en-US" sz="2000" spc="-1" strike="noStrike">
                <a:solidFill>
                  <a:srgbClr val="3b812f"/>
                </a:solidFill>
                <a:latin typeface="Arial"/>
              </a:rPr>
              <a:t>(It is necessary to finish discussion about curriculum with SAPROF team in advance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search topics </a:t>
            </a:r>
            <a:r>
              <a:rPr b="0" i="1" lang="en-US" sz="2000" spc="-1" strike="noStrike">
                <a:solidFill>
                  <a:srgbClr val="3b812f"/>
                </a:solidFill>
                <a:latin typeface="Arial"/>
              </a:rPr>
              <a:t>(It is necessary to finish discussion about research topics with SAPROF team in advance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oom assignment pl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peration and maintenance pl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37C3-C50F-49D0-A617-1AE8F74C1B7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Basic Policy on Equipment Selection-1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1. Planned Equipment shall be based on Research and education curriculu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equipmen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ll be evaluated and examined linkage with research and education curriculu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ult of linkage between equipment and curriculum will be summarized into “Equipment reference sheet”. </a:t>
            </a:r>
            <a:r>
              <a:rPr b="0" lang="en-US" sz="2000" spc="-1" strike="noStrike">
                <a:solidFill>
                  <a:srgbClr val="3b812f"/>
                </a:solidFill>
                <a:latin typeface="Arial"/>
              </a:rPr>
              <a:t>(SAPROF team support to prepare this sheet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042920" y="4653000"/>
            <a:ext cx="1944720" cy="1584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cessity fr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earch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419640" y="5229360"/>
            <a:ext cx="792000" cy="431640"/>
          </a:xfrm>
          <a:prstGeom prst="rightArrow">
            <a:avLst>
              <a:gd name="adj1" fmla="val 50000"/>
              <a:gd name="adj2" fmla="val 45872"/>
            </a:avLst>
          </a:prstGeom>
          <a:solidFill>
            <a:srgbClr val="afbf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43280" y="4869000"/>
            <a:ext cx="3097440" cy="108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ed items and Quant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ipment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C7AA-0342-4766-B9A2-115BB259A13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Basic Policy on Equipment Selection-2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2. Planned Equipment shall be secured necessary installation spa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alled laboratory and/or room shall be specified.  </a:t>
            </a:r>
            <a:r>
              <a:rPr b="1" i="1" lang="en-US" sz="2000" spc="-1" strike="noStrike">
                <a:solidFill>
                  <a:srgbClr val="3b812f"/>
                </a:solidFill>
                <a:latin typeface="Arial"/>
              </a:rPr>
              <a:t>It will be link with facility pla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ult of linkage between equipment and laboratory and/or room will be summarized into “Equipment reference sheet”. </a:t>
            </a:r>
            <a:r>
              <a:rPr b="0" lang="en-US" sz="2000" spc="-1" strike="noStrike">
                <a:solidFill>
                  <a:srgbClr val="3b812f"/>
                </a:solidFill>
                <a:latin typeface="Arial"/>
              </a:rPr>
              <a:t>(SAPROF team support to prepare this matrix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42920" y="4653000"/>
            <a:ext cx="1513080" cy="1512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ace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i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771640" y="5229360"/>
            <a:ext cx="432000" cy="431640"/>
          </a:xfrm>
          <a:prstGeom prst="rightArrow">
            <a:avLst>
              <a:gd name="adj1" fmla="val 50000"/>
              <a:gd name="adj2" fmla="val 25021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780000" y="4724280"/>
            <a:ext cx="432108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ipment and room assignment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ipment layout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7B80-5957-439E-A5A3-6546C567D0A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Equipment Selection Criteri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Inclusion Criter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cessary for research and education curriculum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cessary for administrative activit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cessary for University capacity enhanc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Exclusion Criter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necessary for University’s activit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age/purpose not clearly defined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mall items, such as glass wa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nly consumables and spare par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48EF-1FE7-4E81-BC49-F0A9809306B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Equipment Planning Strateg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8598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ivision on Category of equipment into 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755640" y="2349360"/>
          <a:ext cx="7427880" cy="3165480"/>
        </p:xfrm>
        <a:graphic>
          <a:graphicData uri="http://schemas.openxmlformats.org/drawingml/2006/table">
            <a:tbl>
              <a:tblPr/>
              <a:tblGrid>
                <a:gridCol w="1800360"/>
                <a:gridCol w="5627520"/>
              </a:tblGrid>
              <a:tr h="205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Major Equip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Obviously necessary to implement research and education (with curriculum evidenc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Large equipment, which is necessary to secure installation space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Expensive equipment and high priority for research and educatio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Minor Equip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Necessary in the futu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Detailed specifications are not specifi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Not specifi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5D29-C169-408C-A228-8B8D6657041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Equipment list prepara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"/>
          <p:cNvSpPr/>
          <p:nvPr/>
        </p:nvSpPr>
        <p:spPr>
          <a:xfrm>
            <a:off x="826920" y="1844640"/>
            <a:ext cx="1800360" cy="1513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jor Equi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26920" y="3932280"/>
            <a:ext cx="1800360" cy="1512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or Equi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771640" y="2349360"/>
            <a:ext cx="505080" cy="503280"/>
          </a:xfrm>
          <a:prstGeom prst="rightArrow">
            <a:avLst>
              <a:gd name="adj1" fmla="val 50000"/>
              <a:gd name="adj2" fmla="val 25089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771640" y="4508640"/>
            <a:ext cx="505080" cy="502920"/>
          </a:xfrm>
          <a:prstGeom prst="rightArrow">
            <a:avLst>
              <a:gd name="adj1" fmla="val 50000"/>
              <a:gd name="adj2" fmla="val 25107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564000" y="1844640"/>
            <a:ext cx="4895640" cy="144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cluding “Equipment Reference sheet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s a “</a:t>
            </a:r>
            <a:r>
              <a:rPr b="1" i="1" lang="en-US" sz="2000" spc="-1" strike="noStrike" u="sng">
                <a:solidFill>
                  <a:srgbClr val="3333ff"/>
                </a:solidFill>
                <a:uFillTx/>
                <a:latin typeface="Arial"/>
              </a:rPr>
              <a:t>item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”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ipment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nt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alled room e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564000" y="4005360"/>
            <a:ext cx="4895640" cy="143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ncluding “Equipment Reference sheet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s a “</a:t>
            </a:r>
            <a:r>
              <a:rPr b="1" i="1" lang="en-US" sz="1800" spc="-1" strike="noStrike" u="sng">
                <a:solidFill>
                  <a:srgbClr val="3333ff"/>
                </a:solidFill>
                <a:uFillTx/>
                <a:latin typeface="Arial"/>
              </a:rPr>
              <a:t>general description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”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st making a pile of equipment such a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ipment for Civil engineering A laboratory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ipment for Energy engineering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796000" y="5491080"/>
            <a:ext cx="431640" cy="289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564000" y="5805360"/>
            <a:ext cx="489564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o be specified in the fu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2E3A-4580-4ACC-8592-41EFF36BE28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Equipment reference sheet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68360" y="1268280"/>
            <a:ext cx="8496360" cy="4388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6B64-7E8E-4FB2-9679-ECB5090CC3B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01:48:27Z</dcterms:created>
  <dc:creator>インテムコンサルティング株式会社自然環境部</dc:creator>
  <dc:description/>
  <dc:language>en-US</dc:language>
  <cp:lastModifiedBy>tk</cp:lastModifiedBy>
  <dcterms:modified xsi:type="dcterms:W3CDTF">2006-08-01T05:02:48Z</dcterms:modified>
  <cp:revision>9</cp:revision>
  <dc:subject/>
  <dc:title>Hasanuddin University Engineering Faculty Department Project</dc:title>
</cp:coreProperties>
</file>