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0E5-C287-4D7B-979E-F8A9F48E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AB4-85A3-4D13-9387-A97A228B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262-F81A-421B-AA43-F94B3517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7E2-26D7-467F-97F6-FA8E8CF3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FB92E-E4B6-4221-A60E-7F699B31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12541-0DE0-472F-9FF0-A4E5D36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B5AC1-EE6E-4C10-9005-ED96A750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16C70-EEFC-4D5C-A86B-236521D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624A-867B-4309-9247-612CEA73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55F2-2B8A-43F7-9260-01E8158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20F44-7D68-423B-9B11-A00A9F1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693-6554-4C21-A18A-C3EE448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05A9-6824-48DE-8B10-2C4818A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35C51-AED7-4BDB-B1CF-30F4C1B3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53428-E4F8-403C-BE9B-11C6E779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4DD2F-BEB7-4AA2-8C84-FCBC0A29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AE004-54BC-44FE-B2CA-5F6D39AB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E2E-D813-42B2-8763-F2C70F0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7B0-6569-41E6-8391-FAC6B26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25D-9CC7-4309-9FD1-7B73F55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C29-32C7-4D6C-B9D9-1E95D17C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9C9-CA3D-4882-95DB-2F00FB3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A8B-1260-40FF-8518-77BF0F8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CCF-42A7-4BA6-ADBA-1B32ABB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CFEF-5E7A-4247-BC27-9ABA31B38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4E5-499D-4D38-8ACE-1081A9AB5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762120"/>
            <a:ext cx="46479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RE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371600"/>
            <a:ext cx="46479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AKIL DIRE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81952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590920"/>
            <a:ext cx="2361960" cy="398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KRET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590920"/>
            <a:ext cx="2361960" cy="398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SI KEP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352680"/>
            <a:ext cx="213372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M TEKNI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048120"/>
            <a:ext cx="2133360" cy="642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F SEKRETARI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495680"/>
            <a:ext cx="6019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952880"/>
            <a:ext cx="2286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2388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952880"/>
            <a:ext cx="2286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4340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4952880"/>
            <a:ext cx="266688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54380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62120"/>
            <a:ext cx="7848360" cy="235476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ENGEMBANG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ISTEM INFORMASI TERPADU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Integrated Information System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429000"/>
            <a:ext cx="7848360" cy="181800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Akadem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Keu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………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762120"/>
            <a:ext cx="7848360" cy="263484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PELAYANAN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JARINGAN KAM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</a:rPr>
              <a:t>Internet Services and  Campus Network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429000"/>
            <a:ext cx="7848360" cy="289332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ngelolaan Situs UN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meliharaan Jaringan Internal Kampus dan Link ke lu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ailing-list and Public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OP Server, Proxy Server,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457200"/>
            <a:ext cx="7848360" cy="263484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I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PENGEMBANGAN </a:t>
            </a: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E-LEARNING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MULTI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</a:rPr>
              <a:t>E-Learning and Multi Media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124080"/>
            <a:ext cx="7848360" cy="332712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ngelolaan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roduction Ho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manfaatan fasilitas “gratis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GD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INH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Kerjasama dengan lembaga-lembaga internal/eksternal: LP3AI, Konsorsium, Perpustakaan UNHAS, dll. untuk pengembang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ATA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rektur/Wakil Direkt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rtanggungjawab ke Rektor melalui PR-PR (tergantu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keduanya musti kompak, sali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ack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atu sama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knisi Kepa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orang ya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unya tim teknisi yang menangan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ard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inimal 1 orang) dan yang menangan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oftw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inimal 1 orang lag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kretar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yang cantik (dan/atau ganteng), cerdas, dan ramah-tamah (kalo’ ada yang datang “marah-matah” baru ngelihat sudah langsung reda marahny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visi-divi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kerjasama erat dengan unit-unit kerja existing, misalnya Divisi I dengan Biro-biro terkait, di level UNHAS mau pun Fakultas, Divisi II dengan HUMAS, LP, LPPM, dll., d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2:21:41Z</dcterms:created>
  <dc:creator>WinXp</dc:creator>
  <dc:description/>
  <dc:language>en-US</dc:language>
  <cp:lastModifiedBy>WinXp</cp:lastModifiedBy>
  <dcterms:modified xsi:type="dcterms:W3CDTF">2006-08-04T03:21:09Z</dcterms:modified>
  <cp:revision>8</cp:revision>
  <dc:subject/>
  <dc:title>Slide 1</dc:title>
</cp:coreProperties>
</file>