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B45-E1DC-43C2-B666-ED00F9E6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A7E-F093-4276-9C3A-F50268E2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284-0EE1-4534-A6EA-013C1DBA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8C4-A56C-4FB8-9E48-00974981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98FA-8085-45A1-8648-27D5268D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3AFB-BB54-4B32-BC18-F60DAB08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DC5F-95BD-403C-B889-FB78D8A5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880E-0D7E-4188-B8A1-8473258B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38C5-68D4-42B9-8A95-EA782DFD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3A92-B05D-4E16-AA00-AB0866A4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5D46-D01A-4BFD-B460-7F71E5E0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47A-0D28-4001-8079-7EF94834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C2A7-C869-4B4B-B790-8126375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B963-3EB8-4FA1-8DEE-CF00F373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170C-EE48-428E-893F-BDBD1BB1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3B55-28E4-499F-BBDE-0E11EDAC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FC5B-3312-42E2-A87A-835A466E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45C-66FC-4016-83C0-B2872A6A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3A3-A18C-438A-A0C7-C507DEC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CD8-85FE-44E3-A5E9-622B46A8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34C-E7EB-4E8C-AC31-161BA4C7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2C6-0AD6-4C44-A3C8-BC5EF8A5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EB2-7AB4-46E3-ADE4-D16A1F93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509-3614-4B89-AD1F-84A7050B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93E5-4EC0-4775-BA8A-9F90D0BA4C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A59D-BE70-492B-8259-26901F536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4BD9-8BD8-486A-970F-FFAE23A8ED39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25A8-FB15-4C31-AE6F-0736AF07B7B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hiza@unhas.ac.id" TargetMode="External"/><Relationship Id="rId3" Type="http://schemas.openxmlformats.org/officeDocument/2006/relationships/hyperlink" Target="http://www.unhas.ac.id/~rhiza/" TargetMode="External"/><Relationship Id="rId4" Type="http://schemas.openxmlformats.org/officeDocument/2006/relationships/hyperlink" Target="http://www.unhas.ac.id/~rhiza/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PROPOSAL PENELITIAN</a:t>
            </a:r>
            <a:br>
              <a:rPr sz="2400"/>
            </a:br>
            <a:r>
              <a:rPr b="0" lang="en-US" sz="2000" spc="-1" strike="noStrike">
                <a:solidFill>
                  <a:srgbClr val="786950"/>
                </a:solidFill>
                <a:latin typeface="Verdana"/>
              </a:rPr>
              <a:t>Latar Belakang</a:t>
            </a:r>
            <a:br>
              <a:rPr sz="2000"/>
            </a:br>
            <a:r>
              <a:rPr b="0" lang="en-US" sz="2000" spc="-1" strike="noStrike">
                <a:solidFill>
                  <a:srgbClr val="786950"/>
                </a:solidFill>
                <a:latin typeface="Verdana"/>
              </a:rPr>
              <a:t>Rumusan Masalah</a:t>
            </a:r>
            <a:br>
              <a:rPr sz="2000"/>
            </a:br>
            <a:r>
              <a:rPr b="0" lang="en-US" sz="2000" spc="-1" strike="noStrike">
                <a:solidFill>
                  <a:srgbClr val="786950"/>
                </a:solidFill>
                <a:latin typeface="Verdana"/>
              </a:rPr>
              <a:t>Tujuan Penelitian</a:t>
            </a:r>
            <a:br>
              <a:rPr sz="2000"/>
            </a:br>
            <a:r>
              <a:rPr b="0" lang="en-US" sz="2000" spc="-1" strike="noStrike">
                <a:solidFill>
                  <a:srgbClr val="786950"/>
                </a:solidFill>
                <a:latin typeface="Verdana"/>
              </a:rPr>
              <a:t>Manfaat Penelitian</a:t>
            </a: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04960" y="4038480"/>
            <a:ext cx="56372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6950"/>
                </a:solidFill>
                <a:latin typeface="Verdana"/>
              </a:rPr>
              <a:t>Rhiza  S. Sadjad</a:t>
            </a:r>
            <a:endParaRPr b="0" lang="en-US" sz="24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  <a:hlinkClick r:id="rId2"/>
              </a:rPr>
              <a:t>rhiza@unhas.ac.id</a:t>
            </a:r>
            <a:endParaRPr b="0" lang="en-US" sz="24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  <a:hlinkClick r:id="rId3"/>
              </a:rPr>
              <a:t>http://www.unhas.ac.id/~rhiza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  <a:hlinkClick r:id="rId4"/>
              </a:rPr>
              <a:t>/</a:t>
            </a:r>
            <a:endParaRPr b="0" lang="en-US" sz="2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696F-1657-4392-ABF8-7A81DB7F209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3E95B90-8F3A-47DC-86A3-AEDC3DE0F74C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239F-417A-4F4E-ADC1-06D8E8C496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5FE0BC3-B06B-4D6A-BDF4-22DD4FF76770}" type="datetime1">
              <a:rPr lang="en-US"/>
              <a:t>07/31/26</a:t>
            </a:fld>
          </a:p>
        </p:txBody>
      </p:sp>
    </p:spTree>
  </p:cSld>
  <p:transition spd="slow" advTm="31000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1828800" y="1295280"/>
            <a:ext cx="3200400" cy="44960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1295280"/>
            <a:ext cx="3657600" cy="4572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1981080"/>
            <a:ext cx="11430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2666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35053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57200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1981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 Kepal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ociate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istant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3809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Ahl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Research Assistant, Teaching Assi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029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Under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2209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Doctor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048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Lab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Lab. Assistant, Gr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irarkhi Akademi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EDF-F5C4-4FE5-8D2E-65A51F37AF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4411E-9834-4A86-A208-FBA026ABC7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5561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86950"/>
                </a:solidFill>
                <a:latin typeface="Verdana"/>
              </a:rPr>
              <a:t>PUBLISH !!!</a:t>
            </a: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(</a:t>
            </a:r>
            <a:r>
              <a:rPr b="0" i="1" lang="en-US" sz="4400" spc="-1" strike="noStrike">
                <a:solidFill>
                  <a:srgbClr val="786950"/>
                </a:solidFill>
                <a:latin typeface="Verdana"/>
              </a:rPr>
              <a:t>or …………perish!</a:t>
            </a: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81080" y="2286000"/>
            <a:ext cx="68565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kasi ilmiah yang  ditulis berdasarkan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ASIL PENELITIAN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952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anya kennn……napa 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A358-25FA-4C1B-ABD6-7CFA36EC27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D1E2E38-D63D-47E0-919C-2F4F051706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295280" y="304920"/>
            <a:ext cx="7479000" cy="5486400"/>
            <a:chOff x="1295280" y="304920"/>
            <a:chExt cx="7479000" cy="5486400"/>
          </a:xfrm>
        </p:grpSpPr>
        <p:sp>
          <p:nvSpPr>
            <p:cNvPr id="104" name=""/>
            <p:cNvSpPr/>
            <p:nvPr/>
          </p:nvSpPr>
          <p:spPr>
            <a:xfrm>
              <a:off x="1295280" y="304920"/>
              <a:ext cx="7467840" cy="5486400"/>
            </a:xfrm>
            <a:prstGeom prst="ellipse">
              <a:avLst/>
            </a:prstGeom>
            <a:solidFill>
              <a:srgbClr val="aff1ef"/>
            </a:solidFill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838080"/>
              <a:ext cx="2438280" cy="167652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00600" y="2590920"/>
              <a:ext cx="685800" cy="761760"/>
            </a:xfrm>
            <a:prstGeom prst="downArrow">
              <a:avLst>
                <a:gd name="adj1" fmla="val 50000"/>
                <a:gd name="adj2" fmla="val 27769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86200" y="3505320"/>
              <a:ext cx="2438280" cy="1752480"/>
            </a:xfrm>
            <a:prstGeom prst="downArrowCallout">
              <a:avLst>
                <a:gd name="adj1" fmla="val 34786"/>
                <a:gd name="adj2" fmla="val 34783"/>
                <a:gd name="adj3" fmla="val 16667"/>
                <a:gd name="adj4" fmla="val 66667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2971800"/>
              <a:ext cx="4800600" cy="25146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2913000">
              <a:off x="6400800" y="2665800"/>
              <a:ext cx="685800" cy="762480"/>
            </a:xfrm>
            <a:prstGeom prst="downArrow">
              <a:avLst>
                <a:gd name="adj1" fmla="val 50000"/>
                <a:gd name="adj2" fmla="val 27795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9923000">
              <a:off x="2971440" y="2742120"/>
              <a:ext cx="685800" cy="762120"/>
            </a:xfrm>
            <a:prstGeom prst="downArrow">
              <a:avLst>
                <a:gd name="adj1" fmla="val 50000"/>
                <a:gd name="adj2" fmla="val 27782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7124760" y="3771360"/>
              <a:ext cx="685800" cy="762120"/>
            </a:xfrm>
            <a:prstGeom prst="downArrow">
              <a:avLst>
                <a:gd name="adj1" fmla="val 50000"/>
                <a:gd name="adj2" fmla="val 27782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rot="5400000">
              <a:off x="2400120" y="3619080"/>
              <a:ext cx="685800" cy="761760"/>
            </a:xfrm>
            <a:prstGeom prst="downArrow">
              <a:avLst>
                <a:gd name="adj1" fmla="val 50000"/>
                <a:gd name="adj2" fmla="val 27769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5680" y="11430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129528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atar Belaka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19520" y="1219320"/>
              <a:ext cx="1904760" cy="825480"/>
            </a:xfrm>
            <a:prstGeom prst="rect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umusan Masala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4800" y="36576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ujuan Penelit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3055200">
              <a:off x="7053480" y="2782440"/>
              <a:ext cx="171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faat Penelit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932400">
              <a:off x="1449000" y="2361240"/>
              <a:ext cx="171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faat Penelit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EE2-8EEB-4783-887F-6C7C18B40E9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CEE99-A931-4C2C-8520-E6E72EF82F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3880" y="228600"/>
            <a:ext cx="6910920" cy="5867280"/>
            <a:chOff x="1523880" y="228600"/>
            <a:chExt cx="6910920" cy="5867280"/>
          </a:xfrm>
        </p:grpSpPr>
        <p:sp>
          <p:nvSpPr>
            <p:cNvPr id="120" name=""/>
            <p:cNvSpPr/>
            <p:nvPr/>
          </p:nvSpPr>
          <p:spPr>
            <a:xfrm>
              <a:off x="4572000" y="228600"/>
              <a:ext cx="838080" cy="76212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990720"/>
              <a:ext cx="685800" cy="761760"/>
            </a:xfrm>
            <a:prstGeom prst="downArrow">
              <a:avLst>
                <a:gd name="adj1" fmla="val 50000"/>
                <a:gd name="adj2" fmla="val 27769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1752480"/>
              <a:ext cx="1752480" cy="990720"/>
            </a:xfrm>
            <a:prstGeom prst="downArrowCallout">
              <a:avLst>
                <a:gd name="adj1" fmla="val 44226"/>
                <a:gd name="adj2" fmla="val 44222"/>
                <a:gd name="adj3" fmla="val 16667"/>
                <a:gd name="adj4" fmla="val 66667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8120" y="4038480"/>
              <a:ext cx="3962160" cy="19051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2913000">
              <a:off x="5981760" y="3618360"/>
              <a:ext cx="685800" cy="762480"/>
            </a:xfrm>
            <a:prstGeom prst="downArrow">
              <a:avLst>
                <a:gd name="adj1" fmla="val 50000"/>
                <a:gd name="adj2" fmla="val 27795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6743520" y="4457160"/>
              <a:ext cx="685800" cy="761760"/>
            </a:xfrm>
            <a:prstGeom prst="downArrow">
              <a:avLst>
                <a:gd name="adj1" fmla="val 50000"/>
                <a:gd name="adj2" fmla="val 27769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2286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57200"/>
              <a:ext cx="1524240" cy="642600"/>
            </a:xfrm>
            <a:prstGeom prst="rect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umusan Masala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38480" y="17524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ujuan Penelit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3055200">
              <a:off x="6714000" y="3418920"/>
              <a:ext cx="171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faat Penelit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2743200"/>
              <a:ext cx="990720" cy="9144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3733920"/>
              <a:ext cx="838080" cy="7617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727de0"/>
            </a:solidFill>
            <a:ln cap="sq" w="1260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2971800"/>
              <a:ext cx="83808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647960" y="2895480"/>
              <a:ext cx="68580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1120" y="5486400"/>
              <a:ext cx="1676160" cy="53352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523880" y="2514240"/>
              <a:ext cx="2819520" cy="3581280"/>
            </a:xfrm>
            <a:custGeom>
              <a:avLst/>
              <a:gdLst>
                <a:gd name="textAreaLeft" fmla="*/ 377640 w 2819520"/>
                <a:gd name="textAreaRight" fmla="*/ 2441880 w 2819520"/>
                <a:gd name="textAreaTop" fmla="*/ 626760 h 3581280"/>
                <a:gd name="textAreaBottom" fmla="*/ 259668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5715000"/>
              <a:ext cx="1752480" cy="368280"/>
            </a:xfrm>
            <a:prstGeom prst="rect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simpu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46483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GIATAN PENELIT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5909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28195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29200" y="29718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EMBAN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0C4-F6BC-4959-B529-7F9FD62579A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7C7C7-2086-4964-8230-454332D2DF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Latar Belaka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raian kontekstual dari permasalahan yang ditel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bersinambungan dengan hasil penelitian sebelum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urrent issues, issu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temporer yang terk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oad Ma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ulasan masa depan peneli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rgensi, motivasi, pentingnya masalah yang ditel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966-A219-492F-9393-487C376C3F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676F7-25E9-4D76-BB29-93873A3B80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Rumusan Masala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39068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rai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tanya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enelitian yang harus dicari jawabannya melalui proses penelitian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edoman Penulisan Tesis dan Disertasi Edisi 4, PPS-UNHAS 200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berapa jauh UNHAS mampu menerapkan TIK dalam menunjang penyelenggaraan [program] pengajaran dan pembelajara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ari naskah proposal disertasi oleh Muhammad Nadjib, 200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E3E-FED4-4274-9CFC-C58F6F1D9A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F0E00-097A-4621-ADB5-679830D54A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Tujuan Peneli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990720"/>
            <a:ext cx="7620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.sesuatu yang ingin dicapai oleh peneliti [dengan penelitiannya]….berupa keinginan realistis ….. Harus mempunyai kaitan atau hubungan yang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lev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ng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sala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ang diteliti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edoman Penulisan Tesis dan Disertasi Edisi 4, PPS-UNHAS 200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gungkapkan kemampuan UNHAS dalam menerapkan TIK [yang] menunjang  penyelenggaraan [program] pengajaran dan pembelajaran …………………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ri naskah proposal disertasi oleh Muhammad Nadjib, 200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C07-5244-4D8F-9FBB-5A7D5247802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1549D-E8A9-4E49-B055-869754868E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7160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Manfaat Peneli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990720"/>
            <a:ext cx="7620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.menggambarkan manfaat dan pentingnya hasil penelitian bagi pengembangan ilmu mau pun pembangunan yang lebih luas… manfaat dari diperolehnya hasil penelitian [dicapainya tujuan penelitian]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edoman Penulisan Tesis dan Disertasi Edisi 4, PPS-UNHAS 200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il penelitian ini dapat dimanfaatkan oleh para pimpinan universitas, fakultas dan bagian-bagian yang terkait…… untuk membuat kebijakan dalam penerapan TI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ri naskah proposal disertasi oleh Muhammad Nadjib, 200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42F-3108-4DFD-831E-01809EE2AEE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477AA-9FAC-4929-9FE9-29E3FDD206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12-26T12:36:31Z</dcterms:modified>
  <cp:revision>143</cp:revision>
  <dc:subject/>
  <dc:title>PowerPoint Presentation</dc:title>
</cp:coreProperties>
</file>