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FB7-0318-426D-8881-252B97FB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A67-0FDB-4159-A28F-EC85C55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EEB-035E-4848-B859-278E55F3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3B2-94FC-4058-AFC6-64AB94F0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43D-3D1E-4464-993B-34D009B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BC4-7D9D-4916-92D3-D5660B49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A3-3615-4B00-A0C3-D85567B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027-FB16-4AA0-9EBE-AF7A0BD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D99-D205-4A40-B9D3-279DF54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F93-4965-4043-8273-F8A3A2E0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875-F79C-48C6-9B00-4E692DCD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00D-3721-4D1B-B00B-5BFEF88A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2D6-1974-4366-8D93-662CCFF21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6120" y="1219320"/>
            <a:ext cx="8610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120" y="3505320"/>
            <a:ext cx="861084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28760" y="351324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G Hopk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University of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N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762120"/>
            <a:ext cx="8610840" cy="78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2840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Quantitative Data Analys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428760" y="1622520"/>
            <a:ext cx="8153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Summarizing Data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variables; simple statistics; effect statistics and statistical models; complex mod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Generalizing from Sample to Population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precision of estimate, confidence limits, statistical significance, p value,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80060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ference: 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Hopkins WG (2002).  Quantitative data analysis (Slideshow). 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portscience 6, sportsci.org/jour/0201/Quantitative_analysis.ppt (2046 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52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port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i-squared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tingency table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frequenci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expresse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s a difference in frequencies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atio of frequencies (relative risk)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 ratio of odds (odds ratio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risk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ross-sectional or prospective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isk of having rugby disease for males relative to females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75/100)/(30/100) = 2.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Odds ratio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ase-control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culated as (75/25)/(30/70) = 7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304920"/>
            <a:ext cx="3457800" cy="2805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0920" y="863640"/>
            <a:ext cx="1288440" cy="1266120"/>
            <a:chOff x="5560920" y="863640"/>
            <a:chExt cx="1288440" cy="1266120"/>
          </a:xfrm>
        </p:grpSpPr>
        <p:sp>
          <p:nvSpPr>
            <p:cNvPr id="341" name=""/>
            <p:cNvSpPr/>
            <p:nvPr/>
          </p:nvSpPr>
          <p:spPr>
            <a:xfrm>
              <a:off x="5560920" y="871200"/>
              <a:ext cx="12884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4" y="14130"/>
                  </a:moveTo>
                  <a:arcTo wR="10800" hR="10800" stAng="1077420" swAng="15114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4" y="14130"/>
                  </a:moveTo>
                  <a:arcTo wR="10800" hR="10800" stAng="1077420" swAng="15114217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5240" y="863640"/>
              <a:ext cx="613440" cy="81720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390" y="519"/>
                  </a:move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262640" y="863640"/>
            <a:ext cx="1295280" cy="1266120"/>
            <a:chOff x="7262640" y="863640"/>
            <a:chExt cx="1295280" cy="1266120"/>
          </a:xfrm>
        </p:grpSpPr>
        <p:sp>
          <p:nvSpPr>
            <p:cNvPr id="344" name=""/>
            <p:cNvSpPr/>
            <p:nvPr/>
          </p:nvSpPr>
          <p:spPr>
            <a:xfrm>
              <a:off x="7271640" y="873000"/>
              <a:ext cx="1286280" cy="125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26" swAng="5383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26" swAng="5383063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2640" y="863640"/>
              <a:ext cx="644760" cy="6303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0" y="400"/>
                  </a:moveTo>
                  <a:lnTo>
                    <a:pt x="410" y="400"/>
                  </a:lnTo>
                  <a:lnTo>
                    <a:pt x="4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81600" y="374760"/>
            <a:ext cx="9255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7720" y="374760"/>
            <a:ext cx="878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563440" y="863640"/>
            <a:ext cx="1285920" cy="1266840"/>
            <a:chOff x="5563440" y="863640"/>
            <a:chExt cx="1285920" cy="1266840"/>
          </a:xfrm>
        </p:grpSpPr>
        <p:sp>
          <p:nvSpPr>
            <p:cNvPr id="349" name=""/>
            <p:cNvSpPr/>
            <p:nvPr/>
          </p:nvSpPr>
          <p:spPr>
            <a:xfrm>
              <a:off x="5563440" y="871200"/>
              <a:ext cx="1285920" cy="125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6485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6485783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95960" y="863640"/>
              <a:ext cx="613080" cy="81756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0" y="0"/>
                  </a:moveTo>
                  <a:lnTo>
                    <a:pt x="0" y="399"/>
                  </a:lnTo>
                  <a:lnTo>
                    <a:pt x="390" y="5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10360" y="1173240"/>
            <a:ext cx="7207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262640" y="863640"/>
            <a:ext cx="1296360" cy="1266120"/>
            <a:chOff x="7262640" y="863640"/>
            <a:chExt cx="1296360" cy="1266120"/>
          </a:xfrm>
        </p:grpSpPr>
        <p:sp>
          <p:nvSpPr>
            <p:cNvPr id="353" name=""/>
            <p:cNvSpPr/>
            <p:nvPr/>
          </p:nvSpPr>
          <p:spPr>
            <a:xfrm>
              <a:off x="7270200" y="871200"/>
              <a:ext cx="128880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16216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16216937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62640" y="863640"/>
              <a:ext cx="645120" cy="63000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0" y="0"/>
                  </a:moveTo>
                  <a:lnTo>
                    <a:pt x="410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858080" y="1519200"/>
            <a:ext cx="760320" cy="4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32480" y="2367000"/>
            <a:ext cx="21420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02200" y="2249640"/>
            <a:ext cx="1886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32480" y="2746440"/>
            <a:ext cx="214200" cy="210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2200" y="2625840"/>
            <a:ext cx="188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ategorical modeling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lative risk or odds ratio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er uni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the numeric variabl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e.g., 2.3 per decade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ordinal or counts vs whate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sometimes be analyzed as numeric variables using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gression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t tes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wis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gistic regress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generalized linear mode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s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ducib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t tests, regression, or relative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Example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30120"/>
            <a:ext cx="3505320" cy="2946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02320" y="455760"/>
            <a:ext cx="2030400" cy="18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2520" y="2705040"/>
            <a:ext cx="81756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6280" y="812880"/>
            <a:ext cx="898560" cy="11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e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72320" y="993600"/>
            <a:ext cx="1657440" cy="1171800"/>
          </a:xfrm>
          <a:custGeom>
            <a:avLst/>
            <a:gdLst/>
            <a:ahLst/>
            <a:rect l="l" t="t" r="r" b="b"/>
            <a:pathLst>
              <a:path w="1044" h="738">
                <a:moveTo>
                  <a:pt x="0" y="738"/>
                </a:moveTo>
                <a:cubicBezTo>
                  <a:pt x="53" y="729"/>
                  <a:pt x="207" y="732"/>
                  <a:pt x="318" y="684"/>
                </a:cubicBezTo>
                <a:cubicBezTo>
                  <a:pt x="450" y="636"/>
                  <a:pt x="557" y="541"/>
                  <a:pt x="666" y="450"/>
                </a:cubicBezTo>
                <a:cubicBezTo>
                  <a:pt x="775" y="359"/>
                  <a:pt x="965" y="94"/>
                  <a:pt x="1044" y="0"/>
                </a:cubicBezTo>
              </a:path>
            </a:pathLst>
          </a:custGeom>
          <a:noFill/>
          <a:ln w="25560">
            <a:solidFill>
              <a:srgbClr val="f7668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9310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31916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35732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0694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92792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71372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429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68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714384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6200000">
            <a:off x="740520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rot="16200000">
            <a:off x="821088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6200000">
            <a:off x="8386560" y="5698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83106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78544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6200000">
            <a:off x="7996680" y="5698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6200000">
            <a:off x="785736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143840" y="214308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6413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14068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9704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547760" y="5691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722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140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5664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735732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64136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808344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4160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039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 rot="5400000">
            <a:off x="7624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 rot="5400000">
            <a:off x="770184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 rot="5400000">
            <a:off x="770112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73432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543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18448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66960" y="179244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66960" y="140004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366960" y="10080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366960" y="6174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448320" y="617040"/>
            <a:ext cx="1800" cy="15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502320" y="2360160"/>
            <a:ext cx="2031840" cy="81360"/>
            <a:chOff x="6502320" y="2360160"/>
            <a:chExt cx="2031840" cy="81360"/>
          </a:xfrm>
        </p:grpSpPr>
        <p:sp>
          <p:nvSpPr>
            <p:cNvPr id="418" name=""/>
            <p:cNvSpPr/>
            <p:nvPr/>
          </p:nvSpPr>
          <p:spPr>
            <a:xfrm>
              <a:off x="84038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96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492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108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600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502320" y="23601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62840" y="1974960"/>
            <a:ext cx="1774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200" y="403200"/>
            <a:ext cx="45504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334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99308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8375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791964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 rot="16200000">
            <a:off x="792252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0592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366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430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368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04920" y="127080"/>
            <a:ext cx="8534160" cy="671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ntrolled tri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numeric vs 2 nominal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 vs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unpaired t test of 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scor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, 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within- and between-subject factor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&gt;2 trials or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Note: use line diagram, not bar graph, for repeated measure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in 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difference, percent differenc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tandard deviation representing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individual respons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derived from within-subject standard deviations in the two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79360"/>
            <a:ext cx="2895480" cy="27003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6640" y="44928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7800" y="223344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24760" y="223344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323120" y="2216160"/>
            <a:ext cx="1171440" cy="74160"/>
            <a:chOff x="7323120" y="2216160"/>
            <a:chExt cx="1171440" cy="74160"/>
          </a:xfrm>
        </p:grpSpPr>
        <p:sp>
          <p:nvSpPr>
            <p:cNvPr id="441" name=""/>
            <p:cNvSpPr/>
            <p:nvPr/>
          </p:nvSpPr>
          <p:spPr>
            <a:xfrm>
              <a:off x="7323120" y="222444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48476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32284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485120" y="169056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493040" y="1045800"/>
            <a:ext cx="825480" cy="51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485120" y="1225080"/>
            <a:ext cx="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35800" y="2023920"/>
            <a:ext cx="986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35800" y="1225440"/>
            <a:ext cx="98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325000" y="5457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5000" y="151452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72440" y="546120"/>
            <a:ext cx="106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71000" y="1846440"/>
            <a:ext cx="1062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493040" y="1517760"/>
            <a:ext cx="825480" cy="1728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97308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4280" y="1419120"/>
            <a:ext cx="17964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146988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6200" y="1614600"/>
            <a:ext cx="17928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111744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156080" y="431280"/>
            <a:ext cx="81360" cy="1703160"/>
            <a:chOff x="7156080" y="431280"/>
            <a:chExt cx="81360" cy="1703160"/>
          </a:xfrm>
        </p:grpSpPr>
        <p:sp>
          <p:nvSpPr>
            <p:cNvPr id="460" name=""/>
            <p:cNvSpPr/>
            <p:nvPr/>
          </p:nvSpPr>
          <p:spPr>
            <a:xfrm flipH="1">
              <a:off x="7156080" y="2025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56080" y="169524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156080" y="13474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56080" y="1017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56080" y="669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237440" y="43128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570800" y="252252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10680" y="663480"/>
            <a:ext cx="637200" cy="42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Narrow"/>
              </a:rPr>
              <a:t>dr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16440" y="1731960"/>
            <a:ext cx="978480" cy="424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ff"/>
                </a:solidFill>
                <a:latin typeface="Arial Narrow"/>
              </a:rPr>
              <a:t>placeb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2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xtra predictor variable to "control for something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physical activity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't reduce to anything simpl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multiple linear regress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analysis of covariance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ANCOVA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quivalent to the effect of physical activity with everyone at the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same ag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duction in the effect of physical activity on disease when age is included implies age is at least partly the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reason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echanism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for th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ame analysis gives the effect of age with everyone at same level of physical activity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use special analysis (mixed modeling) to include a mechanism variable in a repeated-measures model.  See separate presentation at newstats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: some models don't fit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iforml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different subjec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 or within-subject standard deviations diff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between some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quivalently,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are non-uniform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have different standard deviations for different subject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termine by examining standard deviations or plot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vs predicte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n-uniformity makes p values an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 wro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to fix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Use unpaired t test for groups with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unequal varianc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ry taking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dependent variable before analyzing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nd some other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ransform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 As a last resort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AU" sz="2500" spc="-1" strike="noStrike">
                <a:solidFill>
                  <a:srgbClr val="009900"/>
                </a:solidFill>
                <a:latin typeface="Arial Narrow"/>
              </a:rPr>
              <a:t>rank transformation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rt dependent variable to ranks before analyzing (=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on-parametric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alysis–same as Wilcoxon, Kruskal-Wallis and other tes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4600" y="101160"/>
            <a:ext cx="869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neralizing from a Sample to a Pop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6760" y="786960"/>
            <a:ext cx="8686800" cy="59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tudy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find out about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value of a statistic for a sample is only an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true (population) valu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res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certaint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rue value using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95% confidence limi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fidence limits represen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kely range of the true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y do NOT represent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nge of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different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 5% chance the true value is outside the 95% confidence interval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0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pret the observed value and the confidence limits as clinically or practically beneficial, trivial, or harmfu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ven better, work out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hat the effect is clinically or practically beneficial/trivial/harmful. See sportsci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al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n old-fashioned way of generalizing, based on testing whether the true value could be zero or nul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 the </a:t>
            </a:r>
            <a:r>
              <a:rPr b="0" lang="en-US" sz="2700" spc="-1" strike="noStrike">
                <a:solidFill>
                  <a:srgbClr val="cc0066"/>
                </a:solidFill>
                <a:latin typeface="Arial Narrow"/>
              </a:rPr>
              <a:t>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at the true value is zero (null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r observed value falls in a region of extreme values that would occur only 5% of the time, you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jec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you decide that the true value is unlikely to be zero; you can state that the result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ly significan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t the 5% level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observed value does not fall in the 5% unlikely region, most peopl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istakenly accep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y conclude that the true value is zero or null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helps you decide whether your result falls in the unlikely region. 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 p&lt;0.05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your result is in the unlikely region. 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e meaning of the p valu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 of a more extreme observed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positive or negative) when true value is zero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meaning of the p value: if you observe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effect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1 - p/2</a:t>
            </a:r>
            <a:r>
              <a:rPr b="0" lang="en-US" sz="26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s the chance the true value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/2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s the chance the true value is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ega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  Ditto for a negative effec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ample:  you observe a 1.5% enhancement of performance (p=0.08).  Therefore there is a 96% chance that the true effect is any "enhancement" and a 4% chance that the true effect is any "impairment"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s interpretation does not take into account trivial enhancements and impairment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fore, if you must use p values, show exact values, not p&lt;0.05 or p&gt;0.05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eta-analyst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lso need the exact p value (or confidence limi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 fontScale="99000"/>
          </a:bodyPr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true value is zero, there's a 5% chance of getting statistical significanc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positives or false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lso a chance that the smallest worthwhile true value will produce an observed value that is not statistically significant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negatives or failed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the old-fashioned approach to research design, you are supposed to have enough subjects to make a Type II error rate of 20%:  that is, your study is supposed to have a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ower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80% to detect the smallest worthwhil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look a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ts of effec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a study, there's an increased chance being wrong about at least one of the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ld-fashioned statisticians like to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control this inflation of </a:t>
            </a:r>
            <a:br>
              <a:rPr sz="2500"/>
            </a:b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he Type I error rat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in an ANOVA to make sure the increased chance is kept to 5%. This approach is misguided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5840" y="76320"/>
            <a:ext cx="8610480" cy="67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 standard error of the me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typical variation in the mean from sample to sample) can convey statistical significance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n-overlap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the error bars of two groups implies a statistically significant difference, bu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group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qual siz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.g. males vs female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particular, non-overlap doe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convey statistical significance i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perimen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71560" y="3227400"/>
            <a:ext cx="7467480" cy="3402000"/>
            <a:chOff x="871560" y="3227400"/>
            <a:chExt cx="7467480" cy="3402000"/>
          </a:xfrm>
        </p:grpSpPr>
        <p:sp>
          <p:nvSpPr>
            <p:cNvPr id="478" name=""/>
            <p:cNvSpPr/>
            <p:nvPr/>
          </p:nvSpPr>
          <p:spPr>
            <a:xfrm>
              <a:off x="871560" y="3227400"/>
              <a:ext cx="7467480" cy="3402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813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5720" y="596412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55720" y="50086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5720" y="40258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797120" y="4025520"/>
              <a:ext cx="0" cy="19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813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30600" y="4584600"/>
              <a:ext cx="792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ha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3050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9084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6468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508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311560" y="4525560"/>
              <a:ext cx="109044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305080" y="4122360"/>
              <a:ext cx="110952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305080" y="4382640"/>
              <a:ext cx="110952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05080" y="4133520"/>
              <a:ext cx="1096920" cy="11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305080" y="4738680"/>
              <a:ext cx="110952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305080" y="4595400"/>
              <a:ext cx="110952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305080" y="5118120"/>
              <a:ext cx="1096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305080" y="4929120"/>
              <a:ext cx="1096920" cy="8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23400" y="3241800"/>
              <a:ext cx="1733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igh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27320" y="53085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27320" y="55706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27320" y="5451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7320" y="5748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27320" y="4727520"/>
              <a:ext cx="13320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7320" y="4941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1674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1520" y="4527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1520" y="48466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1520" y="46688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1520" y="50482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41520" y="43131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1520" y="4159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41520" y="4456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7320" y="509580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41520" y="40528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3160" y="3241800"/>
            <a:ext cx="1989000" cy="3275640"/>
            <a:chOff x="6023160" y="3241800"/>
            <a:chExt cx="1989000" cy="3275640"/>
          </a:xfrm>
        </p:grpSpPr>
        <p:sp>
          <p:nvSpPr>
            <p:cNvPr id="516" name=""/>
            <p:cNvSpPr/>
            <p:nvPr/>
          </p:nvSpPr>
          <p:spPr>
            <a:xfrm>
              <a:off x="6083280" y="4040280"/>
              <a:ext cx="19288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3280" y="6048360"/>
              <a:ext cx="19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08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9456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6840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3880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15280" y="4584600"/>
              <a:ext cx="1066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510240" y="514188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77120" y="514188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538020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7120" y="5587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3160" y="3241800"/>
              <a:ext cx="1725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an ± SE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 both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594560" y="436392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1440" y="4363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4560" y="459756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1440" y="480060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19880" y="527364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05640" y="449100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33000" y="3241800"/>
            <a:ext cx="1985040" cy="3275640"/>
            <a:chOff x="3933000" y="3241800"/>
            <a:chExt cx="1985040" cy="3275640"/>
          </a:xfrm>
        </p:grpSpPr>
        <p:sp>
          <p:nvSpPr>
            <p:cNvPr id="535" name=""/>
            <p:cNvSpPr/>
            <p:nvPr/>
          </p:nvSpPr>
          <p:spPr>
            <a:xfrm>
              <a:off x="39909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09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4164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500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284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4504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10000" y="4738320"/>
              <a:ext cx="11019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410000" y="5118120"/>
              <a:ext cx="1090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6480" y="4382640"/>
              <a:ext cx="110808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21160" y="4133520"/>
              <a:ext cx="109080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10000" y="4792680"/>
              <a:ext cx="11019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16480" y="4595400"/>
              <a:ext cx="11080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416480" y="4239720"/>
              <a:ext cx="1084320" cy="14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6480" y="4525920"/>
              <a:ext cx="108432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3000" y="3241800"/>
              <a:ext cx="1677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ow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53085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36920" y="55706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36920" y="5451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36920" y="5748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6920" y="4727520"/>
              <a:ext cx="13356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6920" y="4941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6920" y="51674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1480" y="4527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51480" y="48466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51480" y="46688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51480" y="50482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51480" y="43131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4159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51480" y="4456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36920" y="509580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51480" y="40528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920" y="151920"/>
            <a:ext cx="866448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marizing Dat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360" y="837720"/>
            <a:ext cx="8661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re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bunch of 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one or mor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something that has different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lues can b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depending on the variabl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umer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weigh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number of injur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competitive level (values are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numbers/names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om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sex (values are na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 visualize th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distributio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f all values in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stem and leaf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in a frequency histogra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Can also use </a:t>
            </a:r>
            <a:r>
              <a:rPr b="1" lang="en-AU" sz="2600" spc="-1" strike="noStrike">
                <a:solidFill>
                  <a:srgbClr val="009900"/>
                </a:solidFill>
                <a:latin typeface="Arial Narrow"/>
              </a:rPr>
              <a:t>normal probability plots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 to visualize how well the values fit a normal distribu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visualize the frequency of each value with a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pie chart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a just a list of values and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85840" y="75960"/>
            <a:ext cx="8610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summ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must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atistical significance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till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instead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EV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how the standard error of the mean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how the usual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convey the spread between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population studies, this standard deviation helps convey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agnitude of differences or chang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n the mean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interventions, 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ls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the typical error)  to convey precision of measurem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athlete studies, this standard deviation helps convey magnitude of differences or changes in mean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erformanc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03040" y="76320"/>
            <a:ext cx="8737920" cy="66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numbe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ummariz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 bunch of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univari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values of one variable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utcom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the relationship between value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wo or more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averag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error of the 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 in the mean with repeated samp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ultiply by </a:t>
            </a:r>
            <a:r>
              <a:rPr b="1" lang="en-US" sz="26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(sample size)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to convert to standard devia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se these also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ordinal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media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middle value or 50th percentile) and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quartil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25th and 75th percentiles) for grossly non-normally distributed dat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Summarize these and other simple statistics visually with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box and whisker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96360"/>
            <a:ext cx="8534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Frequenci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proportions, or odd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also use these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istic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rived from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 mode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quation) of the for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Y (dependent) vs X (predictor or independent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pend o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Y and X .  Main one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3759120"/>
            <a:ext cx="8534160" cy="473040"/>
            <a:chOff x="304920" y="3759120"/>
            <a:chExt cx="8534160" cy="473040"/>
          </a:xfrm>
        </p:grpSpPr>
        <p:sp>
          <p:nvSpPr>
            <p:cNvPr id="91" name=""/>
            <p:cNvSpPr/>
            <p:nvPr/>
          </p:nvSpPr>
          <p:spPr>
            <a:xfrm>
              <a:off x="304920" y="3759120"/>
              <a:ext cx="1427040" cy="47304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3759120"/>
              <a:ext cx="1230480" cy="47304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5600" y="3759120"/>
              <a:ext cx="3903480" cy="473040"/>
            </a:xfrm>
            <a:prstGeom prst="rect">
              <a:avLst/>
            </a:prstGeom>
            <a:solidFill>
              <a:srgbClr val="ff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Effect statistic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9200" y="3759120"/>
              <a:ext cx="1976400" cy="473040"/>
            </a:xfrm>
            <a:prstGeom prst="rect">
              <a:avLst/>
            </a:prstGeom>
            <a:solidFill>
              <a:srgbClr val="99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odel/Tes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920" y="4219560"/>
            <a:ext cx="8534160" cy="473040"/>
            <a:chOff x="304920" y="4219560"/>
            <a:chExt cx="8534160" cy="473040"/>
          </a:xfrm>
        </p:grpSpPr>
        <p:sp>
          <p:nvSpPr>
            <p:cNvPr id="96" name=""/>
            <p:cNvSpPr/>
            <p:nvPr/>
          </p:nvSpPr>
          <p:spPr>
            <a:xfrm>
              <a:off x="304920" y="42195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36640" y="42195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5600" y="42195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slope, intercept, correlatio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9200" y="42195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regress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4920" y="4689360"/>
            <a:ext cx="8534160" cy="1406520"/>
            <a:chOff x="304920" y="4689360"/>
            <a:chExt cx="8534160" cy="1406520"/>
          </a:xfrm>
        </p:grpSpPr>
        <p:sp>
          <p:nvSpPr>
            <p:cNvPr id="101" name=""/>
            <p:cNvSpPr/>
            <p:nvPr/>
          </p:nvSpPr>
          <p:spPr>
            <a:xfrm>
              <a:off x="304920" y="46893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6640" y="46893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515628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6640" y="515628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562284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36640" y="562284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5600" y="46893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ean dif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5600" y="515628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difference or rat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562284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ratio per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59200" y="46893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t test, ANOV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59200" y="515628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hi-squa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9200" y="562284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ategoric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body fat vs sum of skinfol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slop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d intercep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parameter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orrelation coefficien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variance explained (= 100·correlatio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ypical or standard error of the estimat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residual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best measure of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validity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with criterion variable on the Y axi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04920"/>
            <a:ext cx="3429000" cy="2616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2320" y="430200"/>
            <a:ext cx="2030400" cy="18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32840" y="2425680"/>
            <a:ext cx="220752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 skinfolds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874800"/>
            <a:ext cx="9288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dy f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32560" y="496800"/>
            <a:ext cx="1963800" cy="1648080"/>
          </a:xfrm>
          <a:prstGeom prst="line">
            <a:avLst/>
          </a:prstGeom>
          <a:ln w="255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59440" y="1581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02360" y="1494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1080" y="1708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14400" y="12445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57320" y="17082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86760" y="156528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69400" y="9730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27920" y="1116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13720" y="7596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429680" y="11383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6880" y="1735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9440" y="1992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02360" y="1892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784280" y="9954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14384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28676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7405200" y="1635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8210880" y="54432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6200000">
            <a:off x="8209440" y="687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16200000">
            <a:off x="831060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200000">
            <a:off x="7854480" y="8532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997040" y="59292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7857360" y="14234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43840" y="162576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641360" y="1044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140680" y="6174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97040" y="7603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3840" y="12812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72200" y="15652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14068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856640" y="6890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5732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4136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00960" y="85320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416000" y="9723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03960" y="13748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7624440" y="15883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 rot="5400000">
            <a:off x="7701840" y="14472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7701120" y="13050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7343280" y="1280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631280" y="13024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934920"/>
            <a:ext cx="0" cy="68580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66960" y="430200"/>
            <a:ext cx="81360" cy="1847520"/>
            <a:chOff x="6366960" y="430200"/>
            <a:chExt cx="81360" cy="1847520"/>
          </a:xfrm>
        </p:grpSpPr>
        <p:sp>
          <p:nvSpPr>
            <p:cNvPr id="166" name=""/>
            <p:cNvSpPr/>
            <p:nvPr/>
          </p:nvSpPr>
          <p:spPr>
            <a:xfrm flipH="1">
              <a:off x="6366960" y="21592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66960" y="180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14238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366960" y="1065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366960" y="688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48320" y="430200"/>
              <a:ext cx="0" cy="18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502320" y="2334960"/>
            <a:ext cx="2031840" cy="81360"/>
            <a:chOff x="6502320" y="2334960"/>
            <a:chExt cx="2031840" cy="81360"/>
          </a:xfrm>
        </p:grpSpPr>
        <p:sp>
          <p:nvSpPr>
            <p:cNvPr id="173" name=""/>
            <p:cNvSpPr/>
            <p:nvPr/>
          </p:nvSpPr>
          <p:spPr>
            <a:xfrm>
              <a:off x="84038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96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92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108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600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02320" y="23349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 test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1-way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&gt;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between mean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pressed as raw difference, percent difference, or fraction of the root mean square error (Cohen's effect-size statistic)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variance explained or better </a:t>
            </a:r>
            <a:r>
              <a:rPr b="0" lang="en-US" sz="25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(variance explained/100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oot mean square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average standard deviation of the two group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33520"/>
            <a:ext cx="3429000" cy="2590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6240" y="24382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2438280"/>
            <a:ext cx="113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46720" y="11970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69200" y="674640"/>
            <a:ext cx="19936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30600" y="657000"/>
            <a:ext cx="81360" cy="1703160"/>
            <a:chOff x="6330600" y="657000"/>
            <a:chExt cx="81360" cy="1703160"/>
          </a:xfrm>
        </p:grpSpPr>
        <p:sp>
          <p:nvSpPr>
            <p:cNvPr id="186" name=""/>
            <p:cNvSpPr/>
            <p:nvPr/>
          </p:nvSpPr>
          <p:spPr>
            <a:xfrm flipH="1">
              <a:off x="6330600" y="225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30600" y="19209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30600" y="15732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30600" y="1243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30600" y="895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411960" y="65700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72320" y="1571760"/>
            <a:ext cx="560520" cy="77940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61160" y="1241280"/>
            <a:ext cx="559080" cy="110988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42320" y="12636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3400" y="125748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50240" y="9126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91296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13440" y="27208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3260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3764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on expressing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ef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at often matters is the difference between means relative t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89640" y="1752480"/>
            <a:ext cx="3048840" cy="4191120"/>
            <a:chOff x="989640" y="1752480"/>
            <a:chExt cx="3048840" cy="4191120"/>
          </a:xfrm>
        </p:grpSpPr>
        <p:sp>
          <p:nvSpPr>
            <p:cNvPr id="203" name=""/>
            <p:cNvSpPr/>
            <p:nvPr/>
          </p:nvSpPr>
          <p:spPr>
            <a:xfrm>
              <a:off x="990720" y="2209680"/>
              <a:ext cx="30477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1920" y="3657600"/>
              <a:ext cx="257796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3644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85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4604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400480" y="3162240"/>
              <a:ext cx="352080" cy="152640"/>
              <a:chOff x="2400480" y="3162240"/>
              <a:chExt cx="35208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400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9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19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48000" y="2577960"/>
              <a:ext cx="352440" cy="152640"/>
              <a:chOff x="2448000" y="2577960"/>
              <a:chExt cx="352440" cy="152640"/>
            </a:xfrm>
          </p:grpSpPr>
          <p:sp>
            <p:nvSpPr>
              <p:cNvPr id="213" name=""/>
              <p:cNvSpPr/>
              <p:nvPr/>
            </p:nvSpPr>
            <p:spPr>
              <a:xfrm>
                <a:off x="244800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9756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219320" y="2438280"/>
              <a:ext cx="133668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5305320"/>
              <a:ext cx="2585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1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89640" y="175248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ivial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16480" y="1752480"/>
            <a:ext cx="3736800" cy="4191120"/>
            <a:chOff x="4416480" y="1752480"/>
            <a:chExt cx="3736800" cy="4191120"/>
          </a:xfrm>
        </p:grpSpPr>
        <p:sp>
          <p:nvSpPr>
            <p:cNvPr id="223" name=""/>
            <p:cNvSpPr/>
            <p:nvPr/>
          </p:nvSpPr>
          <p:spPr>
            <a:xfrm>
              <a:off x="4419720" y="2209680"/>
              <a:ext cx="37335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0920" y="3657600"/>
              <a:ext cx="327672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752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4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200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29480" y="3162240"/>
              <a:ext cx="352080" cy="152640"/>
              <a:chOff x="5829480" y="3162240"/>
              <a:chExt cx="352080" cy="1526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9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78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48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78640" y="2577960"/>
              <a:ext cx="352440" cy="152640"/>
              <a:chOff x="6578640" y="2577960"/>
              <a:chExt cx="352440" cy="152640"/>
            </a:xfrm>
          </p:grpSpPr>
          <p:sp>
            <p:nvSpPr>
              <p:cNvPr id="233" name=""/>
              <p:cNvSpPr/>
              <p:nvPr/>
            </p:nvSpPr>
            <p:spPr>
              <a:xfrm>
                <a:off x="657864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2820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8320" y="2438280"/>
              <a:ext cx="203184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305320"/>
              <a:ext cx="32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0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0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6480" y="1752480"/>
              <a:ext cx="221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ery large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61048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raction or multiple of a standard deviation is known as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-size statist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or Cohen's "d"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hen suggeste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hreshol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correlations and effect siz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pkins agrees with the thresholds for correlations but suggests others for the effect siz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1240" y="2362320"/>
            <a:ext cx="8382240" cy="1756800"/>
            <a:chOff x="381240" y="2362320"/>
            <a:chExt cx="8382240" cy="1756800"/>
          </a:xfrm>
        </p:grpSpPr>
        <p:sp>
          <p:nvSpPr>
            <p:cNvPr id="244" name=""/>
            <p:cNvSpPr/>
            <p:nvPr/>
          </p:nvSpPr>
          <p:spPr>
            <a:xfrm>
              <a:off x="838080" y="3674880"/>
              <a:ext cx="37332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16000" y="3674880"/>
              <a:ext cx="137484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9120" y="3684240"/>
              <a:ext cx="790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riv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3674880"/>
              <a:ext cx="137304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5760" y="3684240"/>
              <a:ext cx="765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m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2720" y="3674880"/>
              <a:ext cx="1373400" cy="44424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4440" y="3684240"/>
              <a:ext cx="1208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4960" y="3674880"/>
              <a:ext cx="13748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7160" y="3684240"/>
              <a:ext cx="727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6840" y="3674880"/>
              <a:ext cx="1374840" cy="4442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34800" y="3684240"/>
              <a:ext cx="1258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very 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39080" y="3674880"/>
              <a:ext cx="669960" cy="444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5760" y="3684240"/>
              <a:ext cx="410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!!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51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688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732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877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98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4820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2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720" y="3071520"/>
              <a:ext cx="1235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Hopkins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40" y="23623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80" y="2750760"/>
              <a:ext cx="1054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Coh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269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6832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287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41240" y="275076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6960" y="3555720"/>
              <a:ext cx="765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812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9228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85452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214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75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93764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618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440" y="3674880"/>
              <a:ext cx="372960" cy="44424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1240" y="4232160"/>
            <a:ext cx="8390160" cy="1234080"/>
            <a:chOff x="381240" y="4232160"/>
            <a:chExt cx="8390160" cy="1234080"/>
          </a:xfrm>
        </p:grpSpPr>
        <p:sp>
          <p:nvSpPr>
            <p:cNvPr id="281" name=""/>
            <p:cNvSpPr/>
            <p:nvPr/>
          </p:nvSpPr>
          <p:spPr>
            <a:xfrm>
              <a:off x="961920" y="4232160"/>
              <a:ext cx="765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8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7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984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0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70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2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13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1240" y="4316040"/>
              <a:ext cx="8390160" cy="1150200"/>
              <a:chOff x="381240" y="4316040"/>
              <a:chExt cx="8390160" cy="1150200"/>
            </a:xfrm>
          </p:grpSpPr>
          <p:sp>
            <p:nvSpPr>
              <p:cNvPr id="290" name=""/>
              <p:cNvSpPr/>
              <p:nvPr/>
            </p:nvSpPr>
            <p:spPr>
              <a:xfrm>
                <a:off x="22143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4720" y="4981320"/>
                <a:ext cx="12358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Hopkins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5572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6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161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1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77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2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28640" y="498132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4820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4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600" y="4889160"/>
                <a:ext cx="4878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1240" y="4316040"/>
                <a:ext cx="1585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ffect Siz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143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5080" y="4643280"/>
                <a:ext cx="10548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Cohen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572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61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8640" y="464328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17520" y="56386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studies of athletic performance, percent differences or changes in the mean are better than Cohen effect siz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repeated measur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aired t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ne within-subject factor (&gt;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change, percent chang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not visible on above plot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ty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pical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rro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r: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ys error of measuremen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seful to gauge reliability, individual responses, and magnitude of effects (for measures of athletic performanc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816520" y="533520"/>
            <a:ext cx="2895840" cy="2743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42200" y="70344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63000" y="248760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50320" y="248760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348680" y="2470320"/>
            <a:ext cx="1171440" cy="74160"/>
            <a:chOff x="7348680" y="2470320"/>
            <a:chExt cx="1171440" cy="74160"/>
          </a:xfrm>
        </p:grpSpPr>
        <p:sp>
          <p:nvSpPr>
            <p:cNvPr id="311" name=""/>
            <p:cNvSpPr/>
            <p:nvPr/>
          </p:nvSpPr>
          <p:spPr>
            <a:xfrm>
              <a:off x="7348680" y="24786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1032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34840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V="1">
            <a:off x="7518240" y="1300320"/>
            <a:ext cx="82584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458120" y="1479240"/>
            <a:ext cx="98280" cy="352440"/>
            <a:chOff x="7458120" y="1479240"/>
            <a:chExt cx="98280" cy="352440"/>
          </a:xfrm>
        </p:grpSpPr>
        <p:sp>
          <p:nvSpPr>
            <p:cNvPr id="316" name=""/>
            <p:cNvSpPr/>
            <p:nvPr/>
          </p:nvSpPr>
          <p:spPr>
            <a:xfrm flipV="1">
              <a:off x="7507080" y="147924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8120" y="14796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92960" y="799920"/>
            <a:ext cx="106560" cy="431640"/>
            <a:chOff x="8292960" y="799920"/>
            <a:chExt cx="106560" cy="431640"/>
          </a:xfrm>
        </p:grpSpPr>
        <p:sp>
          <p:nvSpPr>
            <p:cNvPr id="319" name=""/>
            <p:cNvSpPr/>
            <p:nvPr/>
          </p:nvSpPr>
          <p:spPr>
            <a:xfrm flipV="1">
              <a:off x="8345520" y="79992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92960" y="80028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255160" y="122724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16720" y="172404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1440" y="13716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182000" y="685440"/>
            <a:ext cx="80640" cy="1703160"/>
            <a:chOff x="7182000" y="685440"/>
            <a:chExt cx="80640" cy="1703160"/>
          </a:xfrm>
        </p:grpSpPr>
        <p:sp>
          <p:nvSpPr>
            <p:cNvPr id="325" name=""/>
            <p:cNvSpPr/>
            <p:nvPr/>
          </p:nvSpPr>
          <p:spPr>
            <a:xfrm flipH="1">
              <a:off x="7182000" y="2279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182000" y="194940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182000" y="160164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82000" y="1271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82000" y="92376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262640" y="68544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596360" y="277668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458120" y="1822320"/>
            <a:ext cx="98280" cy="352440"/>
            <a:chOff x="7458120" y="1822320"/>
            <a:chExt cx="98280" cy="352440"/>
          </a:xfrm>
        </p:grpSpPr>
        <p:sp>
          <p:nvSpPr>
            <p:cNvPr id="333" name=""/>
            <p:cNvSpPr/>
            <p:nvPr/>
          </p:nvSpPr>
          <p:spPr>
            <a:xfrm>
              <a:off x="7507080" y="182232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58120" y="21744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292960" y="1363680"/>
            <a:ext cx="106560" cy="431640"/>
            <a:chOff x="8292960" y="1363680"/>
            <a:chExt cx="106560" cy="431640"/>
          </a:xfrm>
        </p:grpSpPr>
        <p:sp>
          <p:nvSpPr>
            <p:cNvPr id="336" name=""/>
            <p:cNvSpPr/>
            <p:nvPr/>
          </p:nvSpPr>
          <p:spPr>
            <a:xfrm>
              <a:off x="8345520" y="136368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92960" y="179496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9:26:03Z</dcterms:created>
  <dc:creator>Will Hopkins</dc:creator>
  <dc:description/>
  <dc:language>en-US</dc:language>
  <cp:lastModifiedBy>Reviewer Q</cp:lastModifiedBy>
  <cp:lastPrinted>2001-02-09T23:28:35Z</cp:lastPrinted>
  <dcterms:modified xsi:type="dcterms:W3CDTF">2002-10-27T20:44:50Z</dcterms:modified>
  <cp:revision>75</cp:revision>
  <dc:subject/>
  <dc:title>Quantitative data analysis</dc:title>
</cp:coreProperties>
</file>