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298-F41D-44CC-8A67-01BB8386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DCC-8BE3-4B42-8012-219A408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023-1A3B-40FB-8D13-FDDDCABC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406-1533-4EC3-88FD-61DD5D45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285A-CADD-44BD-9663-355B86B0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C287-61A4-46EE-A55F-AFEA2B68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BF30-0AB0-402C-9EBC-893658F1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2907-A938-4F11-A43C-CE6B9E78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A68-8EB4-417B-91A7-7A5E753C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7655-B014-49AD-A7C3-350A3EEC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03E2-E599-4BEC-84BB-E4B25E3E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500-F91D-43FC-99B9-E8C3EBAC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3E74-DECE-49D5-867B-40F93E6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E92-F4A5-4F37-9FD0-3BA7B18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8DEC-2437-465C-B6AC-4B4823A1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76D5-FFC3-4C42-8A4D-E18A0241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7494-20D1-4FD7-8638-EFE06BBD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7C8-D387-481A-886F-151D036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8A9-2A53-4C8C-ADA7-768BEFC1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4D8-6B48-40DA-B801-8F58C30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080-9347-4E75-8728-CEF683D2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0D2-C254-47FF-ADE3-F87DB03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251-0C2B-4B4C-A899-CF87B077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34D-58D6-40A6-842C-F6D8328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086A-5F92-4CBA-A258-95F095B9AFF5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90B-79F0-452C-90CA-E5AE1748C21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BBA6-3F14-421C-9989-775FD109781B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2B8A-CD11-42F7-A135-47476CFEF3F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4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10.wmf"/><Relationship Id="rId3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0.wmf"/><Relationship Id="rId33" Type="http://schemas.openxmlformats.org/officeDocument/2006/relationships/image" Target="../media/image9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4.wmf"/><Relationship Id="rId3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DARI WARNET KE PUSAT PELAYANAN INFORMASI TERPADU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@unhas.ac.id     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FD7B-BEED-411E-AE50-69FFCB670F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EC17075-E14A-463F-B98B-2D31F656C511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DB25-8843-435A-9354-8CAD359774A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79155E-F6A6-4E79-BD86-A5CC30F2CF86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888-2355-457F-A5C0-7BE71D3F4B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435E7-9227-4171-A88C-4EB16415AE65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slow" advTm="6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43000" y="6840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40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F42-CF92-42E8-B695-8309BFACAD3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AB3ED-171A-4634-BA65-AE0A3B0F3826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3660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5608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792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91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Contoh: sekretaris, manajer, 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2438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755880"/>
            <a:ext cx="132264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gguna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990720"/>
            <a:ext cx="8305560" cy="4952520"/>
            <a:chOff x="838080" y="990720"/>
            <a:chExt cx="8305560" cy="4952520"/>
          </a:xfrm>
        </p:grpSpPr>
        <p:sp>
          <p:nvSpPr>
            <p:cNvPr id="133" name=""/>
            <p:cNvSpPr/>
            <p:nvPr/>
          </p:nvSpPr>
          <p:spPr>
            <a:xfrm>
              <a:off x="838080" y="990720"/>
              <a:ext cx="8305560" cy="49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1921320" y="4009680"/>
            <a:ext cx="542160" cy="71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1320" y="400968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4630320" y="2752560"/>
            <a:ext cx="1443960" cy="79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30320" y="2752560"/>
                      <a:ext cx="144396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2463480" y="4512960"/>
            <a:ext cx="721080" cy="30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63480" y="4512960"/>
                      <a:ext cx="72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6074280" y="990720"/>
            <a:ext cx="3008880" cy="1904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4280" y="990720"/>
                      <a:ext cx="3008880" cy="190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4991040" y="1493640"/>
            <a:ext cx="1979280" cy="185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91040" y="1493640"/>
                      <a:ext cx="197928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11"/>
            <a:stretch/>
          </p:blipFill>
          <p:spPr>
            <a:xfrm>
              <a:off x="3366720" y="1242360"/>
              <a:ext cx="885240" cy="23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2"/>
            <a:stretch/>
          </p:blipFill>
          <p:spPr>
            <a:xfrm>
              <a:off x="4268160" y="1998360"/>
              <a:ext cx="599760" cy="1576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6" name=""/>
            <p:cNvGraphicFramePr/>
            <p:nvPr/>
          </p:nvGraphicFramePr>
          <p:xfrm>
            <a:off x="2704680" y="4848840"/>
            <a:ext cx="721080" cy="304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04680" y="4848840"/>
                      <a:ext cx="72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6647760" y="4233600"/>
            <a:ext cx="722520" cy="304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47760" y="4233600"/>
                      <a:ext cx="7225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6814440" y="4566240"/>
            <a:ext cx="722520" cy="303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14440" y="4566240"/>
                      <a:ext cx="7225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1380240" y="4512960"/>
            <a:ext cx="540720" cy="71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80240" y="4512960"/>
                      <a:ext cx="540720" cy="71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101680" y="4658400"/>
            <a:ext cx="542160" cy="71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01680" y="465840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7480080" y="4233600"/>
            <a:ext cx="542160" cy="710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480080" y="423360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7063920" y="4899240"/>
            <a:ext cx="542160" cy="710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063920" y="489924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"/>
            <p:cNvGraphicFramePr/>
            <p:nvPr/>
          </p:nvGraphicFramePr>
          <p:xfrm>
            <a:off x="7729560" y="4982760"/>
            <a:ext cx="540720" cy="7106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729560" y="4982760"/>
                      <a:ext cx="54072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8312040" y="4399920"/>
            <a:ext cx="540720" cy="710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312040" y="4399920"/>
                      <a:ext cx="54072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1988640" y="3151440"/>
            <a:ext cx="1979280" cy="1858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988640" y="3151440"/>
                      <a:ext cx="1979280" cy="18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1156680" y="3900600"/>
              <a:ext cx="2495880" cy="199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8280" y="3817080"/>
              <a:ext cx="2745360" cy="2080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5649480" y="2818440"/>
            <a:ext cx="1979280" cy="18590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649480" y="2818440"/>
                      <a:ext cx="197928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403080" y="4566240"/>
              <a:ext cx="39103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WARNET-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02400" y="1236960"/>
              <a:ext cx="166392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"/>
                </a:rPr>
                <a:t>ISP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98280" y="1653120"/>
              <a:ext cx="266256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aeaea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slow" advTm="7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, masalah ketidak-seimbangan aliran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755880"/>
            <a:ext cx="132264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gguna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219320"/>
            <a:ext cx="830592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20960" y="4010040"/>
          <a:ext cx="5428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4010040"/>
                    <a:ext cx="542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63840" y="4513320"/>
          <a:ext cx="7207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4513320"/>
                    <a:ext cx="720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76720" y="1219320"/>
          <a:ext cx="3009960" cy="19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219320"/>
                    <a:ext cx="30099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705040" y="4849920"/>
          <a:ext cx="72072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5040" y="4849920"/>
                    <a:ext cx="7207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648480" y="4233960"/>
          <a:ext cx="72216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48480" y="4233960"/>
                    <a:ext cx="7221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15160" y="4567320"/>
          <a:ext cx="722160" cy="30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15160" y="4567320"/>
                    <a:ext cx="722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380960" y="4513320"/>
          <a:ext cx="540000" cy="71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80960" y="4513320"/>
                    <a:ext cx="540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101680" y="4659480"/>
          <a:ext cx="543240" cy="709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01680" y="4659480"/>
                    <a:ext cx="5432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7480440" y="4233960"/>
          <a:ext cx="542880" cy="71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80440" y="4233960"/>
                    <a:ext cx="542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064280" y="4898880"/>
          <a:ext cx="54288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4280" y="4898880"/>
                    <a:ext cx="542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729560" y="4983120"/>
          <a:ext cx="541440" cy="71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29560" y="4983120"/>
                    <a:ext cx="541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8312040" y="4400640"/>
          <a:ext cx="541440" cy="711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12040" y="4400640"/>
                    <a:ext cx="541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157400" y="3900600"/>
            <a:ext cx="2495520" cy="199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99360" y="3817800"/>
            <a:ext cx="2744640" cy="208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03440" y="4567320"/>
            <a:ext cx="39103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WARNET-WA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828800"/>
            <a:ext cx="26622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7410000">
            <a:off x="2894760" y="2590560"/>
            <a:ext cx="1752840" cy="190476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476280 h 1904760"/>
              <a:gd name="textAreaBottom" fmla="*/ 1428840 h 1904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rot="13242000">
            <a:off x="5694120" y="2183760"/>
            <a:ext cx="1914480" cy="1904760"/>
          </a:xfrm>
          <a:custGeom>
            <a:avLst/>
            <a:gdLst>
              <a:gd name="textAreaLeft" fmla="*/ 299520 w 1914480"/>
              <a:gd name="textAreaRight" fmla="*/ 1675800 w 1914480"/>
              <a:gd name="textAreaTop" fmla="*/ 476280 h 1904760"/>
              <a:gd name="textAreaBottom" fmla="*/ 1428840 h 1904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2362320"/>
            <a:ext cx="106704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105160" y="2895480"/>
            <a:ext cx="190476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: http://www.nama_warnet.or.id/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73920" y="990720"/>
          <a:ext cx="300960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3920" y="990720"/>
                    <a:ext cx="30096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838080" y="1236600"/>
            <a:ext cx="8305920" cy="5011920"/>
            <a:chOff x="838080" y="1236600"/>
            <a:chExt cx="8305920" cy="5011920"/>
          </a:xfrm>
        </p:grpSpPr>
        <p:sp>
          <p:nvSpPr>
            <p:cNvPr id="216" name=""/>
            <p:cNvSpPr/>
            <p:nvPr/>
          </p:nvSpPr>
          <p:spPr>
            <a:xfrm>
              <a:off x="1066680" y="3755880"/>
              <a:ext cx="132264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Times New Roman"/>
                </a:rPr>
                <a:t>Pengguna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295280"/>
              <a:ext cx="8305920" cy="495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1920960" y="4010040"/>
            <a:ext cx="54288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4010040"/>
                      <a:ext cx="542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4630680" y="2752560"/>
            <a:ext cx="1443240" cy="79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30680" y="2752560"/>
                      <a:ext cx="144324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2463840" y="4513320"/>
            <a:ext cx="720720" cy="30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63840" y="4513320"/>
                      <a:ext cx="7207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4991040" y="1494000"/>
            <a:ext cx="1979640" cy="18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91040" y="1494000"/>
                      <a:ext cx="1979640" cy="18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1371600" y="3048120"/>
              <a:ext cx="82404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4268880" y="1998720"/>
              <a:ext cx="598320" cy="1576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8" name=""/>
            <p:cNvGraphicFramePr/>
            <p:nvPr/>
          </p:nvGraphicFramePr>
          <p:xfrm>
            <a:off x="2705040" y="4849920"/>
            <a:ext cx="720720" cy="30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05040" y="4849920"/>
                      <a:ext cx="7207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6648480" y="4233960"/>
            <a:ext cx="722160" cy="304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48480" y="4233960"/>
                      <a:ext cx="7221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"/>
            <p:cNvGraphicFramePr/>
            <p:nvPr/>
          </p:nvGraphicFramePr>
          <p:xfrm>
            <a:off x="6815160" y="4567320"/>
            <a:ext cx="722160" cy="303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15160" y="4567320"/>
                      <a:ext cx="7221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"/>
            <p:cNvGraphicFramePr/>
            <p:nvPr/>
          </p:nvGraphicFramePr>
          <p:xfrm>
            <a:off x="1380960" y="4513320"/>
            <a:ext cx="540000" cy="712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80960" y="4513320"/>
                      <a:ext cx="540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2101680" y="4659480"/>
            <a:ext cx="543240" cy="709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01680" y="4659480"/>
                      <a:ext cx="54324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7064280" y="4898880"/>
            <a:ext cx="542880" cy="711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64280" y="4898880"/>
                      <a:ext cx="542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7729560" y="4983120"/>
            <a:ext cx="541440" cy="711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729560" y="4983120"/>
                      <a:ext cx="54144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312040" y="4400640"/>
            <a:ext cx="541440" cy="7110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8312040" y="4400640"/>
                      <a:ext cx="54144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1989000" y="2655720"/>
            <a:ext cx="2506680" cy="23544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989000" y="2655720"/>
                      <a:ext cx="2506680" cy="23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1157400" y="3900600"/>
              <a:ext cx="2495520" cy="199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47" name=""/>
            <p:cNvGraphicFramePr/>
            <p:nvPr/>
          </p:nvGraphicFramePr>
          <p:xfrm>
            <a:off x="5649840" y="2817720"/>
            <a:ext cx="1979640" cy="1860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649840" y="2817720"/>
                      <a:ext cx="1979640" cy="18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3403440" y="4191120"/>
              <a:ext cx="200664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-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02040" y="1236600"/>
              <a:ext cx="166356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"/>
                </a:rPr>
                <a:t>ISP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99360" y="1652760"/>
              <a:ext cx="26622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aeaea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3"/>
            <a:stretch/>
          </p:blipFill>
          <p:spPr>
            <a:xfrm>
              <a:off x="7391520" y="3048120"/>
              <a:ext cx="8236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219320" y="1600200"/>
              <a:ext cx="228600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web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mail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proxy 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file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4038480"/>
              <a:ext cx="228600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web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mail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proxy 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file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99360" y="3817800"/>
              <a:ext cx="2744640" cy="208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56" name=""/>
            <p:cNvGraphicFramePr/>
            <p:nvPr/>
          </p:nvGraphicFramePr>
          <p:xfrm>
            <a:off x="7480440" y="4233960"/>
            <a:ext cx="542880" cy="71100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480440" y="4233960"/>
                      <a:ext cx="54288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 advTm="7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sat Pelayanan Informasi Terpadu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bayaran telepon, listrik, air minum, PBB, perpanjangan STNK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aksi per-bank-an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lsa isi ulang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, SMS, MM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untuk yang tidak bawa HP,misalnya)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perjalanan pesawat, kapal laut, bus, kereta api,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ticketing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ervasi hotel, penginapan restoran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atkabar, Radio, Televisi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ko Buku dan Perpustakaan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, e-boo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olah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D, SMP, SMU, Universitas Terbuka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e-learning………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0E8-CABC-438F-8FEB-D560E9741A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6DE8F-C402-4E0A-9FC3-998183EDFB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6-12T15:27:27Z</dcterms:modified>
  <cp:revision>93</cp:revision>
  <dc:subject/>
  <dc:title>PowerPoint Presentation</dc:title>
</cp:coreProperties>
</file>