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.png" ContentType="image/png"/>
  <Override PartName="/ppt/media/image6.wmf" ContentType="image/x-wmf"/>
  <Override PartName="/ppt/media/image1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CHIMES.WAV" ContentType="audio/x-wav"/>
  <Override PartName="/ppt/media/image5.jpeg" ContentType="image/jpeg"/>
  <Override PartName="/ppt/media/image9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D070-4DBA-4E64-8EEE-B93DE7D7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4062-8FB0-4A57-982C-16138A3C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69DD-4E60-4D27-89EE-8AFCFC76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A830-0E9E-47F7-83B2-10585B0E4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9AE7-51A5-4A23-A48C-B114868C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CA37-9A3F-423B-B5D0-4BBBA401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1596-F2A0-4AB8-B4E4-AFA4480F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FAEF-4E91-43AE-8464-1AF41317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51C7-4FA0-4AE0-A9B0-EDEF099E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C5E4-46AE-4090-AB5A-D09F12EE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D7EF-88A4-4CAF-91E8-05E9A0C9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8BC5-E5DA-401A-8F5D-B407A31A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69C8-9B37-4BAF-9BED-6D08E2CA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91D3-467D-4EE3-9D75-7E902DA9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EB37-0D87-4CD3-957F-C144F0CD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071C-0C7B-46E4-9F75-144A3B97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752C-D99A-4FE8-800B-C01E216A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EF3E-D7BF-4329-95E9-C1BCB685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2D3-C29A-4409-A795-8AB7EFA3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EA2-91B0-454C-8A68-D61FCF98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AEF5-393C-4043-A288-54A58DD6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2F06-AE87-4E0F-B6E0-9F76B038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E1DA-707D-4C3D-A7EF-16B7E0C9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C3BD-B941-4E6F-8B9E-DB8C4A52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F0EE-5E51-4C2D-91B1-1E0D05F26368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1500-53A5-4927-8E8B-C129A7E1059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5B79-9281-47AA-AD9C-DA0FB480BBF2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1A13-DA77-4134-8E2B-DA188758F84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1.wmf"/><Relationship Id="rId1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51460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PROSES PEMBELAJARA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0043-0040-4150-B9E0-19619E47EDB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B374A76-2C38-4380-B8F1-82E1A448A3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66720" y="685440"/>
            <a:ext cx="8477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is .............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............……....about providing ……opportunities for students ………………………...to learn</a:t>
            </a:r>
            <a:r>
              <a:rPr b="0" lang="en-US" sz="6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4876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(TIW Batch 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403848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Jone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ed. . [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2000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], “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Times New Roman"/>
              </a:rPr>
              <a:t>CURRICULUM DEVELOPMENT, S1 Engineering Programs in Indonesi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”, page 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2E2F4D8-D60C-431A-B0B6-490B995CE5AF}" type="datetime1">
              <a:rPr lang="en-US"/>
              <a:t>07/31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590920" cy="1847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ses Pembelajar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219320"/>
            <a:ext cx="80010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2 (dua) kategori proses pembelajaran kurikuler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proses pembelajaran di 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) melalui tatap-muka yang dijadwalkan secara reguler dalam semester-seme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non-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non-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), yang tidak terjadwal secara reguler, misalnya matakuliah Seminar, Kerja Praktek, Praktikum, Skripsi, Praktek Lapang, Kuliah Kerja Nyata, dan lain-lain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57150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+ proses pembelajaran non-kurikul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534A-3012-4F6A-BE09-07EF4F1908F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D5F1C7-6EFC-4A59-9176-098EB39A0690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2148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 Formats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(examples)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95440" y="1828440"/>
            <a:ext cx="494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STER-APPRENT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Y CIRCLE (TUTOR-NOVIC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K and CHAL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EE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RILL (PRACTICE, TEST, EXA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40068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D144F-B9F5-4AD9-9CAE-977581B588D5}" type="datetime1">
              <a:rPr lang="en-US"/>
              <a:t>07/31/26</a:t>
            </a:fld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533520"/>
            <a:ext cx="45720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aching is a </a:t>
            </a: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SKILL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!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per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y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chniq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a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............et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ids ...............TECHN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724280" y="1828800"/>
            <a:ext cx="3733920" cy="3733920"/>
            <a:chOff x="4724280" y="1828800"/>
            <a:chExt cx="3733920" cy="3733920"/>
          </a:xfrm>
        </p:grpSpPr>
        <p:sp>
          <p:nvSpPr>
            <p:cNvPr id="118" name=""/>
            <p:cNvSpPr/>
            <p:nvPr/>
          </p:nvSpPr>
          <p:spPr>
            <a:xfrm>
              <a:off x="4724280" y="1828800"/>
              <a:ext cx="3733920" cy="373392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52880" y="3200400"/>
              <a:ext cx="327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Times New Roman"/>
                </a:rPr>
                <a:t>EDUCATIONAL TECHNOLOGY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309840" y="1828800"/>
            <a:ext cx="2479680" cy="2666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76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2C43D-763B-4616-ABF9-5C37432D222B}" type="datetime1">
              <a:rPr lang="en-US"/>
              <a:t>07/31/26</a:t>
            </a:fld>
          </a:p>
        </p:txBody>
      </p:sp>
    </p:spTree>
  </p:cSld>
  <p:transition spd="slow">
    <p:wipe dir="r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086600" y="4572000"/>
          <a:ext cx="1736640" cy="188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457200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648320" y="4191120"/>
          <a:ext cx="1538280" cy="21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8320" y="4191120"/>
                    <a:ext cx="153828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590920" y="4876920"/>
          <a:ext cx="188424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487692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92160" y="259056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as a teaching tool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for HIGHER EDUCATION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why ???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9EA71C-2E71-48F9-AABB-B6B83E8E8437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ebd189"/>
                </a:solidFill>
                <a:uFillTx/>
                <a:latin typeface="Arial"/>
              </a:rPr>
              <a:t>Available Options: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ANALISIS dan DESAIN (iterasi, simulasi, praktikum, dll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proses pembelajaran (presentasi, animasi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udio-visual aid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ll. --------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ULTIMEDI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838080"/>
            <a:ext cx="3810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Aided Engineering ...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019920" y="380880"/>
          <a:ext cx="2590560" cy="24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80880"/>
                    <a:ext cx="259056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C8A2B3-337D-469A-A3CD-1704A0B19381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toh-contoh aplikasi dalam proses pembelajaran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“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generik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, seperti Microsoft Office: Word, Excell, Power Poi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khusus untuk pemodelan, analisis, animasi, seperti MATLAB, SPICE, Macromedia, d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3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pembelajaran menggunakan jaringan komputer dan Internet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distant learni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web-based interactiv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sb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0CA5-9554-4A84-95B4-40094E8E50E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B55C2-EB7B-48A7-855F-35F485E59F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794A-A527-492F-8831-48A8C0E13337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E4C6D2F-4F22-4F69-831D-3703335792E9}" type="datetime1">
              <a:rPr lang="en-US"/>
              <a:t>07/31/26</a:t>
            </a:fld>
          </a:p>
        </p:txBody>
      </p:sp>
    </p:spTree>
  </p:cSld>
  <p:transition spd="slow" advTm="31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Xp</cp:lastModifiedBy>
  <dcterms:modified xsi:type="dcterms:W3CDTF">2005-09-21T03:03:30Z</dcterms:modified>
  <cp:revision>55</cp:revision>
  <dc:subject/>
  <dc:title>PowerPoint Presentation</dc:title>
</cp:coreProperties>
</file>