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460000" cy="68580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80520" y="3895920"/>
            <a:ext cx="8458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460000" cy="68580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41274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360"/>
            <a:ext cx="41274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95920"/>
            <a:ext cx="41274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14560" y="3895920"/>
            <a:ext cx="41274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460000" cy="68580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27234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40360" y="990360"/>
            <a:ext cx="27234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00560" y="990360"/>
            <a:ext cx="27234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380520" y="3895920"/>
            <a:ext cx="27234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40360" y="3895920"/>
            <a:ext cx="27234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00560" y="3895920"/>
            <a:ext cx="27234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03FD6-37B0-4D03-96B6-BC1D99D3A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460000" cy="68580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5D176-3C73-4655-81A6-B13BCB81D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460000" cy="68580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DC2AC-45C2-4E90-8E36-EACD5ECC8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460000" cy="68580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41274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14560" y="990360"/>
            <a:ext cx="41274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A433B-3DD1-4630-B3C5-713D81CC4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460000" cy="68580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CDEF9-15BF-4277-B283-D9C908F44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380880" y="304560"/>
            <a:ext cx="84600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42084-CD1F-4DB1-88B0-806180F94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460000" cy="68580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41274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14560" y="990360"/>
            <a:ext cx="41274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380520" y="3895920"/>
            <a:ext cx="41274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82295-91AB-4907-9851-301A21C6A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460000" cy="68580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460000" cy="68580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41274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14560" y="990360"/>
            <a:ext cx="41274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714560" y="3895920"/>
            <a:ext cx="41274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2C83C-4385-4359-9C27-65082B71F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460000" cy="68580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41274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14560" y="990360"/>
            <a:ext cx="41274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80520" y="3895920"/>
            <a:ext cx="8458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18B4A-B863-4549-9D82-1A1EE1FDB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460000" cy="68580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80520" y="3895920"/>
            <a:ext cx="8458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1113C-3C96-4029-80A5-F1B094B96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460000" cy="68580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41274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360"/>
            <a:ext cx="41274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0520" y="3895920"/>
            <a:ext cx="41274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714560" y="3895920"/>
            <a:ext cx="41274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BDD87-C6D1-4B4E-AAB3-FEB2CFD81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460000" cy="68580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27234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40360" y="990360"/>
            <a:ext cx="27234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100560" y="990360"/>
            <a:ext cx="27234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380520" y="3895920"/>
            <a:ext cx="27234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40360" y="3895920"/>
            <a:ext cx="27234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100560" y="3895920"/>
            <a:ext cx="27234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18895-510F-45C2-B5E3-5B017600D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460000" cy="68580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460000" cy="68580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41274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14560" y="990360"/>
            <a:ext cx="41274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460000" cy="68580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380880" y="304560"/>
            <a:ext cx="84600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460000" cy="68580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41274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14560" y="990360"/>
            <a:ext cx="41274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380520" y="3895920"/>
            <a:ext cx="41274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460000" cy="68580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41274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14560" y="990360"/>
            <a:ext cx="41274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14560" y="3895920"/>
            <a:ext cx="41274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460000" cy="68580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41274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14560" y="990360"/>
            <a:ext cx="41274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80520" y="3895920"/>
            <a:ext cx="8458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80520" y="990360"/>
            <a:ext cx="8458200" cy="556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82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505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12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380880" y="304560"/>
            <a:ext cx="8460000" cy="68580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txBody>
          <a:bodyPr lIns="126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34F45-E3E9-4AFC-BDB3-0E72DC4A4EF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457200" indent="0" algn="ctr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lvl="2" marL="914400" algn="ctr">
              <a:spcBef>
                <a:spcPts val="150"/>
              </a:spcBef>
              <a:buClr>
                <a:srgbClr val="000000"/>
              </a:buClr>
              <a:buSzPct val="120000"/>
              <a:buFont typeface="Arial Narrow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Arial Narrow"/>
            </a:endParaRPr>
          </a:p>
          <a:p>
            <a:pPr lvl="3" marL="1371600" algn="ctr">
              <a:spcBef>
                <a:spcPts val="150"/>
              </a:spcBef>
              <a:buClr>
                <a:srgbClr val="000000"/>
              </a:buClr>
              <a:buFont typeface="Arial Narrow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276120" y="1219320"/>
            <a:ext cx="8610840" cy="434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76120" y="3505320"/>
            <a:ext cx="8610840" cy="1269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428760" y="3513240"/>
            <a:ext cx="80769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Will G Hopkin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uckland University of Technolog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uckland NZ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2" name=""/>
          <p:cNvSpPr/>
          <p:nvPr/>
        </p:nvSpPr>
        <p:spPr>
          <a:xfrm>
            <a:off x="276120" y="762120"/>
            <a:ext cx="8610840" cy="784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428400" y="838080"/>
            <a:ext cx="8001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0000"/>
                </a:solidFill>
                <a:latin typeface="Arial Narrow"/>
              </a:rPr>
              <a:t>Quantitative Data Analysis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4" name=""/>
          <p:cNvSpPr/>
          <p:nvPr/>
        </p:nvSpPr>
        <p:spPr>
          <a:xfrm>
            <a:off x="428760" y="1622520"/>
            <a:ext cx="8153280" cy="17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spcAft>
                <a:spcPts val="6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600" spc="-1" strike="noStrike">
                <a:solidFill>
                  <a:srgbClr val="000000"/>
                </a:solidFill>
                <a:latin typeface="Arial Narrow"/>
              </a:rPr>
              <a:t>Summarizing Data:</a:t>
            </a:r>
            <a:r>
              <a:rPr b="0" lang="en-AU" sz="2600" spc="-1" strike="noStrike">
                <a:solidFill>
                  <a:srgbClr val="000000"/>
                </a:solidFill>
                <a:latin typeface="Arial Narrow"/>
              </a:rPr>
              <a:t> variables; simple statistics; effect statistics and statistical models; complex model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Aft>
                <a:spcPts val="6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600" spc="-1" strike="noStrike">
                <a:solidFill>
                  <a:srgbClr val="000000"/>
                </a:solidFill>
                <a:latin typeface="Arial Narrow"/>
              </a:rPr>
              <a:t>Generalizing from Sample to Population:</a:t>
            </a:r>
            <a:r>
              <a:rPr b="0" lang="en-AU" sz="2600" spc="-1" strike="noStrike">
                <a:solidFill>
                  <a:srgbClr val="000000"/>
                </a:solidFill>
                <a:latin typeface="Arial Narrow"/>
              </a:rPr>
              <a:t> precision of estimate, confidence limits, statistical significance, p value, error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4800600"/>
            <a:ext cx="8410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Reference:  </a:t>
            </a:r>
            <a:r>
              <a:rPr b="0" lang="en-AU" sz="2000" spc="-1" strike="noStrike">
                <a:solidFill>
                  <a:srgbClr val="000000"/>
                </a:solidFill>
                <a:latin typeface="Arial Narrow"/>
              </a:rPr>
              <a:t>Hopkins WG (2002).  Quantitative data analysis (Slideshow).  </a:t>
            </a:r>
            <a:br>
              <a:rPr sz="2000"/>
            </a:br>
            <a:r>
              <a:rPr b="0" lang="en-AU" sz="2000" spc="-1" strike="noStrike">
                <a:solidFill>
                  <a:srgbClr val="000000"/>
                </a:solidFill>
                <a:latin typeface="Arial Narrow"/>
              </a:rPr>
              <a:t>Sportscience 6, sportsci.org/jour/0201/Quantitative_analysis.ppt (2046 word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/>
          </p:nvPr>
        </p:nvSpPr>
        <p:spPr>
          <a:xfrm>
            <a:off x="228600" y="151920"/>
            <a:ext cx="8686800" cy="6527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82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505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Model: </a:t>
            </a:r>
            <a:r>
              <a:rPr b="0" lang="en-US" sz="2800" spc="-1" strike="noStrike">
                <a:solidFill>
                  <a:srgbClr val="0066ff"/>
                </a:solidFill>
                <a:latin typeface="Arial Narrow"/>
              </a:rPr>
              <a:t>nominal vs nominal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e.g. sport vs sex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326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Model or test: 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150"/>
              </a:spcBef>
              <a:buClr>
                <a:srgbClr val="cc0066"/>
              </a:buClr>
              <a:buSzPct val="120000"/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0066"/>
                </a:solidFill>
                <a:latin typeface="Arial Narrow"/>
              </a:rPr>
              <a:t>chi-squared test</a:t>
            </a:r>
            <a:r>
              <a:rPr b="0" lang="en-US" sz="2500" spc="-1" strike="noStrike">
                <a:solidFill>
                  <a:srgbClr val="000000"/>
                </a:solidFill>
                <a:latin typeface="Arial Narrow"/>
              </a:rPr>
              <a:t> or </a:t>
            </a: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Arial Narrow"/>
              </a:rPr>
              <a:t>contingency table</a:t>
            </a:r>
            <a:endParaRPr b="0" lang="en-US" sz="25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326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Effect statistics: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150"/>
              </a:spcBef>
              <a:buClr>
                <a:srgbClr val="cc0066"/>
              </a:buClr>
              <a:buSzPct val="120000"/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0066"/>
                </a:solidFill>
                <a:latin typeface="Arial Narrow"/>
              </a:rPr>
              <a:t>Relative frequencies</a:t>
            </a:r>
            <a:r>
              <a:rPr b="0" lang="en-US" sz="2500" spc="-1" strike="noStrike">
                <a:solidFill>
                  <a:srgbClr val="000000"/>
                </a:solidFill>
                <a:latin typeface="Arial Narrow"/>
              </a:rPr>
              <a:t>, expressed </a:t>
            </a: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Arial Narrow"/>
              </a:rPr>
              <a:t>as a difference in frequencies, </a:t>
            </a: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Arial Narrow"/>
              </a:rPr>
              <a:t>ratio of frequencies (relative risk), </a:t>
            </a: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Arial Narrow"/>
              </a:rPr>
              <a:t>or ratio of odds (odds ratio)</a:t>
            </a:r>
            <a:endParaRPr b="0" lang="en-US" sz="25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150"/>
              </a:spcBef>
              <a:buClr>
                <a:srgbClr val="cc0066"/>
              </a:buClr>
              <a:buSzPct val="120000"/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0066"/>
                </a:solidFill>
                <a:latin typeface="Arial Narrow"/>
              </a:rPr>
              <a:t>Relative risk</a:t>
            </a:r>
            <a:r>
              <a:rPr b="0" lang="en-US" sz="2500" spc="-1" strike="noStrike">
                <a:solidFill>
                  <a:srgbClr val="000000"/>
                </a:solidFill>
                <a:latin typeface="Arial Narrow"/>
              </a:rPr>
              <a:t> is appropriate for cross-sectional or prospective designs.</a:t>
            </a:r>
            <a:endParaRPr b="0" lang="en-US" sz="25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-228600">
              <a:spcBef>
                <a:spcPts val="150"/>
              </a:spcBef>
              <a:buClr>
                <a:srgbClr val="000000"/>
              </a:buClr>
              <a:buFont typeface="Arial Narro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risk of having rugby disease for males relative to females i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(75/100)/(30/100) = 2.5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150"/>
              </a:spcBef>
              <a:buClr>
                <a:srgbClr val="cc0066"/>
              </a:buClr>
              <a:buSzPct val="120000"/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0066"/>
                </a:solidFill>
                <a:latin typeface="Arial Narrow"/>
              </a:rPr>
              <a:t>Odds ratio</a:t>
            </a:r>
            <a:r>
              <a:rPr b="0" lang="en-US" sz="2500" spc="-1" strike="noStrike">
                <a:solidFill>
                  <a:srgbClr val="000000"/>
                </a:solidFill>
                <a:latin typeface="Arial Narrow"/>
              </a:rPr>
              <a:t> is appropriate for case-control designs.</a:t>
            </a:r>
            <a:endParaRPr b="0" lang="en-US" sz="25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-228600">
              <a:spcBef>
                <a:spcPts val="150"/>
              </a:spcBef>
              <a:buClr>
                <a:srgbClr val="000000"/>
              </a:buClr>
              <a:buFont typeface="Arial Narro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alculated as (75/25)/(30/70) = 7.0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9" name=""/>
          <p:cNvSpPr/>
          <p:nvPr/>
        </p:nvSpPr>
        <p:spPr>
          <a:xfrm>
            <a:off x="5305320" y="304920"/>
            <a:ext cx="3457800" cy="280512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0" name=""/>
          <p:cNvGrpSpPr/>
          <p:nvPr/>
        </p:nvGrpSpPr>
        <p:grpSpPr>
          <a:xfrm>
            <a:off x="5560920" y="863640"/>
            <a:ext cx="1288440" cy="1266120"/>
            <a:chOff x="5560920" y="863640"/>
            <a:chExt cx="1288440" cy="1266120"/>
          </a:xfrm>
        </p:grpSpPr>
        <p:sp>
          <p:nvSpPr>
            <p:cNvPr id="341" name=""/>
            <p:cNvSpPr/>
            <p:nvPr/>
          </p:nvSpPr>
          <p:spPr>
            <a:xfrm>
              <a:off x="5560920" y="871200"/>
              <a:ext cx="1288440" cy="1258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074" y="14130"/>
                  </a:moveTo>
                  <a:arcTo wR="10800" hR="10800" stAng="1077420" swAng="15114217"/>
                  <a:lnTo>
                    <a:pt x="10800" y="10800"/>
                  </a:lnTo>
                  <a:close/>
                </a:path>
                <a:path fill="none" w="21600" h="21600">
                  <a:moveTo>
                    <a:pt x="21074" y="14130"/>
                  </a:moveTo>
                  <a:arcTo wR="10800" hR="10800" stAng="1077420" swAng="15114217"/>
                </a:path>
              </a:pathLst>
            </a:custGeom>
            <a:solidFill>
              <a:srgbClr val="00ff00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195240" y="863640"/>
              <a:ext cx="613440" cy="817200"/>
            </a:xfrm>
            <a:custGeom>
              <a:avLst/>
              <a:gdLst/>
              <a:ahLst/>
              <a:rect l="l" t="t" r="r" b="b"/>
              <a:pathLst>
                <a:path w="391" h="520">
                  <a:moveTo>
                    <a:pt x="390" y="519"/>
                  </a:moveTo>
                  <a:lnTo>
                    <a:pt x="0" y="399"/>
                  </a:lnTo>
                  <a:lnTo>
                    <a:pt x="0" y="0"/>
                  </a:lnTo>
                </a:path>
              </a:pathLst>
            </a:custGeom>
            <a:solidFill>
              <a:srgbClr val="00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3" name=""/>
          <p:cNvGrpSpPr/>
          <p:nvPr/>
        </p:nvGrpSpPr>
        <p:grpSpPr>
          <a:xfrm>
            <a:off x="7262640" y="863640"/>
            <a:ext cx="1295280" cy="1266120"/>
            <a:chOff x="7262640" y="863640"/>
            <a:chExt cx="1295280" cy="1266120"/>
          </a:xfrm>
        </p:grpSpPr>
        <p:sp>
          <p:nvSpPr>
            <p:cNvPr id="344" name=""/>
            <p:cNvSpPr/>
            <p:nvPr/>
          </p:nvSpPr>
          <p:spPr>
            <a:xfrm>
              <a:off x="7271640" y="873000"/>
              <a:ext cx="1286280" cy="1256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73"/>
                  </a:moveTo>
                  <a:arcTo wR="10800" hR="10800" stAng="-10791426" swAng="5383063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73"/>
                  </a:moveTo>
                  <a:arcTo wR="10800" hR="10800" stAng="-10791426" swAng="5383063"/>
                </a:path>
              </a:pathLst>
            </a:custGeom>
            <a:solidFill>
              <a:srgbClr val="00ff00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262640" y="863640"/>
              <a:ext cx="644760" cy="630360"/>
            </a:xfrm>
            <a:custGeom>
              <a:avLst/>
              <a:gdLst/>
              <a:ahLst/>
              <a:rect l="l" t="t" r="r" b="b"/>
              <a:pathLst>
                <a:path w="411" h="401">
                  <a:moveTo>
                    <a:pt x="0" y="400"/>
                  </a:moveTo>
                  <a:lnTo>
                    <a:pt x="410" y="400"/>
                  </a:lnTo>
                  <a:lnTo>
                    <a:pt x="410" y="0"/>
                  </a:lnTo>
                </a:path>
              </a:pathLst>
            </a:custGeom>
            <a:solidFill>
              <a:srgbClr val="00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6" name=""/>
          <p:cNvSpPr/>
          <p:nvPr/>
        </p:nvSpPr>
        <p:spPr>
          <a:xfrm>
            <a:off x="5781600" y="374760"/>
            <a:ext cx="925560" cy="5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500"/>
              </a:lnSpc>
              <a:tabLst>
                <a:tab algn="l" pos="0"/>
                <a:tab algn="l" pos="355680"/>
                <a:tab algn="l" pos="711360"/>
                <a:tab algn="l" pos="107964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ema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7497720" y="374760"/>
            <a:ext cx="878040" cy="5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500"/>
              </a:lnSpc>
              <a:tabLst>
                <a:tab algn="l" pos="0"/>
                <a:tab algn="l" pos="355680"/>
                <a:tab algn="l" pos="711360"/>
                <a:tab algn="l" pos="107964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8" name=""/>
          <p:cNvGrpSpPr/>
          <p:nvPr/>
        </p:nvGrpSpPr>
        <p:grpSpPr>
          <a:xfrm>
            <a:off x="5563440" y="863640"/>
            <a:ext cx="1285920" cy="1266840"/>
            <a:chOff x="5563440" y="863640"/>
            <a:chExt cx="1285920" cy="1266840"/>
          </a:xfrm>
        </p:grpSpPr>
        <p:sp>
          <p:nvSpPr>
            <p:cNvPr id="349" name=""/>
            <p:cNvSpPr/>
            <p:nvPr/>
          </p:nvSpPr>
          <p:spPr>
            <a:xfrm>
              <a:off x="5563440" y="871200"/>
              <a:ext cx="1285920" cy="1259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74" y="0"/>
                  </a:moveTo>
                  <a:arcTo wR="10800" hR="10800" stAng="-5408363" swAng="64857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74" y="0"/>
                  </a:moveTo>
                  <a:arcTo wR="10800" hR="10800" stAng="-5408363" swAng="6485783"/>
                </a:path>
              </a:pathLst>
            </a:custGeom>
            <a:solidFill>
              <a:srgbClr val="ff0000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195960" y="863640"/>
              <a:ext cx="613080" cy="817560"/>
            </a:xfrm>
            <a:custGeom>
              <a:avLst/>
              <a:gdLst/>
              <a:ahLst/>
              <a:rect l="l" t="t" r="r" b="b"/>
              <a:pathLst>
                <a:path w="391" h="520">
                  <a:moveTo>
                    <a:pt x="0" y="0"/>
                  </a:moveTo>
                  <a:lnTo>
                    <a:pt x="0" y="399"/>
                  </a:lnTo>
                  <a:lnTo>
                    <a:pt x="390" y="51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6210360" y="1173240"/>
            <a:ext cx="720720" cy="409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398"/>
              </a:lnSpc>
              <a:spcAft>
                <a:spcPts val="901"/>
              </a:spcAft>
              <a:tabLst>
                <a:tab algn="l" pos="0"/>
                <a:tab algn="l" pos="355680"/>
                <a:tab algn="l" pos="711360"/>
                <a:tab algn="l" pos="107964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2" name=""/>
          <p:cNvGrpSpPr/>
          <p:nvPr/>
        </p:nvGrpSpPr>
        <p:grpSpPr>
          <a:xfrm>
            <a:off x="7262640" y="863640"/>
            <a:ext cx="1296360" cy="1266120"/>
            <a:chOff x="7262640" y="863640"/>
            <a:chExt cx="1296360" cy="1266120"/>
          </a:xfrm>
        </p:grpSpPr>
        <p:sp>
          <p:nvSpPr>
            <p:cNvPr id="353" name=""/>
            <p:cNvSpPr/>
            <p:nvPr/>
          </p:nvSpPr>
          <p:spPr>
            <a:xfrm>
              <a:off x="7270200" y="871200"/>
              <a:ext cx="1288800" cy="1258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74" y="0"/>
                  </a:moveTo>
                  <a:arcTo wR="10800" hR="10800" stAng="-5408363" swAng="1621693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74" y="0"/>
                  </a:moveTo>
                  <a:arcTo wR="10800" hR="10800" stAng="-5408363" swAng="16216937"/>
                </a:path>
              </a:pathLst>
            </a:custGeom>
            <a:solidFill>
              <a:srgbClr val="ff0000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262640" y="863640"/>
              <a:ext cx="645120" cy="630000"/>
            </a:xfrm>
            <a:custGeom>
              <a:avLst/>
              <a:gdLst/>
              <a:ahLst/>
              <a:rect l="l" t="t" r="r" b="b"/>
              <a:pathLst>
                <a:path w="411" h="401">
                  <a:moveTo>
                    <a:pt x="410" y="0"/>
                  </a:moveTo>
                  <a:lnTo>
                    <a:pt x="410" y="400"/>
                  </a:lnTo>
                  <a:lnTo>
                    <a:pt x="0" y="40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5" name=""/>
          <p:cNvSpPr/>
          <p:nvPr/>
        </p:nvSpPr>
        <p:spPr>
          <a:xfrm>
            <a:off x="7858080" y="1519200"/>
            <a:ext cx="760320" cy="439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398"/>
              </a:lnSpc>
              <a:spcAft>
                <a:spcPts val="901"/>
              </a:spcAft>
              <a:tabLst>
                <a:tab algn="l" pos="0"/>
                <a:tab algn="l" pos="355680"/>
                <a:tab algn="l" pos="711360"/>
                <a:tab algn="l" pos="107964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532480" y="2367000"/>
            <a:ext cx="214200" cy="2142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902200" y="2249640"/>
            <a:ext cx="1886040" cy="4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500"/>
              </a:lnSpc>
              <a:tabLst>
                <a:tab algn="l" pos="0"/>
                <a:tab algn="l" pos="355680"/>
                <a:tab algn="l" pos="711360"/>
                <a:tab algn="l" pos="107964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ugby y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532480" y="2746440"/>
            <a:ext cx="214200" cy="21096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902200" y="2625840"/>
            <a:ext cx="188604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500"/>
              </a:lnSpc>
              <a:tabLst>
                <a:tab algn="l" pos="0"/>
                <a:tab algn="l" pos="355680"/>
                <a:tab algn="l" pos="711360"/>
                <a:tab algn="l" pos="107964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ugby n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/>
          </p:nvPr>
        </p:nvSpPr>
        <p:spPr>
          <a:xfrm>
            <a:off x="304920" y="151920"/>
            <a:ext cx="8534160" cy="6629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82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505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Model: </a:t>
            </a:r>
            <a:r>
              <a:rPr b="0" lang="en-US" sz="2800" spc="-1" strike="noStrike">
                <a:solidFill>
                  <a:srgbClr val="0066ff"/>
                </a:solidFill>
                <a:latin typeface="Arial Narrow"/>
              </a:rPr>
              <a:t>nominal vs numeric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e.g. heart disease vs age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326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Model or test: 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150"/>
              </a:spcBef>
              <a:buClr>
                <a:srgbClr val="cc0066"/>
              </a:buClr>
              <a:buSzPct val="120000"/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0066"/>
                </a:solidFill>
                <a:latin typeface="Arial Narrow"/>
              </a:rPr>
              <a:t>categorical modeling</a:t>
            </a:r>
            <a:endParaRPr b="0" lang="en-US" sz="25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326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Effect statistics: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150"/>
              </a:spcBef>
              <a:buClr>
                <a:srgbClr val="000000"/>
              </a:buClr>
              <a:buSzPct val="120000"/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 Narrow"/>
              </a:rPr>
              <a:t>relative risk or odds ratio</a:t>
            </a:r>
            <a:br>
              <a:rPr sz="2500"/>
            </a:br>
            <a:r>
              <a:rPr b="0" lang="en-US" sz="2500" spc="-1" strike="noStrike">
                <a:solidFill>
                  <a:srgbClr val="cc0066"/>
                </a:solidFill>
                <a:latin typeface="Arial Narrow"/>
              </a:rPr>
              <a:t>per unit</a:t>
            </a:r>
            <a:r>
              <a:rPr b="0" lang="en-US" sz="2500" spc="-1" strike="noStrike">
                <a:solidFill>
                  <a:srgbClr val="000000"/>
                </a:solidFill>
                <a:latin typeface="Arial Narrow"/>
              </a:rPr>
              <a:t> of the numeric variable</a:t>
            </a: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Arial Narrow"/>
              </a:rPr>
              <a:t>(e.g., 2.3 per decade)</a:t>
            </a:r>
            <a:endParaRPr b="0" lang="en-US" sz="25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505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Model: </a:t>
            </a:r>
            <a:r>
              <a:rPr b="0" lang="en-US" sz="2800" spc="-1" strike="noStrike">
                <a:solidFill>
                  <a:srgbClr val="0066ff"/>
                </a:solidFill>
                <a:latin typeface="Arial Narrow"/>
              </a:rPr>
              <a:t>ordinal or counts vs whatever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326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Can sometimes be analyzed as numeric variables using </a:t>
            </a:r>
            <a:r>
              <a:rPr b="0" lang="en-US" sz="2600" spc="-1" strike="noStrike">
                <a:solidFill>
                  <a:srgbClr val="cc0066"/>
                </a:solidFill>
                <a:latin typeface="Arial Narrow"/>
              </a:rPr>
              <a:t>regression </a:t>
            </a: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or</a:t>
            </a:r>
            <a:r>
              <a:rPr b="0" lang="en-US" sz="2600" spc="-1" strike="noStrike">
                <a:solidFill>
                  <a:srgbClr val="cc0066"/>
                </a:solidFill>
                <a:latin typeface="Arial Narrow"/>
              </a:rPr>
              <a:t> t tests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326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Otherwise </a:t>
            </a:r>
            <a:r>
              <a:rPr b="0" lang="en-US" sz="2600" spc="-1" strike="noStrike">
                <a:solidFill>
                  <a:srgbClr val="cc0066"/>
                </a:solidFill>
                <a:latin typeface="Arial Narrow"/>
              </a:rPr>
              <a:t>logistic regression</a:t>
            </a: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 or </a:t>
            </a:r>
            <a:r>
              <a:rPr b="0" lang="en-US" sz="2600" spc="-1" strike="noStrike">
                <a:solidFill>
                  <a:srgbClr val="cc0066"/>
                </a:solidFill>
                <a:latin typeface="Arial Narrow"/>
              </a:rPr>
              <a:t>generalized linear modeling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505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 Narrow"/>
              </a:rPr>
              <a:t>Complex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model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326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Most </a:t>
            </a:r>
            <a:r>
              <a:rPr b="0" lang="en-US" sz="2600" spc="-1" strike="noStrike">
                <a:solidFill>
                  <a:srgbClr val="cc0066"/>
                </a:solidFill>
                <a:latin typeface="Arial Narrow"/>
              </a:rPr>
              <a:t>reducible</a:t>
            </a: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 to t tests, regression, or relative frequencies.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326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Arial Narrow"/>
              </a:rPr>
              <a:t>Example…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1" name=""/>
          <p:cNvSpPr/>
          <p:nvPr/>
        </p:nvSpPr>
        <p:spPr>
          <a:xfrm>
            <a:off x="5181480" y="330120"/>
            <a:ext cx="3505320" cy="294660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502320" y="455760"/>
            <a:ext cx="2030400" cy="1846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7202520" y="2705040"/>
            <a:ext cx="817560" cy="420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7964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ge (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6280" y="812880"/>
            <a:ext cx="898560" cy="115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7964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hear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diseas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(%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772320" y="993600"/>
            <a:ext cx="1657440" cy="1171800"/>
          </a:xfrm>
          <a:custGeom>
            <a:avLst/>
            <a:gdLst/>
            <a:ahLst/>
            <a:rect l="l" t="t" r="r" b="b"/>
            <a:pathLst>
              <a:path w="1044" h="738">
                <a:moveTo>
                  <a:pt x="0" y="738"/>
                </a:moveTo>
                <a:cubicBezTo>
                  <a:pt x="53" y="729"/>
                  <a:pt x="207" y="732"/>
                  <a:pt x="318" y="684"/>
                </a:cubicBezTo>
                <a:cubicBezTo>
                  <a:pt x="450" y="636"/>
                  <a:pt x="557" y="541"/>
                  <a:pt x="666" y="450"/>
                </a:cubicBezTo>
                <a:cubicBezTo>
                  <a:pt x="775" y="359"/>
                  <a:pt x="965" y="94"/>
                  <a:pt x="1044" y="0"/>
                </a:cubicBezTo>
              </a:path>
            </a:pathLst>
          </a:custGeom>
          <a:noFill/>
          <a:ln w="25560">
            <a:solidFill>
              <a:srgbClr val="f76681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 flipV="1">
            <a:off x="6859440" y="2141640"/>
            <a:ext cx="71640" cy="7128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V="1">
            <a:off x="7002360" y="2141640"/>
            <a:ext cx="69840" cy="7128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 flipV="1">
            <a:off x="6931080" y="2141640"/>
            <a:ext cx="71280" cy="7128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 flipH="1">
            <a:off x="7319160" y="569880"/>
            <a:ext cx="71640" cy="7164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flipH="1">
            <a:off x="7357320" y="2141640"/>
            <a:ext cx="71640" cy="7128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 flipH="1">
            <a:off x="7286760" y="2141640"/>
            <a:ext cx="71280" cy="7128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flipH="1">
            <a:off x="8069400" y="2141640"/>
            <a:ext cx="71280" cy="7128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7927920" y="2141640"/>
            <a:ext cx="69840" cy="7128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7784280" y="2141640"/>
            <a:ext cx="71640" cy="7128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 flipV="1">
            <a:off x="7713720" y="569160"/>
            <a:ext cx="71280" cy="7164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 flipV="1">
            <a:off x="7429680" y="2141640"/>
            <a:ext cx="71280" cy="7128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716880" y="2141640"/>
            <a:ext cx="71280" cy="7128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859440" y="2141640"/>
            <a:ext cx="71640" cy="7128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7002360" y="2141640"/>
            <a:ext cx="69840" cy="7128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 flipH="1" flipV="1">
            <a:off x="7784280" y="2141640"/>
            <a:ext cx="71640" cy="7128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 flipV="1">
            <a:off x="7143840" y="2141640"/>
            <a:ext cx="71280" cy="7128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 flipH="1" flipV="1">
            <a:off x="7286760" y="2141640"/>
            <a:ext cx="71280" cy="7128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V="1" rot="16200000">
            <a:off x="7405200" y="2141280"/>
            <a:ext cx="71280" cy="7164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 rot="16200000">
            <a:off x="8210880" y="569880"/>
            <a:ext cx="71640" cy="7164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 flipH="1" rot="16200000">
            <a:off x="8386560" y="569880"/>
            <a:ext cx="71640" cy="7128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 flipH="1" rot="16200000">
            <a:off x="8310600" y="2141640"/>
            <a:ext cx="71280" cy="7128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 flipV="1" rot="16200000">
            <a:off x="7854480" y="2141280"/>
            <a:ext cx="71280" cy="7164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 flipV="1" rot="16200000">
            <a:off x="7996680" y="569880"/>
            <a:ext cx="71640" cy="6984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 flipV="1" rot="16200000">
            <a:off x="7857360" y="2142360"/>
            <a:ext cx="69840" cy="7128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 flipH="1">
            <a:off x="7143840" y="2143080"/>
            <a:ext cx="71280" cy="6984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 flipH="1">
            <a:off x="7641360" y="2141640"/>
            <a:ext cx="71640" cy="7128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 flipH="1">
            <a:off x="8140680" y="569880"/>
            <a:ext cx="71280" cy="7164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 flipH="1">
            <a:off x="7997040" y="569880"/>
            <a:ext cx="71640" cy="7164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 flipH="1" flipV="1">
            <a:off x="7547760" y="569160"/>
            <a:ext cx="71640" cy="7164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 flipV="1">
            <a:off x="7072200" y="2141640"/>
            <a:ext cx="71640" cy="7128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7784280" y="2141640"/>
            <a:ext cx="71640" cy="7128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 flipH="1">
            <a:off x="8140680" y="2141640"/>
            <a:ext cx="71280" cy="7128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 flipV="1">
            <a:off x="7856640" y="569160"/>
            <a:ext cx="71280" cy="7164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 flipH="1" flipV="1">
            <a:off x="7357320" y="2143080"/>
            <a:ext cx="71640" cy="6984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 flipH="1" flipV="1">
            <a:off x="7641360" y="2143080"/>
            <a:ext cx="71640" cy="6984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 flipH="1" flipV="1">
            <a:off x="8083440" y="569160"/>
            <a:ext cx="69840" cy="7164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" bIns="4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 flipH="1" flipV="1">
            <a:off x="7416000" y="2141640"/>
            <a:ext cx="71640" cy="7128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 flipH="1" flipV="1">
            <a:off x="7858080" y="569160"/>
            <a:ext cx="69840" cy="7164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" bIns="4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203960" y="2141640"/>
            <a:ext cx="71640" cy="7128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 flipH="1" flipV="1" rot="5400000">
            <a:off x="7624800" y="2141640"/>
            <a:ext cx="71280" cy="7128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 flipH="1" flipV="1" rot="5400000">
            <a:off x="7701840" y="2142360"/>
            <a:ext cx="69840" cy="7128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 flipH="1" flipV="1" rot="5400000">
            <a:off x="7701120" y="2141640"/>
            <a:ext cx="71280" cy="7128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 rot="5400000">
            <a:off x="7343280" y="2141280"/>
            <a:ext cx="71280" cy="7164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 flipH="1" flipV="1">
            <a:off x="7858080" y="569160"/>
            <a:ext cx="69840" cy="7164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" bIns="4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 flipH="1" flipV="1">
            <a:off x="7543800" y="2141640"/>
            <a:ext cx="71280" cy="7128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6366960" y="2184480"/>
            <a:ext cx="81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6366960" y="1792440"/>
            <a:ext cx="81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 flipH="1">
            <a:off x="6366960" y="1400040"/>
            <a:ext cx="81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 flipH="1">
            <a:off x="6366960" y="1008000"/>
            <a:ext cx="81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 flipH="1">
            <a:off x="6366960" y="617400"/>
            <a:ext cx="81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V="1">
            <a:off x="6448320" y="617040"/>
            <a:ext cx="1800" cy="1567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7" name=""/>
          <p:cNvGrpSpPr/>
          <p:nvPr/>
        </p:nvGrpSpPr>
        <p:grpSpPr>
          <a:xfrm>
            <a:off x="6502320" y="2360160"/>
            <a:ext cx="2031840" cy="81360"/>
            <a:chOff x="6502320" y="2360160"/>
            <a:chExt cx="2031840" cy="81360"/>
          </a:xfrm>
        </p:grpSpPr>
        <p:sp>
          <p:nvSpPr>
            <p:cNvPr id="418" name=""/>
            <p:cNvSpPr/>
            <p:nvPr/>
          </p:nvSpPr>
          <p:spPr>
            <a:xfrm>
              <a:off x="8403840" y="2360520"/>
              <a:ext cx="0" cy="81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8009640" y="2360520"/>
              <a:ext cx="0" cy="81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7594920" y="2360520"/>
              <a:ext cx="0" cy="81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7201080" y="2360520"/>
              <a:ext cx="0" cy="81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6786000" y="2360520"/>
              <a:ext cx="0" cy="81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6502320" y="2360160"/>
              <a:ext cx="2031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6162840" y="1974960"/>
            <a:ext cx="177480" cy="420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7964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84200" y="403200"/>
            <a:ext cx="455040" cy="420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7964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flipH="1">
            <a:off x="8133480" y="2141640"/>
            <a:ext cx="71640" cy="7128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 flipH="1">
            <a:off x="7993080" y="2141640"/>
            <a:ext cx="69840" cy="7128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flipH="1" rot="16200000">
            <a:off x="8375760" y="2141640"/>
            <a:ext cx="71280" cy="7128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 flipV="1" rot="16200000">
            <a:off x="7919640" y="2141280"/>
            <a:ext cx="71280" cy="7164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flipV="1" rot="16200000">
            <a:off x="7922520" y="2142360"/>
            <a:ext cx="69840" cy="7128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 flipH="1">
            <a:off x="8305920" y="569880"/>
            <a:ext cx="71280" cy="7164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6636600" y="2400480"/>
            <a:ext cx="316080" cy="420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7964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7443000" y="2400480"/>
            <a:ext cx="316080" cy="420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7964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8236800" y="2400480"/>
            <a:ext cx="316080" cy="420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7964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7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/>
          </p:nvPr>
        </p:nvSpPr>
        <p:spPr>
          <a:xfrm>
            <a:off x="304920" y="127080"/>
            <a:ext cx="8534160" cy="6718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82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505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Model: </a:t>
            </a:r>
            <a:r>
              <a:rPr b="0" lang="en-US" sz="2800" spc="-1" strike="noStrike">
                <a:solidFill>
                  <a:srgbClr val="0066ff"/>
                </a:solidFill>
                <a:latin typeface="Arial Narrow"/>
              </a:rPr>
              <a:t>controlled trial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           (numeric vs 2 nominals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e.g. strength vs trial vs group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326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Model or test: 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150"/>
              </a:spcBef>
              <a:buClr>
                <a:srgbClr val="cc0066"/>
              </a:buClr>
              <a:buSzPct val="120000"/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0066"/>
                </a:solidFill>
                <a:latin typeface="Arial Narrow"/>
              </a:rPr>
              <a:t>unpaired t test of </a:t>
            </a:r>
            <a:br>
              <a:rPr sz="2500"/>
            </a:br>
            <a:r>
              <a:rPr b="0" lang="en-US" sz="2500" spc="-1" strike="noStrike">
                <a:solidFill>
                  <a:srgbClr val="cc0066"/>
                </a:solidFill>
                <a:latin typeface="Arial Narrow"/>
              </a:rPr>
              <a:t>change scores</a:t>
            </a:r>
            <a:r>
              <a:rPr b="0" lang="en-US" sz="2500" spc="-1" strike="noStrike">
                <a:solidFill>
                  <a:srgbClr val="000000"/>
                </a:solidFill>
                <a:latin typeface="Arial Narrow"/>
              </a:rPr>
              <a:t> (2 trials, 2 groups)</a:t>
            </a:r>
            <a:endParaRPr b="0" lang="en-US" sz="25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150"/>
              </a:spcBef>
              <a:buClr>
                <a:srgbClr val="cc0066"/>
              </a:buClr>
              <a:buSzPct val="120000"/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0066"/>
                </a:solidFill>
                <a:latin typeface="Arial Narrow"/>
              </a:rPr>
              <a:t>repeated-measures ANOVA</a:t>
            </a:r>
            <a:r>
              <a:rPr b="0" lang="en-US" sz="2500" spc="-1" strike="noStrike">
                <a:solidFill>
                  <a:srgbClr val="000000"/>
                </a:solidFill>
                <a:latin typeface="Arial Narrow"/>
              </a:rPr>
              <a:t> with</a:t>
            </a: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Arial Narrow"/>
              </a:rPr>
              <a:t>within- and between-subject factors </a:t>
            </a: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Arial Narrow"/>
              </a:rPr>
              <a:t>(&gt;2 trials or groups)</a:t>
            </a:r>
            <a:endParaRPr b="0" lang="en-US" sz="25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150"/>
              </a:spcBef>
              <a:buClr>
                <a:srgbClr val="000000"/>
              </a:buClr>
              <a:buSzPct val="120000"/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 Narrow"/>
              </a:rPr>
              <a:t>Note: use line diagram, not bar graph, for repeated measures.</a:t>
            </a:r>
            <a:endParaRPr b="0" lang="en-US" sz="25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326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Effect statistics: 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150"/>
              </a:spcBef>
              <a:buClr>
                <a:srgbClr val="cc0066"/>
              </a:buClr>
              <a:buSzPct val="120000"/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0066"/>
                </a:solidFill>
                <a:latin typeface="Arial Narrow"/>
              </a:rPr>
              <a:t>difference in change in mean</a:t>
            </a:r>
            <a:r>
              <a:rPr b="0" lang="en-US" sz="2500" spc="-1" strike="noStrike">
                <a:solidFill>
                  <a:srgbClr val="000000"/>
                </a:solidFill>
                <a:latin typeface="Arial Narrow"/>
              </a:rPr>
              <a:t> expressed as raw difference, percent difference, or fraction of the pre standard deviation </a:t>
            </a:r>
            <a:endParaRPr b="0" lang="en-US" sz="25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326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Other statistics: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150"/>
              </a:spcBef>
              <a:buClr>
                <a:srgbClr val="000000"/>
              </a:buClr>
              <a:buSzPct val="120000"/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 Narrow"/>
              </a:rPr>
              <a:t>standard deviation representing </a:t>
            </a:r>
            <a:r>
              <a:rPr b="0" lang="en-US" sz="2500" spc="-1" strike="noStrike">
                <a:solidFill>
                  <a:srgbClr val="cc0066"/>
                </a:solidFill>
                <a:latin typeface="Arial Narrow"/>
              </a:rPr>
              <a:t>individual responses</a:t>
            </a:r>
            <a:r>
              <a:rPr b="0" lang="en-US" sz="2500" spc="-1" strike="noStrike">
                <a:solidFill>
                  <a:srgbClr val="000000"/>
                </a:solidFill>
                <a:latin typeface="Arial Narrow"/>
              </a:rPr>
              <a:t> (derived from within-subject standard deviations in the two groups)</a:t>
            </a:r>
            <a:endParaRPr b="0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36" name=""/>
          <p:cNvSpPr/>
          <p:nvPr/>
        </p:nvSpPr>
        <p:spPr>
          <a:xfrm>
            <a:off x="5791320" y="279360"/>
            <a:ext cx="2895480" cy="270036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7316640" y="449280"/>
            <a:ext cx="1168560" cy="1697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7237800" y="2233440"/>
            <a:ext cx="51048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p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8024760" y="2233440"/>
            <a:ext cx="61272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pos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0" name=""/>
          <p:cNvGrpSpPr/>
          <p:nvPr/>
        </p:nvGrpSpPr>
        <p:grpSpPr>
          <a:xfrm>
            <a:off x="7323120" y="2216160"/>
            <a:ext cx="1171440" cy="74160"/>
            <a:chOff x="7323120" y="2216160"/>
            <a:chExt cx="1171440" cy="74160"/>
          </a:xfrm>
        </p:grpSpPr>
        <p:sp>
          <p:nvSpPr>
            <p:cNvPr id="441" name=""/>
            <p:cNvSpPr/>
            <p:nvPr/>
          </p:nvSpPr>
          <p:spPr>
            <a:xfrm>
              <a:off x="7323120" y="2224440"/>
              <a:ext cx="1171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 flipV="1">
              <a:off x="7484760" y="2216160"/>
              <a:ext cx="0" cy="74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 flipV="1">
              <a:off x="8322840" y="2216160"/>
              <a:ext cx="0" cy="74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4" name=""/>
          <p:cNvSpPr/>
          <p:nvPr/>
        </p:nvSpPr>
        <p:spPr>
          <a:xfrm>
            <a:off x="7485120" y="1690560"/>
            <a:ext cx="0" cy="331920"/>
          </a:xfrm>
          <a:prstGeom prst="line">
            <a:avLst/>
          </a:prstGeom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 flipV="1">
            <a:off x="7493040" y="1045800"/>
            <a:ext cx="825480" cy="5144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V="1">
            <a:off x="7485120" y="1225080"/>
            <a:ext cx="0" cy="352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7435800" y="2023920"/>
            <a:ext cx="98640" cy="0"/>
          </a:xfrm>
          <a:prstGeom prst="line">
            <a:avLst/>
          </a:prstGeom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7435800" y="1225440"/>
            <a:ext cx="98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 flipV="1">
            <a:off x="8325000" y="54576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325000" y="1514520"/>
            <a:ext cx="0" cy="331920"/>
          </a:xfrm>
          <a:prstGeom prst="line">
            <a:avLst/>
          </a:prstGeom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272440" y="546120"/>
            <a:ext cx="1065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8271000" y="1846440"/>
            <a:ext cx="106200" cy="0"/>
          </a:xfrm>
          <a:prstGeom prst="line">
            <a:avLst/>
          </a:prstGeom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 flipV="1">
            <a:off x="7493040" y="1517760"/>
            <a:ext cx="825480" cy="172800"/>
          </a:xfrm>
          <a:prstGeom prst="line">
            <a:avLst/>
          </a:prstGeom>
          <a:ln w="1908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8229600" y="973080"/>
            <a:ext cx="181080" cy="1746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8234280" y="1419120"/>
            <a:ext cx="179640" cy="150840"/>
          </a:xfrm>
          <a:prstGeom prst="triangle">
            <a:avLst>
              <a:gd name="adj" fmla="val 49995"/>
            </a:avLst>
          </a:prstGeom>
          <a:solidFill>
            <a:srgbClr val="00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391520" y="1469880"/>
            <a:ext cx="180720" cy="1746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7396200" y="1614600"/>
            <a:ext cx="179280" cy="150840"/>
          </a:xfrm>
          <a:prstGeom prst="triangle">
            <a:avLst>
              <a:gd name="adj" fmla="val 49995"/>
            </a:avLst>
          </a:prstGeom>
          <a:solidFill>
            <a:srgbClr val="00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6095880" y="1117440"/>
            <a:ext cx="80640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798"/>
              </a:lnSpc>
              <a:tabLst>
                <a:tab algn="l" pos="0"/>
                <a:tab algn="l" pos="355680"/>
                <a:tab algn="l" pos="711360"/>
                <a:tab algn="l" pos="107964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treng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9" name=""/>
          <p:cNvGrpSpPr/>
          <p:nvPr/>
        </p:nvGrpSpPr>
        <p:grpSpPr>
          <a:xfrm>
            <a:off x="7156080" y="431280"/>
            <a:ext cx="81360" cy="1703160"/>
            <a:chOff x="7156080" y="431280"/>
            <a:chExt cx="81360" cy="1703160"/>
          </a:xfrm>
        </p:grpSpPr>
        <p:sp>
          <p:nvSpPr>
            <p:cNvPr id="460" name=""/>
            <p:cNvSpPr/>
            <p:nvPr/>
          </p:nvSpPr>
          <p:spPr>
            <a:xfrm flipH="1">
              <a:off x="7156080" y="2025360"/>
              <a:ext cx="81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flipH="1">
              <a:off x="7156080" y="1695240"/>
              <a:ext cx="81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 flipH="1">
              <a:off x="7156080" y="1347480"/>
              <a:ext cx="81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flipH="1">
              <a:off x="7156080" y="1017360"/>
              <a:ext cx="81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 flipH="1">
              <a:off x="7156080" y="669600"/>
              <a:ext cx="81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7237440" y="431280"/>
              <a:ext cx="0" cy="1703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6" name=""/>
          <p:cNvSpPr/>
          <p:nvPr/>
        </p:nvSpPr>
        <p:spPr>
          <a:xfrm>
            <a:off x="7570800" y="2522520"/>
            <a:ext cx="5839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510680" y="663480"/>
            <a:ext cx="637200" cy="42408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 Narrow"/>
              </a:rPr>
              <a:t>dru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7516440" y="1731960"/>
            <a:ext cx="978480" cy="42408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99ff"/>
                </a:solidFill>
                <a:latin typeface="Arial Narrow"/>
              </a:rPr>
              <a:t>placeb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/>
          </p:nvPr>
        </p:nvSpPr>
        <p:spPr>
          <a:xfrm>
            <a:off x="304920" y="304560"/>
            <a:ext cx="8534160" cy="6298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82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505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Model: </a:t>
            </a:r>
            <a:r>
              <a:rPr b="0" lang="en-US" sz="2800" spc="-1" strike="noStrike">
                <a:solidFill>
                  <a:srgbClr val="0066ff"/>
                </a:solidFill>
                <a:latin typeface="Arial Narrow"/>
              </a:rPr>
              <a:t>extra predictor variable to "control for something"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e.g. heart disease vs physical activity vs age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326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Can't reduce to anything simpler.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326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Model or test: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150"/>
              </a:spcBef>
              <a:buClr>
                <a:srgbClr val="cc0066"/>
              </a:buClr>
              <a:buSzPct val="120000"/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0066"/>
                </a:solidFill>
                <a:latin typeface="Arial Narrow"/>
              </a:rPr>
              <a:t>multiple linear regression</a:t>
            </a:r>
            <a:r>
              <a:rPr b="0" lang="en-US" sz="2500" spc="-1" strike="noStrike">
                <a:solidFill>
                  <a:srgbClr val="000000"/>
                </a:solidFill>
                <a:latin typeface="Arial Narrow"/>
              </a:rPr>
              <a:t> or </a:t>
            </a:r>
            <a:r>
              <a:rPr b="0" lang="en-US" sz="2500" spc="-1" strike="noStrike">
                <a:solidFill>
                  <a:srgbClr val="cc0066"/>
                </a:solidFill>
                <a:latin typeface="Arial Narrow"/>
              </a:rPr>
              <a:t>analysis of covariance </a:t>
            </a:r>
            <a:r>
              <a:rPr b="0" lang="en-US" sz="2500" spc="-1" strike="noStrike">
                <a:solidFill>
                  <a:srgbClr val="000000"/>
                </a:solidFill>
                <a:latin typeface="Arial Narrow"/>
              </a:rPr>
              <a:t>(ANCOVA)</a:t>
            </a:r>
            <a:endParaRPr b="0" lang="en-US" sz="25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150"/>
              </a:spcBef>
              <a:buClr>
                <a:srgbClr val="000000"/>
              </a:buClr>
              <a:buSzPct val="120000"/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 Narrow"/>
              </a:rPr>
              <a:t>Equivalent to the effect of physical activity with everyone at the </a:t>
            </a:r>
            <a:r>
              <a:rPr b="1" lang="en-US" sz="2600" spc="-1" strike="noStrike">
                <a:solidFill>
                  <a:srgbClr val="009900"/>
                </a:solidFill>
                <a:latin typeface="Arial Narrow"/>
              </a:rPr>
              <a:t>same age</a:t>
            </a:r>
            <a:r>
              <a:rPr b="0" lang="en-US" sz="25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150"/>
              </a:spcBef>
              <a:buClr>
                <a:srgbClr val="000000"/>
              </a:buClr>
              <a:buSzPct val="120000"/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 Narrow"/>
              </a:rPr>
              <a:t>Reduction in the effect of physical activity on disease when age is included implies age is at least partly the </a:t>
            </a:r>
            <a:r>
              <a:rPr b="1" lang="en-US" sz="2500" spc="-1" strike="noStrike">
                <a:solidFill>
                  <a:srgbClr val="009900"/>
                </a:solidFill>
                <a:latin typeface="Arial Narrow"/>
              </a:rPr>
              <a:t>reason</a:t>
            </a:r>
            <a:r>
              <a:rPr b="0" lang="en-US" sz="2500" spc="-1" strike="noStrike">
                <a:solidFill>
                  <a:srgbClr val="009900"/>
                </a:solidFill>
                <a:latin typeface="Arial Narrow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Arial Narrow"/>
              </a:rPr>
              <a:t>or</a:t>
            </a:r>
            <a:r>
              <a:rPr b="0" lang="en-US" sz="2500" spc="-1" strike="noStrike">
                <a:solidFill>
                  <a:srgbClr val="009900"/>
                </a:solidFill>
                <a:latin typeface="Arial Narrow"/>
              </a:rPr>
              <a:t> </a:t>
            </a:r>
            <a:r>
              <a:rPr b="1" lang="en-US" sz="2600" spc="-1" strike="noStrike">
                <a:solidFill>
                  <a:srgbClr val="009900"/>
                </a:solidFill>
                <a:latin typeface="Arial Narrow"/>
              </a:rPr>
              <a:t>mechanism</a:t>
            </a:r>
            <a:r>
              <a:rPr b="0" lang="en-US" sz="2500" spc="-1" strike="noStrike">
                <a:solidFill>
                  <a:srgbClr val="000000"/>
                </a:solidFill>
                <a:latin typeface="Arial Narrow"/>
              </a:rPr>
              <a:t> for the effect.</a:t>
            </a:r>
            <a:endParaRPr b="0" lang="en-US" sz="25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150"/>
              </a:spcBef>
              <a:buClr>
                <a:srgbClr val="000000"/>
              </a:buClr>
              <a:buSzPct val="120000"/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 Narrow"/>
              </a:rPr>
              <a:t>Same analysis gives the effect of age with everyone at same level of physical activity.</a:t>
            </a:r>
            <a:endParaRPr b="0" lang="en-US" sz="25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326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Can use special analysis (mixed modeling) to include a mechanism variable in a repeated-measures model.  See separate presentation at newstats.org.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/>
          </p:nvPr>
        </p:nvSpPr>
        <p:spPr>
          <a:xfrm>
            <a:off x="304920" y="228600"/>
            <a:ext cx="8534160" cy="6400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82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505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Problem: some models don't fit </a:t>
            </a:r>
            <a:r>
              <a:rPr b="0" lang="en-US" sz="2800" spc="-1" strike="noStrike">
                <a:solidFill>
                  <a:srgbClr val="0066ff"/>
                </a:solidFill>
                <a:latin typeface="Arial Narrow"/>
              </a:rPr>
              <a:t>uniformly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for different subjects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326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That is, </a:t>
            </a:r>
            <a:r>
              <a:rPr b="0" lang="en-US" sz="2600" spc="-1" strike="noStrike">
                <a:solidFill>
                  <a:srgbClr val="cc0066"/>
                </a:solidFill>
                <a:latin typeface="Arial Narrow"/>
              </a:rPr>
              <a:t>between- or within-subject standard deviations differ</a:t>
            </a: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 between some subjects.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326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Equivalently, the </a:t>
            </a:r>
            <a:r>
              <a:rPr b="0" lang="en-US" sz="2600" spc="-1" strike="noStrike">
                <a:solidFill>
                  <a:srgbClr val="cc0066"/>
                </a:solidFill>
                <a:latin typeface="Arial Narrow"/>
              </a:rPr>
              <a:t>residuals are non-uniform</a:t>
            </a: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 (have different standard deviations for different subjects).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326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Determine by examining standard deviations or plots of </a:t>
            </a:r>
            <a:r>
              <a:rPr b="0" lang="en-US" sz="2600" spc="-1" strike="noStrike">
                <a:solidFill>
                  <a:srgbClr val="cc0066"/>
                </a:solidFill>
                <a:latin typeface="Arial Narrow"/>
              </a:rPr>
              <a:t>residuals vs predicteds</a:t>
            </a: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326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Non-uniformity makes p values and </a:t>
            </a:r>
            <a:r>
              <a:rPr b="0" lang="en-US" sz="2600" spc="-1" strike="noStrike">
                <a:solidFill>
                  <a:srgbClr val="cc0066"/>
                </a:solidFill>
                <a:latin typeface="Arial Narrow"/>
              </a:rPr>
              <a:t>confidence limits wrong</a:t>
            </a: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326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How to fix…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150"/>
              </a:spcBef>
              <a:buClr>
                <a:srgbClr val="000000"/>
              </a:buClr>
              <a:buSzPct val="120000"/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 Narrow"/>
              </a:rPr>
              <a:t>Use unpaired t test for groups with </a:t>
            </a:r>
            <a:r>
              <a:rPr b="1" lang="en-US" sz="2600" spc="-1" strike="noStrike">
                <a:solidFill>
                  <a:srgbClr val="009900"/>
                </a:solidFill>
                <a:latin typeface="Arial Narrow"/>
              </a:rPr>
              <a:t>unequal variances</a:t>
            </a:r>
            <a:r>
              <a:rPr b="0" lang="en-US" sz="2500" spc="-1" strike="noStrike">
                <a:solidFill>
                  <a:srgbClr val="000000"/>
                </a:solidFill>
                <a:latin typeface="Arial Narrow"/>
              </a:rPr>
              <a:t>, or…</a:t>
            </a:r>
            <a:endParaRPr b="0" lang="en-US" sz="25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150"/>
              </a:spcBef>
              <a:buClr>
                <a:srgbClr val="000000"/>
              </a:buClr>
              <a:buSzPct val="120000"/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 Narrow"/>
              </a:rPr>
              <a:t>Try taking </a:t>
            </a:r>
            <a:r>
              <a:rPr b="1" lang="en-US" sz="2500" spc="-1" strike="noStrike">
                <a:solidFill>
                  <a:srgbClr val="009900"/>
                </a:solidFill>
                <a:latin typeface="Arial Narrow"/>
              </a:rPr>
              <a:t>log</a:t>
            </a:r>
            <a:r>
              <a:rPr b="0" lang="en-US" sz="2500" spc="-1" strike="noStrike">
                <a:solidFill>
                  <a:srgbClr val="000000"/>
                </a:solidFill>
                <a:latin typeface="Arial Narrow"/>
              </a:rPr>
              <a:t> of dependent variable before analyzing, or…</a:t>
            </a:r>
            <a:endParaRPr b="0" lang="en-US" sz="25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150"/>
              </a:spcBef>
              <a:buClr>
                <a:srgbClr val="000000"/>
              </a:buClr>
              <a:buSzPct val="120000"/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 Narrow"/>
              </a:rPr>
              <a:t>Find some other </a:t>
            </a:r>
            <a:r>
              <a:rPr b="1" lang="en-US" sz="2500" spc="-1" strike="noStrike">
                <a:solidFill>
                  <a:srgbClr val="009900"/>
                </a:solidFill>
                <a:latin typeface="Arial Narrow"/>
              </a:rPr>
              <a:t>transformation</a:t>
            </a:r>
            <a:r>
              <a:rPr b="0" lang="en-US" sz="2500" spc="-1" strike="noStrike">
                <a:solidFill>
                  <a:srgbClr val="000000"/>
                </a:solidFill>
                <a:latin typeface="Arial Narrow"/>
              </a:rPr>
              <a:t>.  As a last resort</a:t>
            </a:r>
            <a:r>
              <a:rPr b="0" lang="en-AU" sz="2500" spc="-1" strike="noStrike">
                <a:solidFill>
                  <a:srgbClr val="000000"/>
                </a:solidFill>
                <a:latin typeface="Arial Narrow"/>
              </a:rPr>
              <a:t>…</a:t>
            </a:r>
            <a:r>
              <a:rPr b="0" lang="en-US" sz="25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150"/>
              </a:spcBef>
              <a:buClr>
                <a:srgbClr val="000000"/>
              </a:buClr>
              <a:buSzPct val="120000"/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000000"/>
                </a:solidFill>
                <a:latin typeface="Arial Narrow"/>
              </a:rPr>
              <a:t>Use </a:t>
            </a:r>
            <a:r>
              <a:rPr b="1" lang="en-AU" sz="2500" spc="-1" strike="noStrike">
                <a:solidFill>
                  <a:srgbClr val="009900"/>
                </a:solidFill>
                <a:latin typeface="Arial Narrow"/>
              </a:rPr>
              <a:t>rank transformation</a:t>
            </a:r>
            <a:r>
              <a:rPr b="0" lang="en-AU" sz="2500" spc="-1" strike="noStrike">
                <a:solidFill>
                  <a:srgbClr val="000000"/>
                </a:solidFill>
                <a:latin typeface="Arial Narrow"/>
              </a:rPr>
              <a:t>:  </a:t>
            </a:r>
            <a:r>
              <a:rPr b="0" lang="en-US" sz="2500" spc="-1" strike="noStrike">
                <a:solidFill>
                  <a:srgbClr val="000000"/>
                </a:solidFill>
                <a:latin typeface="Arial Narrow"/>
              </a:rPr>
              <a:t>convert dependent variable to ranks before analyzing (= </a:t>
            </a:r>
            <a:r>
              <a:rPr b="1" lang="en-US" sz="2500" spc="-1" strike="noStrike">
                <a:solidFill>
                  <a:srgbClr val="009900"/>
                </a:solidFill>
                <a:latin typeface="Arial Narrow"/>
              </a:rPr>
              <a:t>non-parametric</a:t>
            </a:r>
            <a:r>
              <a:rPr b="0" lang="en-US" sz="2500" spc="-1" strike="noStrike">
                <a:solidFill>
                  <a:srgbClr val="000000"/>
                </a:solidFill>
                <a:latin typeface="Arial Narrow"/>
              </a:rPr>
              <a:t> analysis–same as Wilcoxon, Kruskal-Wallis and other tests).</a:t>
            </a:r>
            <a:endParaRPr b="0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64600" y="101160"/>
            <a:ext cx="8690040" cy="68580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txBody>
          <a:bodyPr lIns="126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Generalizing from a Sample to a Population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66760" y="786960"/>
            <a:ext cx="8686800" cy="5994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82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505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You study a </a:t>
            </a:r>
            <a:r>
              <a:rPr b="0" lang="en-US" sz="2800" spc="-1" strike="noStrike">
                <a:solidFill>
                  <a:srgbClr val="0066ff"/>
                </a:solidFill>
                <a:latin typeface="Arial Narrow"/>
              </a:rPr>
              <a:t>sample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to find out about the </a:t>
            </a:r>
            <a:r>
              <a:rPr b="0" lang="en-US" sz="2800" spc="-1" strike="noStrike">
                <a:solidFill>
                  <a:srgbClr val="0066ff"/>
                </a:solidFill>
                <a:latin typeface="Arial Narrow"/>
              </a:rPr>
              <a:t>population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505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The value of a statistic for a sample is only an </a:t>
            </a:r>
            <a:r>
              <a:rPr b="0" lang="en-US" sz="2800" spc="-1" strike="noStrike">
                <a:solidFill>
                  <a:srgbClr val="0066ff"/>
                </a:solidFill>
                <a:latin typeface="Arial Narrow"/>
              </a:rPr>
              <a:t>estimate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of the true (population) value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505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Express </a:t>
            </a:r>
            <a:r>
              <a:rPr b="0" lang="en-US" sz="2800" spc="-1" strike="noStrike">
                <a:solidFill>
                  <a:srgbClr val="0066ff"/>
                </a:solidFill>
                <a:latin typeface="Arial Narrow"/>
              </a:rPr>
              <a:t>precision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or </a:t>
            </a:r>
            <a:r>
              <a:rPr b="0" lang="en-US" sz="2800" spc="-1" strike="noStrike">
                <a:solidFill>
                  <a:srgbClr val="0066ff"/>
                </a:solidFill>
                <a:latin typeface="Arial Narrow"/>
              </a:rPr>
              <a:t>uncertainty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in true value using </a:t>
            </a:r>
            <a:r>
              <a:rPr b="0" lang="en-US" sz="2800" spc="-1" strike="noStrike">
                <a:solidFill>
                  <a:srgbClr val="0066ff"/>
                </a:solidFill>
                <a:latin typeface="Arial Narrow"/>
              </a:rPr>
              <a:t>95% confidence limits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326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Confidence limits represent </a:t>
            </a:r>
            <a:r>
              <a:rPr b="0" lang="en-US" sz="2600" spc="-1" strike="noStrike">
                <a:solidFill>
                  <a:srgbClr val="cc0066"/>
                </a:solidFill>
                <a:latin typeface="Arial Narrow"/>
              </a:rPr>
              <a:t>likely range of the true value</a:t>
            </a: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326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They do NOT represent a </a:t>
            </a:r>
            <a:r>
              <a:rPr b="0" lang="en-US" sz="2600" spc="-1" strike="noStrike">
                <a:solidFill>
                  <a:srgbClr val="cc0066"/>
                </a:solidFill>
                <a:latin typeface="Arial Narrow"/>
              </a:rPr>
              <a:t>range of values</a:t>
            </a: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 in different subjects.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326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There's a 5% chance the true value is outside the 95% confidence interval: the </a:t>
            </a:r>
            <a:r>
              <a:rPr b="0" lang="en-US" sz="2600" spc="-1" strike="noStrike">
                <a:solidFill>
                  <a:srgbClr val="cc0066"/>
                </a:solidFill>
                <a:latin typeface="Arial Narrow"/>
              </a:rPr>
              <a:t>Type 0 error rate</a:t>
            </a: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505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Interpret the observed value and the confidence limits as clinically or practically beneficial, trivial, or harmful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326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Even better, work out the </a:t>
            </a:r>
            <a:r>
              <a:rPr b="0" lang="en-US" sz="2600" spc="-1" strike="noStrike">
                <a:solidFill>
                  <a:srgbClr val="cc0066"/>
                </a:solidFill>
                <a:latin typeface="Arial Narrow"/>
              </a:rPr>
              <a:t>probability</a:t>
            </a: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 that the effect is clinically or practically beneficial/trivial/harmful. See sportsci.org.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/>
          </p:nvPr>
        </p:nvSpPr>
        <p:spPr>
          <a:xfrm>
            <a:off x="304920" y="228240"/>
            <a:ext cx="8534160" cy="641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82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505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 Narrow"/>
              </a:rPr>
              <a:t>Statistical significance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is an old-fashioned way of generalizing, based on testing whether the true value could be zero or null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326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Assume the </a:t>
            </a:r>
            <a:r>
              <a:rPr b="0" lang="en-US" sz="2700" spc="-1" strike="noStrike">
                <a:solidFill>
                  <a:srgbClr val="cc0066"/>
                </a:solidFill>
                <a:latin typeface="Arial Narrow"/>
              </a:rPr>
              <a:t>null hypothesis</a:t>
            </a: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: that the true value is zero (null).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326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If your observed value falls in a region of extreme values that would occur only 5% of the time, you </a:t>
            </a:r>
            <a:r>
              <a:rPr b="0" lang="en-US" sz="2600" spc="-1" strike="noStrike">
                <a:solidFill>
                  <a:srgbClr val="cc0066"/>
                </a:solidFill>
                <a:latin typeface="Arial Narrow"/>
              </a:rPr>
              <a:t>reject the null hypothesis</a:t>
            </a: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326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That is, you decide that the true value is unlikely to be zero; you can state that the result is </a:t>
            </a:r>
            <a:r>
              <a:rPr b="0" lang="en-US" sz="2600" spc="-1" strike="noStrike">
                <a:solidFill>
                  <a:srgbClr val="cc0066"/>
                </a:solidFill>
                <a:latin typeface="Arial Narrow"/>
              </a:rPr>
              <a:t>statistically significant</a:t>
            </a: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 at the 5% level.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326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If the observed value does not fall in the 5% unlikely region, most people </a:t>
            </a:r>
            <a:r>
              <a:rPr b="0" lang="en-US" sz="2600" spc="-1" strike="noStrike">
                <a:solidFill>
                  <a:srgbClr val="cc0066"/>
                </a:solidFill>
                <a:latin typeface="Arial Narrow"/>
              </a:rPr>
              <a:t>mistakenly accept the null hypothesis</a:t>
            </a: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: they conclude that the true value is zero or null!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326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The </a:t>
            </a:r>
            <a:r>
              <a:rPr b="0" lang="en-US" sz="2600" spc="-1" strike="noStrike">
                <a:solidFill>
                  <a:srgbClr val="cc0066"/>
                </a:solidFill>
                <a:latin typeface="Arial Narrow"/>
              </a:rPr>
              <a:t>p value</a:t>
            </a: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 helps you decide whether your result falls in the unlikely region.  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150"/>
              </a:spcBef>
              <a:buClr>
                <a:srgbClr val="000000"/>
              </a:buClr>
              <a:buSzPct val="120000"/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 Narrow"/>
              </a:rPr>
              <a:t>If</a:t>
            </a:r>
            <a:r>
              <a:rPr b="1" lang="en-US" sz="2600" spc="-1" strike="noStrike">
                <a:solidFill>
                  <a:srgbClr val="009900"/>
                </a:solidFill>
                <a:latin typeface="Arial Narrow"/>
              </a:rPr>
              <a:t> p&lt;0.05</a:t>
            </a:r>
            <a:r>
              <a:rPr b="0" lang="en-US" sz="2500" spc="-1" strike="noStrike">
                <a:solidFill>
                  <a:srgbClr val="000000"/>
                </a:solidFill>
                <a:latin typeface="Arial Narrow"/>
              </a:rPr>
              <a:t>, your result is in the unlikely region.  </a:t>
            </a:r>
            <a:endParaRPr b="0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/>
          </p:nvPr>
        </p:nvSpPr>
        <p:spPr>
          <a:xfrm>
            <a:off x="304920" y="228240"/>
            <a:ext cx="8534160" cy="617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82800" bIns="46800" anchor="t">
            <a:normAutofit/>
          </a:bodyPr>
          <a:p>
            <a:pPr lvl="1" marL="743040" indent="-285840">
              <a:spcBef>
                <a:spcPts val="326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One meaning of the p value: the </a:t>
            </a:r>
            <a:r>
              <a:rPr b="0" lang="en-US" sz="2600" spc="-1" strike="noStrike">
                <a:solidFill>
                  <a:srgbClr val="cc0066"/>
                </a:solidFill>
                <a:latin typeface="Arial Narrow"/>
              </a:rPr>
              <a:t>probability of a more extreme observed value</a:t>
            </a: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 (positive or negative) when true value is zero.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326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Better meaning of the p value: if you observe a </a:t>
            </a:r>
            <a:r>
              <a:rPr b="0" lang="en-US" sz="2600" spc="-1" strike="noStrike">
                <a:solidFill>
                  <a:srgbClr val="cc0066"/>
                </a:solidFill>
                <a:latin typeface="Arial Narrow"/>
              </a:rPr>
              <a:t>positive</a:t>
            </a: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 effect, </a:t>
            </a:r>
            <a:r>
              <a:rPr b="0" lang="en-US" sz="2600" spc="-1" strike="noStrike">
                <a:solidFill>
                  <a:srgbClr val="cc0066"/>
                </a:solidFill>
                <a:latin typeface="Arial Narrow"/>
              </a:rPr>
              <a:t>1 - p/2</a:t>
            </a:r>
            <a:r>
              <a:rPr b="0" lang="en-US" sz="2600" spc="-1" strike="noStrike">
                <a:solidFill>
                  <a:srgbClr val="009900"/>
                </a:solidFill>
                <a:latin typeface="Arial Narrow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is the chance the true value is </a:t>
            </a:r>
            <a:r>
              <a:rPr b="0" lang="en-US" sz="2600" spc="-1" strike="noStrike">
                <a:solidFill>
                  <a:srgbClr val="cc0066"/>
                </a:solidFill>
                <a:latin typeface="Arial Narrow"/>
              </a:rPr>
              <a:t>positive</a:t>
            </a: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, and </a:t>
            </a:r>
            <a:r>
              <a:rPr b="1" lang="en-US" sz="2500" spc="-1" strike="noStrike">
                <a:solidFill>
                  <a:srgbClr val="009900"/>
                </a:solidFill>
                <a:latin typeface="Arial Narrow"/>
              </a:rPr>
              <a:t>p/2</a:t>
            </a: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 is the chance the true value is </a:t>
            </a:r>
            <a:r>
              <a:rPr b="1" lang="en-US" sz="2500" spc="-1" strike="noStrike">
                <a:solidFill>
                  <a:srgbClr val="009900"/>
                </a:solidFill>
                <a:latin typeface="Arial Narrow"/>
              </a:rPr>
              <a:t>negative</a:t>
            </a: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.  Ditto for a negative effect.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150"/>
              </a:spcBef>
              <a:buClr>
                <a:srgbClr val="000000"/>
              </a:buClr>
              <a:buSzPct val="120000"/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 Narrow"/>
              </a:rPr>
              <a:t>Example:  you observe a 1.5% enhancement of performance (p=0.08).  Therefore there is a 96% chance that the true effect is any "enhancement" and a 4% chance that the true effect is any "impairment".</a:t>
            </a:r>
            <a:endParaRPr b="0" lang="en-US" sz="25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150"/>
              </a:spcBef>
              <a:buClr>
                <a:srgbClr val="000000"/>
              </a:buClr>
              <a:buSzPct val="120000"/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 Narrow"/>
              </a:rPr>
              <a:t>This interpretation does not take into account trivial enhancements and impairments.</a:t>
            </a:r>
            <a:endParaRPr b="0" lang="en-US" sz="25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326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Therefore, if you must use p values, show exact values, not p&lt;0.05 or p&gt;0.05.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150"/>
              </a:spcBef>
              <a:buClr>
                <a:srgbClr val="009900"/>
              </a:buClr>
              <a:buSzPct val="120000"/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9900"/>
                </a:solidFill>
                <a:latin typeface="Arial Narrow"/>
              </a:rPr>
              <a:t>Meta-analysts</a:t>
            </a:r>
            <a:r>
              <a:rPr b="0" lang="en-US" sz="2500" spc="-1" strike="noStrike">
                <a:solidFill>
                  <a:srgbClr val="000000"/>
                </a:solidFill>
                <a:latin typeface="Arial Narrow"/>
              </a:rPr>
              <a:t> also need the exact p value (or confidence limits).</a:t>
            </a:r>
            <a:endParaRPr b="0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/>
          </p:nvPr>
        </p:nvSpPr>
        <p:spPr>
          <a:xfrm>
            <a:off x="304920" y="228600"/>
            <a:ext cx="8534160" cy="6477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82800" bIns="46800" anchor="t">
            <a:normAutofit fontScale="99000"/>
          </a:bodyPr>
          <a:p>
            <a:pPr lvl="1" marL="735480" indent="-282960">
              <a:spcBef>
                <a:spcPts val="326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If the true value is zero, there's a 5% chance of getting statistical significance: the </a:t>
            </a:r>
            <a:r>
              <a:rPr b="0" lang="en-US" sz="2600" spc="-1" strike="noStrike">
                <a:solidFill>
                  <a:srgbClr val="cc0066"/>
                </a:solidFill>
                <a:latin typeface="Arial Narrow"/>
              </a:rPr>
              <a:t>Type I error rate</a:t>
            </a: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, or </a:t>
            </a:r>
            <a:r>
              <a:rPr b="0" lang="en-US" sz="2600" spc="-1" strike="noStrike">
                <a:solidFill>
                  <a:srgbClr val="cc0066"/>
                </a:solidFill>
                <a:latin typeface="Arial Narrow"/>
              </a:rPr>
              <a:t>rate of false positives or false alarms</a:t>
            </a: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lvl="1" marL="735480" indent="-282960">
              <a:spcBef>
                <a:spcPts val="326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There's also a chance that the smallest worthwhile true value will produce an observed value that is not statistically significant: the </a:t>
            </a:r>
            <a:r>
              <a:rPr b="0" lang="en-US" sz="2600" spc="-1" strike="noStrike">
                <a:solidFill>
                  <a:srgbClr val="cc0066"/>
                </a:solidFill>
                <a:latin typeface="Arial Narrow"/>
              </a:rPr>
              <a:t>Type II error rate</a:t>
            </a: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, or </a:t>
            </a:r>
            <a:r>
              <a:rPr b="0" lang="en-US" sz="2600" spc="-1" strike="noStrike">
                <a:solidFill>
                  <a:srgbClr val="cc0066"/>
                </a:solidFill>
                <a:latin typeface="Arial Narrow"/>
              </a:rPr>
              <a:t>rate of false negatives or failed alarms</a:t>
            </a: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lvl="2" marL="1131480" indent="-226080">
              <a:spcBef>
                <a:spcPts val="150"/>
              </a:spcBef>
              <a:buClr>
                <a:srgbClr val="000000"/>
              </a:buClr>
              <a:buSzPct val="120000"/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 Narrow"/>
              </a:rPr>
              <a:t>In the old-fashioned approach to research design, you are supposed to have enough subjects to make a Type II error rate of 20%:  that is, your study is supposed to have a </a:t>
            </a:r>
            <a:r>
              <a:rPr b="1" lang="en-US" sz="2500" spc="-1" strike="noStrike">
                <a:solidFill>
                  <a:srgbClr val="009900"/>
                </a:solidFill>
                <a:latin typeface="Arial Narrow"/>
              </a:rPr>
              <a:t>power</a:t>
            </a:r>
            <a:r>
              <a:rPr b="0" lang="en-US" sz="2500" spc="-1" strike="noStrike">
                <a:solidFill>
                  <a:srgbClr val="000000"/>
                </a:solidFill>
                <a:latin typeface="Arial Narrow"/>
              </a:rPr>
              <a:t> of 80% to detect the smallest worthwhile effect.</a:t>
            </a:r>
            <a:endParaRPr b="0" lang="en-US" sz="2500" spc="-1" strike="noStrike">
              <a:solidFill>
                <a:srgbClr val="000000"/>
              </a:solidFill>
              <a:latin typeface="Arial Narrow"/>
            </a:endParaRPr>
          </a:p>
          <a:p>
            <a:pPr lvl="1" marL="735480" indent="-282960">
              <a:spcBef>
                <a:spcPts val="326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If you look at </a:t>
            </a:r>
            <a:r>
              <a:rPr b="0" lang="en-US" sz="2600" spc="-1" strike="noStrike">
                <a:solidFill>
                  <a:srgbClr val="cc0066"/>
                </a:solidFill>
                <a:latin typeface="Arial Narrow"/>
              </a:rPr>
              <a:t>lots of effects</a:t>
            </a: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 in a study, there's an increased chance being wrong about at least one of them.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lvl="2" marL="1131480" indent="-226080">
              <a:spcBef>
                <a:spcPts val="150"/>
              </a:spcBef>
              <a:buClr>
                <a:srgbClr val="000000"/>
              </a:buClr>
              <a:buSzPct val="120000"/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 Narrow"/>
              </a:rPr>
              <a:t>Old-fashioned statisticians like to </a:t>
            </a:r>
            <a:r>
              <a:rPr b="1" lang="en-US" sz="2500" spc="-1" strike="noStrike">
                <a:solidFill>
                  <a:srgbClr val="009900"/>
                </a:solidFill>
                <a:latin typeface="Arial Narrow"/>
              </a:rPr>
              <a:t>control this inflation of </a:t>
            </a:r>
            <a:br>
              <a:rPr sz="2500"/>
            </a:br>
            <a:r>
              <a:rPr b="1" lang="en-US" sz="2500" spc="-1" strike="noStrike">
                <a:solidFill>
                  <a:srgbClr val="009900"/>
                </a:solidFill>
                <a:latin typeface="Arial Narrow"/>
              </a:rPr>
              <a:t>the Type I error rate</a:t>
            </a:r>
            <a:r>
              <a:rPr b="0" lang="en-US" sz="2500" spc="-1" strike="noStrike">
                <a:solidFill>
                  <a:srgbClr val="000000"/>
                </a:solidFill>
                <a:latin typeface="Arial Narrow"/>
              </a:rPr>
              <a:t> within an ANOVA to make sure the increased chance is kept to 5%. This approach is misguided.</a:t>
            </a:r>
            <a:endParaRPr b="0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/>
          </p:nvPr>
        </p:nvSpPr>
        <p:spPr>
          <a:xfrm>
            <a:off x="285840" y="76320"/>
            <a:ext cx="8610480" cy="6705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82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505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The</a:t>
            </a:r>
            <a:r>
              <a:rPr b="0" lang="en-US" sz="2800" spc="-1" strike="noStrike">
                <a:solidFill>
                  <a:srgbClr val="0066ff"/>
                </a:solidFill>
                <a:latin typeface="Arial Narrow"/>
              </a:rPr>
              <a:t> standard error of the mean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(typical variation in the mean from sample to sample) can convey statistical significance.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326"/>
              </a:spcBef>
              <a:buClr>
                <a:srgbClr val="cc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0066"/>
                </a:solidFill>
                <a:latin typeface="Arial Narrow"/>
              </a:rPr>
              <a:t>Non-overlap</a:t>
            </a: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 of the error bars of two groups implies a statistically significant difference, but </a:t>
            </a:r>
            <a:r>
              <a:rPr b="0" lang="en-US" sz="2600" spc="-1" strike="noStrike">
                <a:solidFill>
                  <a:srgbClr val="cc0066"/>
                </a:solidFill>
                <a:latin typeface="Arial Narrow"/>
              </a:rPr>
              <a:t>only</a:t>
            </a: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 for groups of </a:t>
            </a:r>
            <a:r>
              <a:rPr b="0" lang="en-US" sz="2600" spc="-1" strike="noStrike">
                <a:solidFill>
                  <a:srgbClr val="cc0066"/>
                </a:solidFill>
                <a:latin typeface="Arial Narrow"/>
              </a:rPr>
              <a:t>equal size</a:t>
            </a: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 (e.g. males vs females).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326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In particular, non-overlap does </a:t>
            </a:r>
            <a:r>
              <a:rPr b="0" lang="en-US" sz="2600" spc="-1" strike="noStrike">
                <a:solidFill>
                  <a:srgbClr val="cc0066"/>
                </a:solidFill>
                <a:latin typeface="Arial Narrow"/>
              </a:rPr>
              <a:t>NOT</a:t>
            </a: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 convey statistical significance in </a:t>
            </a:r>
            <a:r>
              <a:rPr b="0" lang="en-US" sz="2600" spc="-1" strike="noStrike">
                <a:solidFill>
                  <a:srgbClr val="cc0066"/>
                </a:solidFill>
                <a:latin typeface="Arial Narrow"/>
              </a:rPr>
              <a:t>experiments</a:t>
            </a: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477" name=""/>
          <p:cNvGrpSpPr/>
          <p:nvPr/>
        </p:nvGrpSpPr>
        <p:grpSpPr>
          <a:xfrm>
            <a:off x="871560" y="3227400"/>
            <a:ext cx="7467480" cy="3402000"/>
            <a:chOff x="871560" y="3227400"/>
            <a:chExt cx="7467480" cy="3402000"/>
          </a:xfrm>
        </p:grpSpPr>
        <p:sp>
          <p:nvSpPr>
            <p:cNvPr id="478" name=""/>
            <p:cNvSpPr/>
            <p:nvPr/>
          </p:nvSpPr>
          <p:spPr>
            <a:xfrm>
              <a:off x="871560" y="3227400"/>
              <a:ext cx="7467480" cy="340200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1881360" y="4040280"/>
              <a:ext cx="1927080" cy="192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1755720" y="5964120"/>
              <a:ext cx="41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1755720" y="5008680"/>
              <a:ext cx="41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1755720" y="4025880"/>
              <a:ext cx="41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 flipV="1">
              <a:off x="1797120" y="4025520"/>
              <a:ext cx="0" cy="1940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1881360" y="6048360"/>
              <a:ext cx="1927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930600" y="4584600"/>
              <a:ext cx="79272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Narrow"/>
                </a:rPr>
                <a:t>what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Narrow"/>
                </a:rPr>
                <a:t>ev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V="1">
              <a:off x="2305080" y="6048360"/>
              <a:ext cx="0" cy="5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V="1">
              <a:off x="3390840" y="6048360"/>
              <a:ext cx="0" cy="5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3064680" y="6062760"/>
              <a:ext cx="6537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Narrow"/>
                </a:rPr>
                <a:t>pos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2035080" y="6062760"/>
              <a:ext cx="5425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Narrow"/>
                </a:rPr>
                <a:t>p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 flipV="1">
              <a:off x="2311560" y="4525560"/>
              <a:ext cx="1090440" cy="28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 flipV="1">
              <a:off x="2305080" y="4122360"/>
              <a:ext cx="1109520" cy="888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 flipV="1">
              <a:off x="2305080" y="4382640"/>
              <a:ext cx="1109520" cy="793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 flipV="1">
              <a:off x="2305080" y="4133520"/>
              <a:ext cx="1096920" cy="1103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 flipV="1">
              <a:off x="2305080" y="4738680"/>
              <a:ext cx="1109520" cy="652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 flipV="1">
              <a:off x="2305080" y="4595400"/>
              <a:ext cx="1109520" cy="925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 flipV="1">
              <a:off x="2305080" y="5118120"/>
              <a:ext cx="109692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 flipV="1">
              <a:off x="2305080" y="4929120"/>
              <a:ext cx="1096920" cy="889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823400" y="3241800"/>
              <a:ext cx="173304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Narrow"/>
                </a:rPr>
                <a:t>High reliabilit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Narrow"/>
                </a:rPr>
                <a:t>p = 0.00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2227320" y="5308560"/>
              <a:ext cx="133200" cy="1317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2227320" y="5570640"/>
              <a:ext cx="133200" cy="1317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2227320" y="5451480"/>
              <a:ext cx="133200" cy="1317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2227320" y="5748480"/>
              <a:ext cx="133200" cy="1317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2227320" y="4727520"/>
              <a:ext cx="133200" cy="133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2227320" y="4941720"/>
              <a:ext cx="133200" cy="1317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2227320" y="5167440"/>
              <a:ext cx="133200" cy="1317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3341520" y="4527720"/>
              <a:ext cx="133560" cy="1317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3341520" y="4846680"/>
              <a:ext cx="133560" cy="1317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3341520" y="4668840"/>
              <a:ext cx="133560" cy="1317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3341520" y="5048280"/>
              <a:ext cx="133560" cy="1317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3341520" y="4313160"/>
              <a:ext cx="133560" cy="1317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3341520" y="4159080"/>
              <a:ext cx="133560" cy="1317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3341520" y="4456080"/>
              <a:ext cx="133560" cy="1317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2227320" y="5095800"/>
              <a:ext cx="133200" cy="1317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3341520" y="4052880"/>
              <a:ext cx="133560" cy="1317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5" name=""/>
          <p:cNvGrpSpPr/>
          <p:nvPr/>
        </p:nvGrpSpPr>
        <p:grpSpPr>
          <a:xfrm>
            <a:off x="6023160" y="3241800"/>
            <a:ext cx="1989000" cy="3275640"/>
            <a:chOff x="6023160" y="3241800"/>
            <a:chExt cx="1989000" cy="3275640"/>
          </a:xfrm>
        </p:grpSpPr>
        <p:sp>
          <p:nvSpPr>
            <p:cNvPr id="516" name=""/>
            <p:cNvSpPr/>
            <p:nvPr/>
          </p:nvSpPr>
          <p:spPr>
            <a:xfrm>
              <a:off x="6083280" y="4040280"/>
              <a:ext cx="1928880" cy="192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6083280" y="6048360"/>
              <a:ext cx="19288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 flipV="1">
              <a:off x="6508800" y="6048360"/>
              <a:ext cx="0" cy="5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 flipV="1">
              <a:off x="7594560" y="6048360"/>
              <a:ext cx="0" cy="5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7268400" y="6062760"/>
              <a:ext cx="6537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Narrow"/>
                </a:rPr>
                <a:t>pos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6238800" y="6062760"/>
              <a:ext cx="5425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Narrow"/>
                </a:rPr>
                <a:t>p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 flipV="1">
              <a:off x="6515280" y="4584600"/>
              <a:ext cx="1066680" cy="782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 flipV="1">
              <a:off x="6510240" y="5141880"/>
              <a:ext cx="0" cy="223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6477120" y="5141880"/>
              <a:ext cx="64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6510240" y="5380200"/>
              <a:ext cx="0" cy="199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6477120" y="5587920"/>
              <a:ext cx="64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023160" y="3241800"/>
              <a:ext cx="172512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Narrow"/>
                </a:rPr>
                <a:t>Mean ± SEM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Narrow"/>
                </a:rPr>
                <a:t>in both cas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 flipV="1">
              <a:off x="7594560" y="4363920"/>
              <a:ext cx="0" cy="223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7561440" y="4363920"/>
              <a:ext cx="64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7594560" y="4597560"/>
              <a:ext cx="0" cy="199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7561440" y="4800600"/>
              <a:ext cx="64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6419880" y="5273640"/>
              <a:ext cx="177840" cy="1764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7505640" y="4491000"/>
              <a:ext cx="177840" cy="1764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4" name=""/>
          <p:cNvGrpSpPr/>
          <p:nvPr/>
        </p:nvGrpSpPr>
        <p:grpSpPr>
          <a:xfrm>
            <a:off x="3933000" y="3241800"/>
            <a:ext cx="1985040" cy="3275640"/>
            <a:chOff x="3933000" y="3241800"/>
            <a:chExt cx="1985040" cy="3275640"/>
          </a:xfrm>
        </p:grpSpPr>
        <p:sp>
          <p:nvSpPr>
            <p:cNvPr id="535" name=""/>
            <p:cNvSpPr/>
            <p:nvPr/>
          </p:nvSpPr>
          <p:spPr>
            <a:xfrm>
              <a:off x="3990960" y="4040280"/>
              <a:ext cx="1927080" cy="192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990960" y="6048360"/>
              <a:ext cx="1927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 flipV="1">
              <a:off x="4416480" y="6048360"/>
              <a:ext cx="0" cy="5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 flipV="1">
              <a:off x="5500800" y="6048360"/>
              <a:ext cx="0" cy="5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172840" y="6062760"/>
              <a:ext cx="6537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Narrow"/>
                </a:rPr>
                <a:t>pos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4145040" y="6062760"/>
              <a:ext cx="5425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Narrow"/>
                </a:rPr>
                <a:t>p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 flipV="1">
              <a:off x="4410000" y="4738320"/>
              <a:ext cx="1101960" cy="27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 flipV="1">
              <a:off x="4410000" y="5118120"/>
              <a:ext cx="1090800" cy="130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 flipV="1">
              <a:off x="4416480" y="4382640"/>
              <a:ext cx="1108080" cy="793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 flipV="1">
              <a:off x="4421160" y="4133520"/>
              <a:ext cx="1090800" cy="1244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4410000" y="4792680"/>
              <a:ext cx="1101960" cy="117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4416480" y="4595400"/>
              <a:ext cx="1108080" cy="925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 flipV="1">
              <a:off x="4416480" y="4239720"/>
              <a:ext cx="1084320" cy="1411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 flipV="1">
              <a:off x="4416480" y="4525920"/>
              <a:ext cx="1084320" cy="129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933000" y="3241800"/>
              <a:ext cx="167796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Narrow"/>
                </a:rPr>
                <a:t>Low reliabilit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Narrow"/>
                </a:rPr>
                <a:t>p = 0.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336920" y="5308560"/>
              <a:ext cx="133560" cy="1317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4336920" y="5570640"/>
              <a:ext cx="133560" cy="1317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336920" y="5451480"/>
              <a:ext cx="133560" cy="1317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4336920" y="5748480"/>
              <a:ext cx="133560" cy="1317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336920" y="4727520"/>
              <a:ext cx="133560" cy="133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336920" y="4941720"/>
              <a:ext cx="133560" cy="1317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4336920" y="5167440"/>
              <a:ext cx="133560" cy="1317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5451480" y="4527720"/>
              <a:ext cx="133200" cy="1317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451480" y="4846680"/>
              <a:ext cx="133200" cy="1317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451480" y="4668840"/>
              <a:ext cx="133200" cy="1317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451480" y="5048280"/>
              <a:ext cx="133200" cy="1317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5451480" y="4313160"/>
              <a:ext cx="133200" cy="1317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451480" y="4159080"/>
              <a:ext cx="133200" cy="1317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451480" y="4456080"/>
              <a:ext cx="133200" cy="1317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4336920" y="5095800"/>
              <a:ext cx="133560" cy="1317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451480" y="4052880"/>
              <a:ext cx="133200" cy="1317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77920" y="151920"/>
            <a:ext cx="8664480" cy="68580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txBody>
          <a:bodyPr lIns="126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ummarizing Data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79360" y="837720"/>
            <a:ext cx="8661600" cy="5715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82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505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Data are a </a:t>
            </a:r>
            <a:r>
              <a:rPr b="0" lang="en-US" sz="2800" spc="-1" strike="noStrike">
                <a:solidFill>
                  <a:srgbClr val="0066ff"/>
                </a:solidFill>
                <a:latin typeface="Arial Narrow"/>
              </a:rPr>
              <a:t>bunch of values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of one or more </a:t>
            </a:r>
            <a:r>
              <a:rPr b="0" lang="en-US" sz="2800" spc="-1" strike="noStrike">
                <a:solidFill>
                  <a:srgbClr val="0066ff"/>
                </a:solidFill>
                <a:latin typeface="Arial Narrow"/>
              </a:rPr>
              <a:t>variables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505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A </a:t>
            </a:r>
            <a:r>
              <a:rPr b="0" lang="en-US" sz="2800" spc="-1" strike="noStrike">
                <a:solidFill>
                  <a:srgbClr val="0066ff"/>
                </a:solidFill>
                <a:latin typeface="Arial Narrow"/>
              </a:rPr>
              <a:t>variable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is something that has different values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326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Values can be </a:t>
            </a:r>
            <a:r>
              <a:rPr b="0" lang="en-US" sz="2600" spc="-1" strike="noStrike">
                <a:solidFill>
                  <a:srgbClr val="cc0066"/>
                </a:solidFill>
                <a:latin typeface="Arial Narrow"/>
              </a:rPr>
              <a:t>numbers</a:t>
            </a: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 or </a:t>
            </a:r>
            <a:r>
              <a:rPr b="0" lang="en-US" sz="2600" spc="-1" strike="noStrike">
                <a:solidFill>
                  <a:srgbClr val="cc0066"/>
                </a:solidFill>
                <a:latin typeface="Arial Narrow"/>
              </a:rPr>
              <a:t>names</a:t>
            </a: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, depending on the variable: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162"/>
              </a:spcBef>
              <a:buClr>
                <a:srgbClr val="009900"/>
              </a:buClr>
              <a:buSzPct val="120000"/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9900"/>
                </a:solidFill>
                <a:latin typeface="Arial Narrow"/>
              </a:rPr>
              <a:t>Numeric</a:t>
            </a: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, e.g. weight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162"/>
              </a:spcBef>
              <a:buClr>
                <a:srgbClr val="009900"/>
              </a:buClr>
              <a:buSzPct val="120000"/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9900"/>
                </a:solidFill>
                <a:latin typeface="Arial Narrow"/>
              </a:rPr>
              <a:t>Counting</a:t>
            </a: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, e.g. number of injuries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162"/>
              </a:spcBef>
              <a:buClr>
                <a:srgbClr val="009900"/>
              </a:buClr>
              <a:buSzPct val="120000"/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9900"/>
                </a:solidFill>
                <a:latin typeface="Arial Narrow"/>
              </a:rPr>
              <a:t>Ordinal</a:t>
            </a: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, e.g. competitive level (values are</a:t>
            </a:r>
            <a:r>
              <a:rPr b="0" lang="en-AU" sz="2600" spc="-1" strike="noStrike">
                <a:solidFill>
                  <a:srgbClr val="000000"/>
                </a:solidFill>
                <a:latin typeface="Arial Narrow"/>
              </a:rPr>
              <a:t> numbers/names)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162"/>
              </a:spcBef>
              <a:buClr>
                <a:srgbClr val="009900"/>
              </a:buClr>
              <a:buSzPct val="120000"/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9900"/>
                </a:solidFill>
                <a:latin typeface="Arial Narrow"/>
              </a:rPr>
              <a:t>Nominal</a:t>
            </a: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, e.g. sex (values are names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326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Arial Narrow"/>
              </a:rPr>
              <a:t>When values are </a:t>
            </a:r>
            <a:r>
              <a:rPr b="0" lang="en-AU" sz="2600" spc="-1" strike="noStrike">
                <a:solidFill>
                  <a:srgbClr val="cc0066"/>
                </a:solidFill>
                <a:latin typeface="Arial Narrow"/>
              </a:rPr>
              <a:t>numbers</a:t>
            </a:r>
            <a:r>
              <a:rPr b="0" lang="en-AU" sz="2600" spc="-1" strike="noStrike">
                <a:solidFill>
                  <a:srgbClr val="000000"/>
                </a:solidFill>
                <a:latin typeface="Arial Narrow"/>
              </a:rPr>
              <a:t>,  visualize the </a:t>
            </a:r>
            <a:r>
              <a:rPr b="0" lang="en-AU" sz="2600" spc="-1" strike="noStrike">
                <a:solidFill>
                  <a:srgbClr val="cc0066"/>
                </a:solidFill>
                <a:latin typeface="Arial Narrow"/>
              </a:rPr>
              <a:t>distribution</a:t>
            </a:r>
            <a:r>
              <a:rPr b="0" lang="en-AU" sz="2600" spc="-1" strike="noStrike">
                <a:solidFill>
                  <a:srgbClr val="000000"/>
                </a:solidFill>
                <a:latin typeface="Arial Narrow"/>
              </a:rPr>
              <a:t> of all values in </a:t>
            </a:r>
            <a:r>
              <a:rPr b="0" lang="en-AU" sz="2600" spc="-1" strike="noStrike">
                <a:solidFill>
                  <a:srgbClr val="cc0066"/>
                </a:solidFill>
                <a:latin typeface="Arial Narrow"/>
              </a:rPr>
              <a:t>stem and leaf plots</a:t>
            </a:r>
            <a:r>
              <a:rPr b="0" lang="en-AU" sz="2600" spc="-1" strike="noStrike">
                <a:solidFill>
                  <a:srgbClr val="000000"/>
                </a:solidFill>
                <a:latin typeface="Arial Narrow"/>
              </a:rPr>
              <a:t> or in a frequency histogram.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150"/>
              </a:spcBef>
              <a:buClr>
                <a:srgbClr val="000000"/>
              </a:buClr>
              <a:buSzPct val="120000"/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000000"/>
                </a:solidFill>
                <a:latin typeface="Arial Narrow"/>
              </a:rPr>
              <a:t>Can also use </a:t>
            </a:r>
            <a:r>
              <a:rPr b="1" lang="en-AU" sz="2600" spc="-1" strike="noStrike">
                <a:solidFill>
                  <a:srgbClr val="009900"/>
                </a:solidFill>
                <a:latin typeface="Arial Narrow"/>
              </a:rPr>
              <a:t>normal probability plots</a:t>
            </a:r>
            <a:r>
              <a:rPr b="0" lang="en-AU" sz="2500" spc="-1" strike="noStrike">
                <a:solidFill>
                  <a:srgbClr val="000000"/>
                </a:solidFill>
                <a:latin typeface="Arial Narrow"/>
              </a:rPr>
              <a:t> to visualize how well the values fit a normal distribution.</a:t>
            </a:r>
            <a:endParaRPr b="0" lang="en-US" sz="25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326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Arial Narrow"/>
              </a:rPr>
              <a:t>When values are </a:t>
            </a:r>
            <a:r>
              <a:rPr b="0" lang="en-AU" sz="2600" spc="-1" strike="noStrike">
                <a:solidFill>
                  <a:srgbClr val="cc0066"/>
                </a:solidFill>
                <a:latin typeface="Arial Narrow"/>
              </a:rPr>
              <a:t>names</a:t>
            </a:r>
            <a:r>
              <a:rPr b="0" lang="en-AU" sz="2600" spc="-1" strike="noStrike">
                <a:solidFill>
                  <a:srgbClr val="000000"/>
                </a:solidFill>
                <a:latin typeface="Arial Narrow"/>
              </a:rPr>
              <a:t>, visualize the frequency of each value with a </a:t>
            </a:r>
            <a:r>
              <a:rPr b="0" lang="en-AU" sz="2600" spc="-1" strike="noStrike">
                <a:solidFill>
                  <a:srgbClr val="cc0066"/>
                </a:solidFill>
                <a:latin typeface="Arial Narrow"/>
              </a:rPr>
              <a:t>pie chart</a:t>
            </a:r>
            <a:r>
              <a:rPr b="0" lang="en-AU" sz="2600" spc="-1" strike="noStrike">
                <a:solidFill>
                  <a:srgbClr val="000000"/>
                </a:solidFill>
                <a:latin typeface="Arial Narrow"/>
              </a:rPr>
              <a:t> or a just a list of values and frequencies.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/>
          </p:nvPr>
        </p:nvSpPr>
        <p:spPr>
          <a:xfrm>
            <a:off x="285840" y="75960"/>
            <a:ext cx="8610480" cy="5181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82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505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In summary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326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If you must </a:t>
            </a:r>
            <a:r>
              <a:rPr b="0" lang="en-AU" sz="2600" spc="-1" strike="noStrike">
                <a:solidFill>
                  <a:srgbClr val="000000"/>
                </a:solidFill>
                <a:latin typeface="Arial Narrow"/>
              </a:rPr>
              <a:t>use </a:t>
            </a: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statistical significance, show </a:t>
            </a:r>
            <a:r>
              <a:rPr b="0" lang="en-US" sz="2600" spc="-1" strike="noStrike">
                <a:solidFill>
                  <a:srgbClr val="cc0066"/>
                </a:solidFill>
                <a:latin typeface="Arial Narrow"/>
              </a:rPr>
              <a:t>exact</a:t>
            </a: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600" spc="-1" strike="noStrike">
                <a:solidFill>
                  <a:srgbClr val="cc0066"/>
                </a:solidFill>
                <a:latin typeface="Arial Narrow"/>
              </a:rPr>
              <a:t>p values</a:t>
            </a: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326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Better still, show </a:t>
            </a:r>
            <a:r>
              <a:rPr b="0" lang="en-US" sz="2600" spc="-1" strike="noStrike">
                <a:solidFill>
                  <a:srgbClr val="cc0066"/>
                </a:solidFill>
                <a:latin typeface="Arial Narrow"/>
              </a:rPr>
              <a:t>confidence limits</a:t>
            </a:r>
            <a:r>
              <a:rPr b="0" lang="en-AU" sz="2600" spc="-1" strike="noStrike">
                <a:solidFill>
                  <a:srgbClr val="000000"/>
                </a:solidFill>
                <a:latin typeface="Arial Narrow"/>
              </a:rPr>
              <a:t> instead.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326"/>
              </a:spcBef>
              <a:buClr>
                <a:srgbClr val="cc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0066"/>
                </a:solidFill>
                <a:latin typeface="Arial Narrow"/>
              </a:rPr>
              <a:t>NEVER</a:t>
            </a: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 show the standard error of the mean!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326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Show the usual </a:t>
            </a:r>
            <a:r>
              <a:rPr b="0" lang="en-US" sz="2600" spc="-1" strike="noStrike">
                <a:solidFill>
                  <a:srgbClr val="cc0066"/>
                </a:solidFill>
                <a:latin typeface="Arial Narrow"/>
              </a:rPr>
              <a:t>between-subject standard deviation</a:t>
            </a: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 to convey the spread between subjects.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150"/>
              </a:spcBef>
              <a:buClr>
                <a:srgbClr val="000000"/>
              </a:buClr>
              <a:buSzPct val="120000"/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 Narrow"/>
              </a:rPr>
              <a:t>In population studies, this standard deviation helps convey </a:t>
            </a:r>
            <a:r>
              <a:rPr b="1" lang="en-US" sz="2500" spc="-1" strike="noStrike">
                <a:solidFill>
                  <a:srgbClr val="009900"/>
                </a:solidFill>
                <a:latin typeface="Arial Narrow"/>
              </a:rPr>
              <a:t>magnitude of differences or changes</a:t>
            </a:r>
            <a:r>
              <a:rPr b="0" lang="en-US" sz="2500" spc="-1" strike="noStrike">
                <a:solidFill>
                  <a:srgbClr val="000000"/>
                </a:solidFill>
                <a:latin typeface="Arial Narrow"/>
              </a:rPr>
              <a:t> in the mean. </a:t>
            </a:r>
            <a:endParaRPr b="0" lang="en-US" sz="25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326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In </a:t>
            </a:r>
            <a:r>
              <a:rPr b="0" lang="en-AU" sz="2600" spc="-1" strike="noStrike">
                <a:solidFill>
                  <a:srgbClr val="000000"/>
                </a:solidFill>
                <a:latin typeface="Arial Narrow"/>
              </a:rPr>
              <a:t>interventions, s</a:t>
            </a: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how also the </a:t>
            </a:r>
            <a:r>
              <a:rPr b="0" lang="en-US" sz="2600" spc="-1" strike="noStrike">
                <a:solidFill>
                  <a:srgbClr val="cc0066"/>
                </a:solidFill>
                <a:latin typeface="Arial Narrow"/>
              </a:rPr>
              <a:t>within-subject standard deviation</a:t>
            </a: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 (the typical error)  to convey precision of measurement.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150"/>
              </a:spcBef>
              <a:buClr>
                <a:srgbClr val="000000"/>
              </a:buClr>
              <a:buSzPct val="120000"/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 Narrow"/>
              </a:rPr>
              <a:t>In athlete studies, this standard deviation helps convey magnitude of differences or changes in mean </a:t>
            </a:r>
            <a:r>
              <a:rPr b="1" lang="en-US" sz="2500" spc="-1" strike="noStrike">
                <a:solidFill>
                  <a:srgbClr val="009900"/>
                </a:solidFill>
                <a:latin typeface="Arial Narrow"/>
              </a:rPr>
              <a:t>performance</a:t>
            </a:r>
            <a:r>
              <a:rPr b="0" lang="en-US" sz="2500" spc="-1" strike="noStrike">
                <a:solidFill>
                  <a:srgbClr val="000000"/>
                </a:solidFill>
                <a:latin typeface="Arial Narrow"/>
              </a:rPr>
              <a:t>. </a:t>
            </a:r>
            <a:endParaRPr b="0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203040" y="76320"/>
            <a:ext cx="8737920" cy="6603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82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505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A </a:t>
            </a:r>
            <a:r>
              <a:rPr b="0" lang="en-US" sz="2800" spc="-1" strike="noStrike">
                <a:solidFill>
                  <a:srgbClr val="0066ff"/>
                </a:solidFill>
                <a:latin typeface="Arial Narrow"/>
              </a:rPr>
              <a:t>statistic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is a number </a:t>
            </a:r>
            <a:r>
              <a:rPr b="0" lang="en-US" sz="2800" spc="-1" strike="noStrike">
                <a:solidFill>
                  <a:srgbClr val="0066ff"/>
                </a:solidFill>
                <a:latin typeface="Arial Narrow"/>
              </a:rPr>
              <a:t>summarizing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a bunch of values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326"/>
              </a:spcBef>
              <a:buClr>
                <a:srgbClr val="cc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0066"/>
                </a:solidFill>
                <a:latin typeface="Arial Narrow"/>
              </a:rPr>
              <a:t>Simple</a:t>
            </a: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 or </a:t>
            </a:r>
            <a:r>
              <a:rPr b="0" lang="en-US" sz="2600" spc="-1" strike="noStrike">
                <a:solidFill>
                  <a:srgbClr val="cc0066"/>
                </a:solidFill>
                <a:latin typeface="Arial Narrow"/>
              </a:rPr>
              <a:t>univariate</a:t>
            </a: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 statistics summarize values of one variable.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326"/>
              </a:spcBef>
              <a:buClr>
                <a:srgbClr val="cc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0066"/>
                </a:solidFill>
                <a:latin typeface="Arial Narrow"/>
              </a:rPr>
              <a:t>Effect</a:t>
            </a: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 or </a:t>
            </a:r>
            <a:r>
              <a:rPr b="0" lang="en-US" sz="2600" spc="-1" strike="noStrike">
                <a:solidFill>
                  <a:srgbClr val="cc0066"/>
                </a:solidFill>
                <a:latin typeface="Arial Narrow"/>
              </a:rPr>
              <a:t>outcome</a:t>
            </a: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 statistics summarize the relationship between values of </a:t>
            </a:r>
            <a:r>
              <a:rPr b="0" lang="en-US" sz="2600" spc="-1" strike="noStrike">
                <a:solidFill>
                  <a:srgbClr val="cc0066"/>
                </a:solidFill>
                <a:latin typeface="Arial Narrow"/>
              </a:rPr>
              <a:t>two or more variables.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505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imple statistics for </a:t>
            </a:r>
            <a:r>
              <a:rPr b="0" lang="en-US" sz="2800" spc="-1" strike="noStrike">
                <a:solidFill>
                  <a:srgbClr val="0066ff"/>
                </a:solidFill>
                <a:latin typeface="Arial Narrow"/>
              </a:rPr>
              <a:t>numeric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variables…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326"/>
              </a:spcBef>
              <a:buClr>
                <a:srgbClr val="cc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0066"/>
                </a:solidFill>
                <a:latin typeface="Arial Narrow"/>
              </a:rPr>
              <a:t>Mean</a:t>
            </a: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: the average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326"/>
              </a:spcBef>
              <a:buClr>
                <a:srgbClr val="cc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0066"/>
                </a:solidFill>
                <a:latin typeface="Arial Narrow"/>
              </a:rPr>
              <a:t>Standard deviation</a:t>
            </a: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: the typical variation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326"/>
              </a:spcBef>
              <a:buClr>
                <a:srgbClr val="cc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0066"/>
                </a:solidFill>
                <a:latin typeface="Arial Narrow"/>
              </a:rPr>
              <a:t>Standard error of the mean</a:t>
            </a: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: the typical variation in the mean with repeated sampling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150"/>
              </a:spcBef>
              <a:buClr>
                <a:srgbClr val="009900"/>
              </a:buClr>
              <a:buSzPct val="120000"/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9900"/>
                </a:solidFill>
                <a:latin typeface="Arial Narrow"/>
              </a:rPr>
              <a:t>Multiply by </a:t>
            </a:r>
            <a:r>
              <a:rPr b="1" lang="en-US" sz="2600" spc="-1" strike="noStrike">
                <a:solidFill>
                  <a:srgbClr val="009900"/>
                </a:solidFill>
                <a:latin typeface="Symbol"/>
                <a:ea typeface="Symbol"/>
              </a:rPr>
              <a:t></a:t>
            </a:r>
            <a:r>
              <a:rPr b="1" lang="en-US" sz="2600" spc="-1" strike="noStrike">
                <a:solidFill>
                  <a:srgbClr val="009900"/>
                </a:solidFill>
                <a:latin typeface="Arial Narrow"/>
              </a:rPr>
              <a:t>(sample size)</a:t>
            </a:r>
            <a:r>
              <a:rPr b="0" lang="en-US" sz="2500" spc="-1" strike="noStrike">
                <a:solidFill>
                  <a:srgbClr val="000000"/>
                </a:solidFill>
                <a:latin typeface="Arial Narrow"/>
              </a:rPr>
              <a:t> to convert to standard deviation.</a:t>
            </a:r>
            <a:endParaRPr b="0" lang="en-US" sz="25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326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Use these also for </a:t>
            </a:r>
            <a:r>
              <a:rPr b="0" lang="en-US" sz="2600" spc="-1" strike="noStrike">
                <a:solidFill>
                  <a:srgbClr val="cc0066"/>
                </a:solidFill>
                <a:latin typeface="Arial Narrow"/>
              </a:rPr>
              <a:t>counting</a:t>
            </a: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 and</a:t>
            </a:r>
            <a:r>
              <a:rPr b="0" lang="en-US" sz="2600" spc="-1" strike="noStrike">
                <a:solidFill>
                  <a:srgbClr val="cc0066"/>
                </a:solidFill>
                <a:latin typeface="Arial Narrow"/>
              </a:rPr>
              <a:t> ordinal </a:t>
            </a: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variables.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326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Arial Narrow"/>
              </a:rPr>
              <a:t>Use </a:t>
            </a:r>
            <a:r>
              <a:rPr b="0" lang="en-AU" sz="2600" spc="-1" strike="noStrike">
                <a:solidFill>
                  <a:srgbClr val="cc0066"/>
                </a:solidFill>
                <a:latin typeface="Arial Narrow"/>
              </a:rPr>
              <a:t>median</a:t>
            </a:r>
            <a:r>
              <a:rPr b="0" lang="en-AU" sz="2600" spc="-1" strike="noStrike">
                <a:solidFill>
                  <a:srgbClr val="000000"/>
                </a:solidFill>
                <a:latin typeface="Arial Narrow"/>
              </a:rPr>
              <a:t> (middle value or 50th percentile) and </a:t>
            </a:r>
            <a:r>
              <a:rPr b="0" lang="en-AU" sz="2600" spc="-1" strike="noStrike">
                <a:solidFill>
                  <a:srgbClr val="cc0066"/>
                </a:solidFill>
                <a:latin typeface="Arial Narrow"/>
              </a:rPr>
              <a:t>quartiles</a:t>
            </a:r>
            <a:r>
              <a:rPr b="0" lang="en-AU" sz="2600" spc="-1" strike="noStrike">
                <a:solidFill>
                  <a:srgbClr val="000000"/>
                </a:solidFill>
                <a:latin typeface="Arial Narrow"/>
              </a:rPr>
              <a:t> (25th and 75th percentiles) for grossly non-normally distributed data.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326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Arial Narrow"/>
              </a:rPr>
              <a:t>Summarize these and other simple statistics visually with </a:t>
            </a:r>
            <a:r>
              <a:rPr b="0" lang="en-AU" sz="2600" spc="-1" strike="noStrike">
                <a:solidFill>
                  <a:srgbClr val="cc0066"/>
                </a:solidFill>
                <a:latin typeface="Arial Narrow"/>
              </a:rPr>
              <a:t>box and whisker plots</a:t>
            </a:r>
            <a:r>
              <a:rPr b="0" lang="en-AU" sz="26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304920" y="396360"/>
            <a:ext cx="8534160" cy="341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82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505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imple statistics for </a:t>
            </a:r>
            <a:r>
              <a:rPr b="0" lang="en-US" sz="2800" spc="-1" strike="noStrike">
                <a:solidFill>
                  <a:srgbClr val="0066ff"/>
                </a:solidFill>
                <a:latin typeface="Arial Narrow"/>
              </a:rPr>
              <a:t>nominal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variable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326"/>
              </a:spcBef>
              <a:buClr>
                <a:srgbClr val="cc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0066"/>
                </a:solidFill>
                <a:latin typeface="Arial Narrow"/>
              </a:rPr>
              <a:t>Frequencies</a:t>
            </a: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, proportions, or odds.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326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Can also use these for </a:t>
            </a:r>
            <a:r>
              <a:rPr b="0" lang="en-US" sz="2600" spc="-1" strike="noStrike">
                <a:solidFill>
                  <a:srgbClr val="cc0066"/>
                </a:solidFill>
                <a:latin typeface="Arial Narrow"/>
              </a:rPr>
              <a:t>ordinal</a:t>
            </a: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 variables.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505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 Narrow"/>
              </a:rPr>
              <a:t>Effect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statistics…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326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Derived from </a:t>
            </a:r>
            <a:r>
              <a:rPr b="0" lang="en-US" sz="2600" spc="-1" strike="noStrike">
                <a:solidFill>
                  <a:srgbClr val="cc0066"/>
                </a:solidFill>
                <a:latin typeface="Arial Narrow"/>
              </a:rPr>
              <a:t>statistical model</a:t>
            </a: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 (equation) of the form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   Y (dependent) vs X (predictor or independent).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326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Depend on </a:t>
            </a:r>
            <a:r>
              <a:rPr b="0" lang="en-US" sz="2600" spc="-1" strike="noStrike">
                <a:solidFill>
                  <a:srgbClr val="cc0066"/>
                </a:solidFill>
                <a:latin typeface="Arial Narrow"/>
              </a:rPr>
              <a:t>type</a:t>
            </a: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 of Y and X .  Main ones: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304920" y="3759120"/>
            <a:ext cx="8534160" cy="473040"/>
            <a:chOff x="304920" y="3759120"/>
            <a:chExt cx="8534160" cy="473040"/>
          </a:xfrm>
        </p:grpSpPr>
        <p:sp>
          <p:nvSpPr>
            <p:cNvPr id="91" name=""/>
            <p:cNvSpPr/>
            <p:nvPr/>
          </p:nvSpPr>
          <p:spPr>
            <a:xfrm>
              <a:off x="304920" y="3759120"/>
              <a:ext cx="1427040" cy="473040"/>
            </a:xfrm>
            <a:prstGeom prst="rect">
              <a:avLst/>
            </a:prstGeom>
            <a:solidFill>
              <a:srgbClr val="ffff66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 Narrow"/>
                </a:rPr>
                <a:t>Y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736640" y="3759120"/>
              <a:ext cx="1230480" cy="473040"/>
            </a:xfrm>
            <a:prstGeom prst="rect">
              <a:avLst/>
            </a:prstGeom>
            <a:solidFill>
              <a:srgbClr val="99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 Narrow"/>
                </a:rPr>
                <a:t>X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935600" y="3759120"/>
              <a:ext cx="3903480" cy="473040"/>
            </a:xfrm>
            <a:prstGeom prst="rect">
              <a:avLst/>
            </a:prstGeom>
            <a:solidFill>
              <a:srgbClr val="ff9999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 Narrow"/>
                </a:rPr>
                <a:t>Effect statistic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959200" y="3759120"/>
              <a:ext cx="1976400" cy="473040"/>
            </a:xfrm>
            <a:prstGeom prst="rect">
              <a:avLst/>
            </a:prstGeom>
            <a:solidFill>
              <a:srgbClr val="99ff66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 Narrow"/>
                </a:rPr>
                <a:t>Model/Test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304920" y="4219560"/>
            <a:ext cx="8534160" cy="473040"/>
            <a:chOff x="304920" y="4219560"/>
            <a:chExt cx="8534160" cy="473040"/>
          </a:xfrm>
        </p:grpSpPr>
        <p:sp>
          <p:nvSpPr>
            <p:cNvPr id="96" name=""/>
            <p:cNvSpPr/>
            <p:nvPr/>
          </p:nvSpPr>
          <p:spPr>
            <a:xfrm>
              <a:off x="304920" y="4219560"/>
              <a:ext cx="1427040" cy="473040"/>
            </a:xfrm>
            <a:prstGeom prst="rect">
              <a:avLst/>
            </a:prstGeom>
            <a:solidFill>
              <a:srgbClr val="ffff99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 Narrow"/>
                </a:rPr>
                <a:t>numeric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736640" y="4219560"/>
              <a:ext cx="1230480" cy="47304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 Narrow"/>
                </a:rPr>
                <a:t>numeric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935600" y="4219560"/>
              <a:ext cx="3903480" cy="473040"/>
            </a:xfrm>
            <a:prstGeom prst="rect">
              <a:avLst/>
            </a:prstGeom>
            <a:solidFill>
              <a:srgbClr val="ff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 Narrow"/>
                </a:rPr>
                <a:t>slope, intercept, correlation 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959200" y="4219560"/>
              <a:ext cx="1976400" cy="473040"/>
            </a:xfrm>
            <a:prstGeom prst="rect">
              <a:avLst/>
            </a:prstGeom>
            <a:solidFill>
              <a:srgbClr val="ccff99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 Narrow"/>
                </a:rPr>
                <a:t>regressio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304920" y="4689360"/>
            <a:ext cx="8534160" cy="1406520"/>
            <a:chOff x="304920" y="4689360"/>
            <a:chExt cx="8534160" cy="1406520"/>
          </a:xfrm>
        </p:grpSpPr>
        <p:sp>
          <p:nvSpPr>
            <p:cNvPr id="101" name=""/>
            <p:cNvSpPr/>
            <p:nvPr/>
          </p:nvSpPr>
          <p:spPr>
            <a:xfrm>
              <a:off x="304920" y="4689360"/>
              <a:ext cx="1427040" cy="473040"/>
            </a:xfrm>
            <a:prstGeom prst="rect">
              <a:avLst/>
            </a:prstGeom>
            <a:solidFill>
              <a:srgbClr val="ffff99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 Narrow"/>
                </a:rPr>
                <a:t>numeric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736640" y="4689360"/>
              <a:ext cx="1230480" cy="47304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 Narrow"/>
                </a:rPr>
                <a:t>nominal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04920" y="5156280"/>
              <a:ext cx="1427040" cy="473040"/>
            </a:xfrm>
            <a:prstGeom prst="rect">
              <a:avLst/>
            </a:prstGeom>
            <a:solidFill>
              <a:srgbClr val="ffff99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 Narrow"/>
                </a:rPr>
                <a:t>nominal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736640" y="5156280"/>
              <a:ext cx="1230480" cy="47304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 Narrow"/>
                </a:rPr>
                <a:t>nominal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04920" y="5622840"/>
              <a:ext cx="1427040" cy="473040"/>
            </a:xfrm>
            <a:prstGeom prst="rect">
              <a:avLst/>
            </a:prstGeom>
            <a:solidFill>
              <a:srgbClr val="ffff99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 Narrow"/>
                </a:rPr>
                <a:t>nominal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736640" y="5622840"/>
              <a:ext cx="1230480" cy="47304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 Narrow"/>
                </a:rPr>
                <a:t>numeric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935600" y="4689360"/>
              <a:ext cx="3903480" cy="473040"/>
            </a:xfrm>
            <a:prstGeom prst="rect">
              <a:avLst/>
            </a:prstGeom>
            <a:solidFill>
              <a:srgbClr val="ff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 Narrow"/>
                </a:rPr>
                <a:t>mean difference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935600" y="5156280"/>
              <a:ext cx="3903480" cy="473040"/>
            </a:xfrm>
            <a:prstGeom prst="rect">
              <a:avLst/>
            </a:prstGeom>
            <a:solidFill>
              <a:srgbClr val="ff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 Narrow"/>
                </a:rPr>
                <a:t>frequency difference or ratio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935600" y="5622840"/>
              <a:ext cx="3903480" cy="473040"/>
            </a:xfrm>
            <a:prstGeom prst="rect">
              <a:avLst/>
            </a:prstGeom>
            <a:solidFill>
              <a:srgbClr val="ff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 Narrow"/>
                </a:rPr>
                <a:t>frequency ratio per… 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959200" y="4689360"/>
              <a:ext cx="1976400" cy="473040"/>
            </a:xfrm>
            <a:prstGeom prst="rect">
              <a:avLst/>
            </a:prstGeom>
            <a:solidFill>
              <a:srgbClr val="ccff99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 Narrow"/>
                </a:rPr>
                <a:t>t test, ANOVA 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959200" y="5156280"/>
              <a:ext cx="1976400" cy="473040"/>
            </a:xfrm>
            <a:prstGeom prst="rect">
              <a:avLst/>
            </a:prstGeom>
            <a:solidFill>
              <a:srgbClr val="ccff99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 Narrow"/>
                </a:rPr>
                <a:t>chi-square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959200" y="5622840"/>
              <a:ext cx="1976400" cy="473040"/>
            </a:xfrm>
            <a:prstGeom prst="rect">
              <a:avLst/>
            </a:prstGeom>
            <a:solidFill>
              <a:srgbClr val="ccff99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 Narrow"/>
                </a:rPr>
                <a:t>categorical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152280" y="152280"/>
            <a:ext cx="8839440" cy="5486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82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505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Model: </a:t>
            </a:r>
            <a:r>
              <a:rPr b="0" lang="en-US" sz="2800" spc="-1" strike="noStrike">
                <a:solidFill>
                  <a:srgbClr val="0066ff"/>
                </a:solidFill>
                <a:latin typeface="Arial Narrow"/>
              </a:rPr>
              <a:t>numeric vs numeric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e.g. body fat vs sum of skinfold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326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Model or test: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0" lang="en-US" sz="2600" spc="-1" strike="noStrike">
                <a:solidFill>
                  <a:srgbClr val="cc0066"/>
                </a:solidFill>
                <a:latin typeface="Arial Narrow"/>
              </a:rPr>
              <a:t>linear regression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326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Effect statistics: 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150"/>
              </a:spcBef>
              <a:buClr>
                <a:srgbClr val="cc0066"/>
              </a:buClr>
              <a:buSzPct val="120000"/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0066"/>
                </a:solidFill>
                <a:latin typeface="Arial Narrow"/>
              </a:rPr>
              <a:t>slope</a:t>
            </a:r>
            <a:r>
              <a:rPr b="0" lang="en-US" sz="2500" spc="-1" strike="noStrike">
                <a:solidFill>
                  <a:srgbClr val="000000"/>
                </a:solidFill>
                <a:latin typeface="Arial Narrow"/>
              </a:rPr>
              <a:t> and intercept</a:t>
            </a: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Arial Narrow"/>
              </a:rPr>
              <a:t>= parameters</a:t>
            </a:r>
            <a:endParaRPr b="0" lang="en-US" sz="25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150"/>
              </a:spcBef>
              <a:buClr>
                <a:srgbClr val="cc0066"/>
              </a:buClr>
              <a:buSzPct val="120000"/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0066"/>
                </a:solidFill>
                <a:latin typeface="Arial Narrow"/>
              </a:rPr>
              <a:t>correlation coefficient</a:t>
            </a:r>
            <a:r>
              <a:rPr b="0" lang="en-US" sz="2500" spc="-1" strike="noStrike">
                <a:solidFill>
                  <a:srgbClr val="000000"/>
                </a:solidFill>
                <a:latin typeface="Arial Narrow"/>
              </a:rPr>
              <a:t> or variance explained (= 100·correlation</a:t>
            </a:r>
            <a:r>
              <a:rPr b="0" lang="en-US" sz="2500" spc="-1" strike="noStrike" baseline="30000">
                <a:solidFill>
                  <a:srgbClr val="000000"/>
                </a:solidFill>
                <a:latin typeface="Arial Narrow"/>
              </a:rPr>
              <a:t>2</a:t>
            </a:r>
            <a:r>
              <a:rPr b="0" lang="en-US" sz="2500" spc="-1" strike="noStrike">
                <a:solidFill>
                  <a:srgbClr val="000000"/>
                </a:solidFill>
                <a:latin typeface="Arial Narrow"/>
              </a:rPr>
              <a:t>)</a:t>
            </a: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Arial Narrow"/>
              </a:rPr>
              <a:t>= measures of goodness of fit</a:t>
            </a:r>
            <a:endParaRPr b="0" lang="en-US" sz="25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326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Other statistics: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150"/>
              </a:spcBef>
              <a:buClr>
                <a:srgbClr val="cc0066"/>
              </a:buClr>
              <a:buSzPct val="120000"/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0066"/>
                </a:solidFill>
                <a:latin typeface="Arial Narrow"/>
              </a:rPr>
              <a:t>typical or standard error of the estimate</a:t>
            </a: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Arial Narrow"/>
              </a:rPr>
              <a:t>= residual error</a:t>
            </a: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Arial Narrow"/>
              </a:rPr>
              <a:t>= best measure of </a:t>
            </a:r>
            <a:r>
              <a:rPr b="0" lang="en-US" sz="2500" spc="-1" strike="noStrike">
                <a:solidFill>
                  <a:srgbClr val="cc0066"/>
                </a:solidFill>
                <a:latin typeface="Arial Narrow"/>
              </a:rPr>
              <a:t>validity </a:t>
            </a:r>
            <a:r>
              <a:rPr b="0" lang="en-US" sz="2500" spc="-1" strike="noStrike">
                <a:solidFill>
                  <a:srgbClr val="000000"/>
                </a:solidFill>
                <a:latin typeface="Arial Narrow"/>
              </a:rPr>
              <a:t>(with criterion variable on the Y axis)</a:t>
            </a:r>
            <a:endParaRPr b="0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"/>
          <p:cNvSpPr/>
          <p:nvPr/>
        </p:nvSpPr>
        <p:spPr>
          <a:xfrm>
            <a:off x="5257800" y="304920"/>
            <a:ext cx="3429000" cy="261612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502320" y="430200"/>
            <a:ext cx="2030400" cy="1846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32840" y="2425680"/>
            <a:ext cx="2207520" cy="420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7964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um skinfolds (m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335560" y="874800"/>
            <a:ext cx="928800" cy="785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7964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body fa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(%B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532560" y="496800"/>
            <a:ext cx="1963800" cy="1648080"/>
          </a:xfrm>
          <a:prstGeom prst="line">
            <a:avLst/>
          </a:prstGeom>
          <a:ln w="25560">
            <a:solidFill>
              <a:srgbClr val="f766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6859440" y="1581840"/>
            <a:ext cx="71640" cy="7164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7002360" y="1494000"/>
            <a:ext cx="69840" cy="7128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6931080" y="1708200"/>
            <a:ext cx="71280" cy="7128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7214400" y="1244520"/>
            <a:ext cx="71640" cy="7164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7357320" y="1708200"/>
            <a:ext cx="71640" cy="7128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7286760" y="1565280"/>
            <a:ext cx="71280" cy="7128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8069400" y="973080"/>
            <a:ext cx="71280" cy="7164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7927920" y="1116000"/>
            <a:ext cx="69840" cy="7128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7784280" y="1116000"/>
            <a:ext cx="71640" cy="7128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7713720" y="759600"/>
            <a:ext cx="71280" cy="7164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7429680" y="1138320"/>
            <a:ext cx="71280" cy="7128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716880" y="1735200"/>
            <a:ext cx="71280" cy="7128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859440" y="1992240"/>
            <a:ext cx="71640" cy="7164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002360" y="1892160"/>
            <a:ext cx="69840" cy="7164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" bIns="4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H="1" flipV="1">
            <a:off x="7784280" y="995400"/>
            <a:ext cx="71640" cy="7128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7143840" y="1851120"/>
            <a:ext cx="71280" cy="7128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7286760" y="1851120"/>
            <a:ext cx="71280" cy="7128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 rot="16200000">
            <a:off x="7405200" y="1635840"/>
            <a:ext cx="71640" cy="7164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 rot="16200000">
            <a:off x="8210880" y="544320"/>
            <a:ext cx="71280" cy="7164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H="1" rot="16200000">
            <a:off x="8209440" y="687240"/>
            <a:ext cx="71640" cy="7164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 rot="16200000">
            <a:off x="8310600" y="901800"/>
            <a:ext cx="71280" cy="7128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V="1" rot="16200000">
            <a:off x="7854480" y="853200"/>
            <a:ext cx="71640" cy="7164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V="1" rot="16200000">
            <a:off x="7997040" y="592920"/>
            <a:ext cx="71280" cy="6984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 rot="16200000">
            <a:off x="7857360" y="1423440"/>
            <a:ext cx="69840" cy="7128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7143840" y="1625760"/>
            <a:ext cx="71280" cy="6984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641360" y="1044720"/>
            <a:ext cx="71640" cy="7128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8140680" y="617400"/>
            <a:ext cx="71280" cy="7164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7997040" y="760320"/>
            <a:ext cx="71640" cy="7164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7143840" y="1281240"/>
            <a:ext cx="71280" cy="7128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7072200" y="1565280"/>
            <a:ext cx="71640" cy="7128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7784280" y="1116000"/>
            <a:ext cx="71640" cy="7128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8140680" y="901800"/>
            <a:ext cx="71280" cy="7128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7856640" y="689040"/>
            <a:ext cx="71280" cy="7128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H="1" flipV="1">
            <a:off x="7357320" y="1424160"/>
            <a:ext cx="71640" cy="6984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H="1" flipV="1">
            <a:off x="7641360" y="1424160"/>
            <a:ext cx="71640" cy="6984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H="1" flipV="1">
            <a:off x="7500960" y="853200"/>
            <a:ext cx="69840" cy="7164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" bIns="4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H="1" flipV="1">
            <a:off x="7416000" y="972360"/>
            <a:ext cx="71640" cy="7164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H="1" flipV="1">
            <a:off x="7275600" y="1017720"/>
            <a:ext cx="69840" cy="7128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203960" y="1374840"/>
            <a:ext cx="71640" cy="7128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H="1" flipV="1" rot="5400000">
            <a:off x="7624440" y="1588320"/>
            <a:ext cx="71640" cy="7128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H="1" flipV="1" rot="5400000">
            <a:off x="7701840" y="1447200"/>
            <a:ext cx="69840" cy="7128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 rot="5400000">
            <a:off x="7701120" y="1305000"/>
            <a:ext cx="71280" cy="7128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rot="5400000">
            <a:off x="7343280" y="1280880"/>
            <a:ext cx="71280" cy="7164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H="1" flipV="1">
            <a:off x="7275600" y="1017720"/>
            <a:ext cx="69840" cy="7128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 flipV="1">
            <a:off x="7631280" y="1302480"/>
            <a:ext cx="71280" cy="7164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543800" y="934920"/>
            <a:ext cx="0" cy="685800"/>
          </a:xfrm>
          <a:prstGeom prst="line">
            <a:avLst/>
          </a:prstGeom>
          <a:ln w="38160">
            <a:solidFill>
              <a:srgbClr val="0066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6366960" y="430200"/>
            <a:ext cx="81360" cy="1847520"/>
            <a:chOff x="6366960" y="430200"/>
            <a:chExt cx="81360" cy="1847520"/>
          </a:xfrm>
        </p:grpSpPr>
        <p:sp>
          <p:nvSpPr>
            <p:cNvPr id="166" name=""/>
            <p:cNvSpPr/>
            <p:nvPr/>
          </p:nvSpPr>
          <p:spPr>
            <a:xfrm flipH="1">
              <a:off x="6366960" y="2159280"/>
              <a:ext cx="81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6366960" y="1801080"/>
              <a:ext cx="81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6366960" y="1423800"/>
              <a:ext cx="81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6366960" y="1065600"/>
              <a:ext cx="81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6366960" y="688320"/>
              <a:ext cx="81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6448320" y="430200"/>
              <a:ext cx="0" cy="1847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6502320" y="2334960"/>
            <a:ext cx="2031840" cy="81360"/>
            <a:chOff x="6502320" y="2334960"/>
            <a:chExt cx="2031840" cy="81360"/>
          </a:xfrm>
        </p:grpSpPr>
        <p:sp>
          <p:nvSpPr>
            <p:cNvPr id="173" name=""/>
            <p:cNvSpPr/>
            <p:nvPr/>
          </p:nvSpPr>
          <p:spPr>
            <a:xfrm>
              <a:off x="8403840" y="2335320"/>
              <a:ext cx="0" cy="81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009640" y="2335320"/>
              <a:ext cx="0" cy="81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594920" y="2335320"/>
              <a:ext cx="0" cy="81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201080" y="2335320"/>
              <a:ext cx="0" cy="81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786000" y="2335320"/>
              <a:ext cx="0" cy="81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flipH="1">
              <a:off x="6502320" y="2334960"/>
              <a:ext cx="2031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304920" y="304920"/>
            <a:ext cx="8534160" cy="586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82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505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Model: </a:t>
            </a:r>
            <a:r>
              <a:rPr b="0" lang="en-US" sz="2800" spc="-1" strike="noStrike">
                <a:solidFill>
                  <a:srgbClr val="0066ff"/>
                </a:solidFill>
                <a:latin typeface="Arial Narrow"/>
              </a:rPr>
              <a:t>numeric vs nominal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e.g. strength vs sex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326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Model or test: 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150"/>
              </a:spcBef>
              <a:buClr>
                <a:srgbClr val="cc0066"/>
              </a:buClr>
              <a:buSzPct val="120000"/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0066"/>
                </a:solidFill>
                <a:latin typeface="Arial Narrow"/>
              </a:rPr>
              <a:t>t test </a:t>
            </a:r>
            <a:r>
              <a:rPr b="0" lang="en-US" sz="2500" spc="-1" strike="noStrike">
                <a:solidFill>
                  <a:srgbClr val="000000"/>
                </a:solidFill>
                <a:latin typeface="Arial Narrow"/>
              </a:rPr>
              <a:t>(2 groups)</a:t>
            </a:r>
            <a:endParaRPr b="0" lang="en-US" sz="25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150"/>
              </a:spcBef>
              <a:buClr>
                <a:srgbClr val="cc0066"/>
              </a:buClr>
              <a:buSzPct val="120000"/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0066"/>
                </a:solidFill>
                <a:latin typeface="Arial Narrow"/>
              </a:rPr>
              <a:t>1-way ANOVA</a:t>
            </a:r>
            <a:r>
              <a:rPr b="0" lang="en-US" sz="2500" spc="-1" strike="noStrike">
                <a:solidFill>
                  <a:srgbClr val="000000"/>
                </a:solidFill>
                <a:latin typeface="Arial Narrow"/>
              </a:rPr>
              <a:t> (&gt;2 groups)</a:t>
            </a:r>
            <a:endParaRPr b="0" lang="en-US" sz="25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326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Effect statistics: 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150"/>
              </a:spcBef>
              <a:buClr>
                <a:srgbClr val="cc0066"/>
              </a:buClr>
              <a:buSzPct val="120000"/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0066"/>
                </a:solidFill>
                <a:latin typeface="Arial Narrow"/>
              </a:rPr>
              <a:t>difference between means</a:t>
            </a: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Arial Narrow"/>
              </a:rPr>
              <a:t>expressed as raw difference, percent difference, or fraction of the root mean square error (Cohen's effect-size statistic) </a:t>
            </a:r>
            <a:endParaRPr b="0" lang="en-US" sz="25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150"/>
              </a:spcBef>
              <a:buClr>
                <a:srgbClr val="000000"/>
              </a:buClr>
              <a:buSzPct val="120000"/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 Narrow"/>
              </a:rPr>
              <a:t>variance explained or better </a:t>
            </a:r>
            <a:r>
              <a:rPr b="0" lang="en-US" sz="2500" spc="-1" strike="noStrike">
                <a:solidFill>
                  <a:srgbClr val="cc0066"/>
                </a:solidFill>
                <a:latin typeface="Symbol"/>
                <a:ea typeface="Symbol"/>
              </a:rPr>
              <a:t></a:t>
            </a:r>
            <a:r>
              <a:rPr b="0" lang="en-US" sz="2500" spc="-1" strike="noStrike">
                <a:solidFill>
                  <a:srgbClr val="cc0066"/>
                </a:solidFill>
                <a:latin typeface="Arial Narrow"/>
              </a:rPr>
              <a:t>(variance explained/100)</a:t>
            </a: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Arial Narrow"/>
              </a:rPr>
              <a:t>= measures of goodness of fit</a:t>
            </a:r>
            <a:endParaRPr b="0" lang="en-US" sz="25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326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Other statistics: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150"/>
              </a:spcBef>
              <a:buClr>
                <a:srgbClr val="cc0066"/>
              </a:buClr>
              <a:buSzPct val="120000"/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0066"/>
                </a:solidFill>
                <a:latin typeface="Arial Narrow"/>
              </a:rPr>
              <a:t>root mean square error</a:t>
            </a: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Arial Narrow"/>
              </a:rPr>
              <a:t>= average standard deviation of the two groups</a:t>
            </a:r>
            <a:endParaRPr b="0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0" name=""/>
          <p:cNvSpPr/>
          <p:nvPr/>
        </p:nvSpPr>
        <p:spPr>
          <a:xfrm>
            <a:off x="5181480" y="533520"/>
            <a:ext cx="3429000" cy="259056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456240" y="2438280"/>
            <a:ext cx="119232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500"/>
              </a:lnSpc>
              <a:tabLst>
                <a:tab algn="l" pos="0"/>
                <a:tab algn="l" pos="355680"/>
                <a:tab algn="l" pos="711360"/>
                <a:tab algn="l" pos="107964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fema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85040" y="2438280"/>
            <a:ext cx="113040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500"/>
              </a:lnSpc>
              <a:tabLst>
                <a:tab algn="l" pos="0"/>
                <a:tab algn="l" pos="355680"/>
                <a:tab algn="l" pos="711360"/>
                <a:tab algn="l" pos="107964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ma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346720" y="1197000"/>
            <a:ext cx="80640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798"/>
              </a:lnSpc>
              <a:tabLst>
                <a:tab algn="l" pos="0"/>
                <a:tab algn="l" pos="355680"/>
                <a:tab algn="l" pos="711360"/>
                <a:tab algn="l" pos="107964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treng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469200" y="674640"/>
            <a:ext cx="1993680" cy="1676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6330600" y="657000"/>
            <a:ext cx="81360" cy="1703160"/>
            <a:chOff x="6330600" y="657000"/>
            <a:chExt cx="81360" cy="1703160"/>
          </a:xfrm>
        </p:grpSpPr>
        <p:sp>
          <p:nvSpPr>
            <p:cNvPr id="186" name=""/>
            <p:cNvSpPr/>
            <p:nvPr/>
          </p:nvSpPr>
          <p:spPr>
            <a:xfrm flipH="1">
              <a:off x="6330600" y="2251080"/>
              <a:ext cx="81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6330600" y="1920960"/>
              <a:ext cx="81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>
              <a:off x="6330600" y="1573200"/>
              <a:ext cx="81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H="1">
              <a:off x="6330600" y="1243080"/>
              <a:ext cx="81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flipH="1">
              <a:off x="6330600" y="895320"/>
              <a:ext cx="81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6411960" y="657000"/>
              <a:ext cx="0" cy="1703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2" name=""/>
          <p:cNvSpPr/>
          <p:nvPr/>
        </p:nvSpPr>
        <p:spPr>
          <a:xfrm>
            <a:off x="6772320" y="1571760"/>
            <a:ext cx="560520" cy="779400"/>
          </a:xfrm>
          <a:prstGeom prst="rect">
            <a:avLst/>
          </a:prstGeom>
          <a:solidFill>
            <a:srgbClr val="cc00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661160" y="1241280"/>
            <a:ext cx="559080" cy="1109880"/>
          </a:xfrm>
          <a:prstGeom prst="rect">
            <a:avLst/>
          </a:prstGeom>
          <a:solidFill>
            <a:srgbClr val="cc00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7042320" y="1263600"/>
            <a:ext cx="0" cy="3110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953400" y="1257480"/>
            <a:ext cx="1774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7950240" y="912600"/>
            <a:ext cx="0" cy="330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867800" y="912960"/>
            <a:ext cx="1774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913440" y="2720880"/>
            <a:ext cx="119232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500"/>
              </a:lnSpc>
              <a:tabLst>
                <a:tab algn="l" pos="0"/>
                <a:tab algn="l" pos="355680"/>
                <a:tab algn="l" pos="711360"/>
                <a:tab algn="l" pos="107964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7032600" y="2357280"/>
            <a:ext cx="0" cy="74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7937640" y="2357280"/>
            <a:ext cx="0" cy="74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380520" y="304920"/>
            <a:ext cx="8458200" cy="586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82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505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More on expressing the </a:t>
            </a:r>
            <a:r>
              <a:rPr b="0" lang="en-US" sz="2800" spc="-1" strike="noStrike">
                <a:solidFill>
                  <a:srgbClr val="0066ff"/>
                </a:solidFill>
                <a:latin typeface="Arial Narrow"/>
              </a:rPr>
              <a:t>magnitude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of the effect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326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What often matters is the difference between means relative to the </a:t>
            </a:r>
            <a:r>
              <a:rPr b="0" lang="en-US" sz="2600" spc="-1" strike="noStrike">
                <a:solidFill>
                  <a:srgbClr val="cc0066"/>
                </a:solidFill>
                <a:latin typeface="Arial Narrow"/>
              </a:rPr>
              <a:t>standard deviation</a:t>
            </a: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989640" y="1752480"/>
            <a:ext cx="3048840" cy="4191120"/>
            <a:chOff x="989640" y="1752480"/>
            <a:chExt cx="3048840" cy="4191120"/>
          </a:xfrm>
        </p:grpSpPr>
        <p:sp>
          <p:nvSpPr>
            <p:cNvPr id="203" name=""/>
            <p:cNvSpPr/>
            <p:nvPr/>
          </p:nvSpPr>
          <p:spPr>
            <a:xfrm>
              <a:off x="990720" y="2209680"/>
              <a:ext cx="3047760" cy="3733920"/>
            </a:xfrm>
            <a:prstGeom prst="rect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231920" y="3657600"/>
              <a:ext cx="2577960" cy="1638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86868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936440" y="5356080"/>
              <a:ext cx="12834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trengt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285920" y="3762360"/>
              <a:ext cx="2400120" cy="1542960"/>
            </a:xfrm>
            <a:custGeom>
              <a:avLst/>
              <a:gdLst/>
              <a:ahLst/>
              <a:rect l="l" t="t" r="r" b="b"/>
              <a:pathLst>
                <a:path w="1512" h="972">
                  <a:moveTo>
                    <a:pt x="0" y="969"/>
                  </a:moveTo>
                  <a:cubicBezTo>
                    <a:pt x="24" y="969"/>
                    <a:pt x="97" y="972"/>
                    <a:pt x="147" y="966"/>
                  </a:cubicBezTo>
                  <a:cubicBezTo>
                    <a:pt x="197" y="960"/>
                    <a:pt x="259" y="955"/>
                    <a:pt x="300" y="933"/>
                  </a:cubicBezTo>
                  <a:cubicBezTo>
                    <a:pt x="341" y="911"/>
                    <a:pt x="358" y="889"/>
                    <a:pt x="393" y="831"/>
                  </a:cubicBezTo>
                  <a:cubicBezTo>
                    <a:pt x="428" y="773"/>
                    <a:pt x="462" y="707"/>
                    <a:pt x="510" y="585"/>
                  </a:cubicBezTo>
                  <a:cubicBezTo>
                    <a:pt x="558" y="463"/>
                    <a:pt x="648" y="193"/>
                    <a:pt x="684" y="99"/>
                  </a:cubicBezTo>
                  <a:cubicBezTo>
                    <a:pt x="720" y="5"/>
                    <a:pt x="713" y="37"/>
                    <a:pt x="726" y="21"/>
                  </a:cubicBezTo>
                  <a:cubicBezTo>
                    <a:pt x="739" y="5"/>
                    <a:pt x="751" y="0"/>
                    <a:pt x="765" y="3"/>
                  </a:cubicBezTo>
                  <a:cubicBezTo>
                    <a:pt x="779" y="6"/>
                    <a:pt x="790" y="9"/>
                    <a:pt x="810" y="39"/>
                  </a:cubicBezTo>
                  <a:cubicBezTo>
                    <a:pt x="830" y="69"/>
                    <a:pt x="858" y="113"/>
                    <a:pt x="888" y="183"/>
                  </a:cubicBezTo>
                  <a:cubicBezTo>
                    <a:pt x="918" y="253"/>
                    <a:pt x="956" y="365"/>
                    <a:pt x="993" y="462"/>
                  </a:cubicBezTo>
                  <a:cubicBezTo>
                    <a:pt x="1030" y="559"/>
                    <a:pt x="1075" y="692"/>
                    <a:pt x="1113" y="765"/>
                  </a:cubicBezTo>
                  <a:cubicBezTo>
                    <a:pt x="1151" y="838"/>
                    <a:pt x="1190" y="869"/>
                    <a:pt x="1224" y="900"/>
                  </a:cubicBezTo>
                  <a:cubicBezTo>
                    <a:pt x="1258" y="931"/>
                    <a:pt x="1285" y="944"/>
                    <a:pt x="1320" y="954"/>
                  </a:cubicBezTo>
                  <a:cubicBezTo>
                    <a:pt x="1355" y="964"/>
                    <a:pt x="1402" y="962"/>
                    <a:pt x="1434" y="963"/>
                  </a:cubicBezTo>
                  <a:cubicBezTo>
                    <a:pt x="1466" y="964"/>
                    <a:pt x="1489" y="963"/>
                    <a:pt x="1512" y="963"/>
                  </a:cubicBezTo>
                </a:path>
              </a:pathLst>
            </a:custGeom>
            <a:noFill/>
            <a:ln w="2844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346040" y="3762360"/>
              <a:ext cx="2400480" cy="1542960"/>
            </a:xfrm>
            <a:custGeom>
              <a:avLst/>
              <a:gdLst/>
              <a:ahLst/>
              <a:rect l="l" t="t" r="r" b="b"/>
              <a:pathLst>
                <a:path w="1512" h="972">
                  <a:moveTo>
                    <a:pt x="0" y="969"/>
                  </a:moveTo>
                  <a:cubicBezTo>
                    <a:pt x="24" y="969"/>
                    <a:pt x="97" y="972"/>
                    <a:pt x="147" y="966"/>
                  </a:cubicBezTo>
                  <a:cubicBezTo>
                    <a:pt x="197" y="960"/>
                    <a:pt x="259" y="955"/>
                    <a:pt x="300" y="933"/>
                  </a:cubicBezTo>
                  <a:cubicBezTo>
                    <a:pt x="341" y="911"/>
                    <a:pt x="358" y="889"/>
                    <a:pt x="393" y="831"/>
                  </a:cubicBezTo>
                  <a:cubicBezTo>
                    <a:pt x="428" y="773"/>
                    <a:pt x="462" y="707"/>
                    <a:pt x="510" y="585"/>
                  </a:cubicBezTo>
                  <a:cubicBezTo>
                    <a:pt x="558" y="463"/>
                    <a:pt x="648" y="193"/>
                    <a:pt x="684" y="99"/>
                  </a:cubicBezTo>
                  <a:cubicBezTo>
                    <a:pt x="720" y="5"/>
                    <a:pt x="713" y="37"/>
                    <a:pt x="726" y="21"/>
                  </a:cubicBezTo>
                  <a:cubicBezTo>
                    <a:pt x="739" y="5"/>
                    <a:pt x="751" y="0"/>
                    <a:pt x="765" y="3"/>
                  </a:cubicBezTo>
                  <a:cubicBezTo>
                    <a:pt x="779" y="6"/>
                    <a:pt x="790" y="9"/>
                    <a:pt x="810" y="39"/>
                  </a:cubicBezTo>
                  <a:cubicBezTo>
                    <a:pt x="830" y="69"/>
                    <a:pt x="858" y="113"/>
                    <a:pt x="888" y="183"/>
                  </a:cubicBezTo>
                  <a:cubicBezTo>
                    <a:pt x="918" y="253"/>
                    <a:pt x="956" y="365"/>
                    <a:pt x="993" y="462"/>
                  </a:cubicBezTo>
                  <a:cubicBezTo>
                    <a:pt x="1030" y="559"/>
                    <a:pt x="1075" y="692"/>
                    <a:pt x="1113" y="765"/>
                  </a:cubicBezTo>
                  <a:cubicBezTo>
                    <a:pt x="1151" y="838"/>
                    <a:pt x="1190" y="869"/>
                    <a:pt x="1224" y="900"/>
                  </a:cubicBezTo>
                  <a:cubicBezTo>
                    <a:pt x="1258" y="931"/>
                    <a:pt x="1285" y="944"/>
                    <a:pt x="1320" y="954"/>
                  </a:cubicBezTo>
                  <a:cubicBezTo>
                    <a:pt x="1355" y="964"/>
                    <a:pt x="1402" y="962"/>
                    <a:pt x="1434" y="963"/>
                  </a:cubicBezTo>
                  <a:cubicBezTo>
                    <a:pt x="1466" y="964"/>
                    <a:pt x="1489" y="963"/>
                    <a:pt x="1512" y="963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8" name=""/>
            <p:cNvGrpSpPr/>
            <p:nvPr/>
          </p:nvGrpSpPr>
          <p:grpSpPr>
            <a:xfrm>
              <a:off x="2400480" y="3162240"/>
              <a:ext cx="352080" cy="152640"/>
              <a:chOff x="2400480" y="3162240"/>
              <a:chExt cx="352080" cy="152640"/>
            </a:xfrm>
          </p:grpSpPr>
          <p:sp>
            <p:nvSpPr>
              <p:cNvPr id="209" name=""/>
              <p:cNvSpPr/>
              <p:nvPr/>
            </p:nvSpPr>
            <p:spPr>
              <a:xfrm>
                <a:off x="2400480" y="3238560"/>
                <a:ext cx="352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2749680" y="3162240"/>
                <a:ext cx="0" cy="152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1219320" y="3022560"/>
              <a:ext cx="1282680" cy="43200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2" name=""/>
            <p:cNvGrpSpPr/>
            <p:nvPr/>
          </p:nvGrpSpPr>
          <p:grpSpPr>
            <a:xfrm>
              <a:off x="2448000" y="2577960"/>
              <a:ext cx="352440" cy="152640"/>
              <a:chOff x="2448000" y="2577960"/>
              <a:chExt cx="352440" cy="152640"/>
            </a:xfrm>
          </p:grpSpPr>
          <p:sp>
            <p:nvSpPr>
              <p:cNvPr id="213" name=""/>
              <p:cNvSpPr/>
              <p:nvPr/>
            </p:nvSpPr>
            <p:spPr>
              <a:xfrm>
                <a:off x="2448000" y="2654280"/>
                <a:ext cx="3524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2797560" y="2577960"/>
                <a:ext cx="0" cy="152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5" name=""/>
            <p:cNvSpPr/>
            <p:nvPr/>
          </p:nvSpPr>
          <p:spPr>
            <a:xfrm>
              <a:off x="1219320" y="2438280"/>
              <a:ext cx="1336680" cy="4320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219320" y="5305320"/>
              <a:ext cx="258588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143000" y="2451240"/>
              <a:ext cx="304920" cy="41580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311120" y="2438280"/>
              <a:ext cx="1222200" cy="4240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female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143000" y="3032280"/>
              <a:ext cx="304920" cy="419040"/>
            </a:xfrm>
            <a:prstGeom prst="rect">
              <a:avLst/>
            </a:prstGeom>
            <a:gradFill rotWithShape="0">
              <a:gsLst>
                <a:gs pos="0">
                  <a:srgbClr val="0099ff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311120" y="3009960"/>
              <a:ext cx="973800" cy="4240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male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989640" y="1752480"/>
              <a:ext cx="17406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</a:rPr>
                <a:t>Trivial effect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4416480" y="1752480"/>
            <a:ext cx="3736800" cy="4191120"/>
            <a:chOff x="4416480" y="1752480"/>
            <a:chExt cx="3736800" cy="4191120"/>
          </a:xfrm>
        </p:grpSpPr>
        <p:sp>
          <p:nvSpPr>
            <p:cNvPr id="223" name=""/>
            <p:cNvSpPr/>
            <p:nvPr/>
          </p:nvSpPr>
          <p:spPr>
            <a:xfrm>
              <a:off x="4419720" y="2209680"/>
              <a:ext cx="3733560" cy="3733920"/>
            </a:xfrm>
            <a:prstGeom prst="rect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660920" y="3657600"/>
              <a:ext cx="3276720" cy="1638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86868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627520" y="5356080"/>
              <a:ext cx="12834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trengt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714920" y="3762360"/>
              <a:ext cx="2400120" cy="1542960"/>
            </a:xfrm>
            <a:custGeom>
              <a:avLst/>
              <a:gdLst/>
              <a:ahLst/>
              <a:rect l="l" t="t" r="r" b="b"/>
              <a:pathLst>
                <a:path w="1512" h="972">
                  <a:moveTo>
                    <a:pt x="0" y="969"/>
                  </a:moveTo>
                  <a:cubicBezTo>
                    <a:pt x="24" y="969"/>
                    <a:pt x="97" y="972"/>
                    <a:pt x="147" y="966"/>
                  </a:cubicBezTo>
                  <a:cubicBezTo>
                    <a:pt x="197" y="960"/>
                    <a:pt x="259" y="955"/>
                    <a:pt x="300" y="933"/>
                  </a:cubicBezTo>
                  <a:cubicBezTo>
                    <a:pt x="341" y="911"/>
                    <a:pt x="358" y="889"/>
                    <a:pt x="393" y="831"/>
                  </a:cubicBezTo>
                  <a:cubicBezTo>
                    <a:pt x="428" y="773"/>
                    <a:pt x="462" y="707"/>
                    <a:pt x="510" y="585"/>
                  </a:cubicBezTo>
                  <a:cubicBezTo>
                    <a:pt x="558" y="463"/>
                    <a:pt x="648" y="193"/>
                    <a:pt x="684" y="99"/>
                  </a:cubicBezTo>
                  <a:cubicBezTo>
                    <a:pt x="720" y="5"/>
                    <a:pt x="713" y="37"/>
                    <a:pt x="726" y="21"/>
                  </a:cubicBezTo>
                  <a:cubicBezTo>
                    <a:pt x="739" y="5"/>
                    <a:pt x="751" y="0"/>
                    <a:pt x="765" y="3"/>
                  </a:cubicBezTo>
                  <a:cubicBezTo>
                    <a:pt x="779" y="6"/>
                    <a:pt x="790" y="9"/>
                    <a:pt x="810" y="39"/>
                  </a:cubicBezTo>
                  <a:cubicBezTo>
                    <a:pt x="830" y="69"/>
                    <a:pt x="858" y="113"/>
                    <a:pt x="888" y="183"/>
                  </a:cubicBezTo>
                  <a:cubicBezTo>
                    <a:pt x="918" y="253"/>
                    <a:pt x="956" y="365"/>
                    <a:pt x="993" y="462"/>
                  </a:cubicBezTo>
                  <a:cubicBezTo>
                    <a:pt x="1030" y="559"/>
                    <a:pt x="1075" y="692"/>
                    <a:pt x="1113" y="765"/>
                  </a:cubicBezTo>
                  <a:cubicBezTo>
                    <a:pt x="1151" y="838"/>
                    <a:pt x="1190" y="869"/>
                    <a:pt x="1224" y="900"/>
                  </a:cubicBezTo>
                  <a:cubicBezTo>
                    <a:pt x="1258" y="931"/>
                    <a:pt x="1285" y="944"/>
                    <a:pt x="1320" y="954"/>
                  </a:cubicBezTo>
                  <a:cubicBezTo>
                    <a:pt x="1355" y="964"/>
                    <a:pt x="1402" y="962"/>
                    <a:pt x="1434" y="963"/>
                  </a:cubicBezTo>
                  <a:cubicBezTo>
                    <a:pt x="1466" y="964"/>
                    <a:pt x="1489" y="963"/>
                    <a:pt x="1512" y="963"/>
                  </a:cubicBezTo>
                </a:path>
              </a:pathLst>
            </a:custGeom>
            <a:noFill/>
            <a:ln w="2844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472000" y="3762360"/>
              <a:ext cx="2400480" cy="1542960"/>
            </a:xfrm>
            <a:custGeom>
              <a:avLst/>
              <a:gdLst/>
              <a:ahLst/>
              <a:rect l="l" t="t" r="r" b="b"/>
              <a:pathLst>
                <a:path w="1512" h="972">
                  <a:moveTo>
                    <a:pt x="0" y="969"/>
                  </a:moveTo>
                  <a:cubicBezTo>
                    <a:pt x="24" y="969"/>
                    <a:pt x="97" y="972"/>
                    <a:pt x="147" y="966"/>
                  </a:cubicBezTo>
                  <a:cubicBezTo>
                    <a:pt x="197" y="960"/>
                    <a:pt x="259" y="955"/>
                    <a:pt x="300" y="933"/>
                  </a:cubicBezTo>
                  <a:cubicBezTo>
                    <a:pt x="341" y="911"/>
                    <a:pt x="358" y="889"/>
                    <a:pt x="393" y="831"/>
                  </a:cubicBezTo>
                  <a:cubicBezTo>
                    <a:pt x="428" y="773"/>
                    <a:pt x="462" y="707"/>
                    <a:pt x="510" y="585"/>
                  </a:cubicBezTo>
                  <a:cubicBezTo>
                    <a:pt x="558" y="463"/>
                    <a:pt x="648" y="193"/>
                    <a:pt x="684" y="99"/>
                  </a:cubicBezTo>
                  <a:cubicBezTo>
                    <a:pt x="720" y="5"/>
                    <a:pt x="713" y="37"/>
                    <a:pt x="726" y="21"/>
                  </a:cubicBezTo>
                  <a:cubicBezTo>
                    <a:pt x="739" y="5"/>
                    <a:pt x="751" y="0"/>
                    <a:pt x="765" y="3"/>
                  </a:cubicBezTo>
                  <a:cubicBezTo>
                    <a:pt x="779" y="6"/>
                    <a:pt x="790" y="9"/>
                    <a:pt x="810" y="39"/>
                  </a:cubicBezTo>
                  <a:cubicBezTo>
                    <a:pt x="830" y="69"/>
                    <a:pt x="858" y="113"/>
                    <a:pt x="888" y="183"/>
                  </a:cubicBezTo>
                  <a:cubicBezTo>
                    <a:pt x="918" y="253"/>
                    <a:pt x="956" y="365"/>
                    <a:pt x="993" y="462"/>
                  </a:cubicBezTo>
                  <a:cubicBezTo>
                    <a:pt x="1030" y="559"/>
                    <a:pt x="1075" y="692"/>
                    <a:pt x="1113" y="765"/>
                  </a:cubicBezTo>
                  <a:cubicBezTo>
                    <a:pt x="1151" y="838"/>
                    <a:pt x="1190" y="869"/>
                    <a:pt x="1224" y="900"/>
                  </a:cubicBezTo>
                  <a:cubicBezTo>
                    <a:pt x="1258" y="931"/>
                    <a:pt x="1285" y="944"/>
                    <a:pt x="1320" y="954"/>
                  </a:cubicBezTo>
                  <a:cubicBezTo>
                    <a:pt x="1355" y="964"/>
                    <a:pt x="1402" y="962"/>
                    <a:pt x="1434" y="963"/>
                  </a:cubicBezTo>
                  <a:cubicBezTo>
                    <a:pt x="1466" y="964"/>
                    <a:pt x="1489" y="963"/>
                    <a:pt x="1512" y="963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8" name=""/>
            <p:cNvGrpSpPr/>
            <p:nvPr/>
          </p:nvGrpSpPr>
          <p:grpSpPr>
            <a:xfrm>
              <a:off x="5829480" y="3162240"/>
              <a:ext cx="352080" cy="152640"/>
              <a:chOff x="5829480" y="3162240"/>
              <a:chExt cx="352080" cy="152640"/>
            </a:xfrm>
          </p:grpSpPr>
          <p:sp>
            <p:nvSpPr>
              <p:cNvPr id="229" name=""/>
              <p:cNvSpPr/>
              <p:nvPr/>
            </p:nvSpPr>
            <p:spPr>
              <a:xfrm>
                <a:off x="5829480" y="3238560"/>
                <a:ext cx="352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6178680" y="3162240"/>
                <a:ext cx="0" cy="152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1" name=""/>
            <p:cNvSpPr/>
            <p:nvPr/>
          </p:nvSpPr>
          <p:spPr>
            <a:xfrm>
              <a:off x="4648320" y="3022560"/>
              <a:ext cx="1282680" cy="43200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2" name=""/>
            <p:cNvGrpSpPr/>
            <p:nvPr/>
          </p:nvGrpSpPr>
          <p:grpSpPr>
            <a:xfrm>
              <a:off x="6578640" y="2577960"/>
              <a:ext cx="352440" cy="152640"/>
              <a:chOff x="6578640" y="2577960"/>
              <a:chExt cx="352440" cy="152640"/>
            </a:xfrm>
          </p:grpSpPr>
          <p:sp>
            <p:nvSpPr>
              <p:cNvPr id="233" name=""/>
              <p:cNvSpPr/>
              <p:nvPr/>
            </p:nvSpPr>
            <p:spPr>
              <a:xfrm>
                <a:off x="6578640" y="2654280"/>
                <a:ext cx="3524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6928200" y="2577960"/>
                <a:ext cx="0" cy="152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5" name=""/>
            <p:cNvSpPr/>
            <p:nvPr/>
          </p:nvSpPr>
          <p:spPr>
            <a:xfrm>
              <a:off x="4648320" y="2438280"/>
              <a:ext cx="2031840" cy="4320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648320" y="5305320"/>
              <a:ext cx="3286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572000" y="2451240"/>
              <a:ext cx="304920" cy="41580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740120" y="2438280"/>
              <a:ext cx="1222200" cy="4240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female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572000" y="3032280"/>
              <a:ext cx="304920" cy="419040"/>
            </a:xfrm>
            <a:prstGeom prst="rect">
              <a:avLst/>
            </a:prstGeom>
            <a:gradFill rotWithShape="0">
              <a:gsLst>
                <a:gs pos="0">
                  <a:srgbClr val="0099ff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740120" y="3009960"/>
              <a:ext cx="973800" cy="4240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male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416480" y="1752480"/>
              <a:ext cx="22114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</a:rPr>
                <a:t>Very large effect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304920" y="75960"/>
            <a:ext cx="8610480" cy="655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82800" bIns="46800" anchor="t">
            <a:normAutofit/>
          </a:bodyPr>
          <a:p>
            <a:pPr lvl="1" marL="743040" indent="-285840">
              <a:spcBef>
                <a:spcPts val="326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Fraction or multiple of a standard deviation is known as th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600" spc="-1" strike="noStrike">
                <a:solidFill>
                  <a:srgbClr val="cc0066"/>
                </a:solidFill>
                <a:latin typeface="Arial Narrow"/>
              </a:rPr>
              <a:t>effect-size statistic</a:t>
            </a: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 (or Cohen's "d").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326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Cohen suggested </a:t>
            </a:r>
            <a:r>
              <a:rPr b="0" lang="en-US" sz="2600" spc="-1" strike="noStrike">
                <a:solidFill>
                  <a:srgbClr val="cc0066"/>
                </a:solidFill>
                <a:latin typeface="Arial Narrow"/>
              </a:rPr>
              <a:t>thresholds</a:t>
            </a: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 for correlations and effect sizes.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326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Hopkins agrees with the thresholds for correlations but suggests others for the effect size: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243" name=""/>
          <p:cNvGrpSpPr/>
          <p:nvPr/>
        </p:nvGrpSpPr>
        <p:grpSpPr>
          <a:xfrm>
            <a:off x="381240" y="2362320"/>
            <a:ext cx="8382240" cy="1756800"/>
            <a:chOff x="381240" y="2362320"/>
            <a:chExt cx="8382240" cy="1756800"/>
          </a:xfrm>
        </p:grpSpPr>
        <p:sp>
          <p:nvSpPr>
            <p:cNvPr id="244" name=""/>
            <p:cNvSpPr/>
            <p:nvPr/>
          </p:nvSpPr>
          <p:spPr>
            <a:xfrm>
              <a:off x="838080" y="3674880"/>
              <a:ext cx="373320" cy="444240"/>
            </a:xfrm>
            <a:prstGeom prst="rect">
              <a:avLst/>
            </a:prstGeom>
            <a:solidFill>
              <a:srgbClr val="00dfc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116000" y="3674880"/>
              <a:ext cx="1374840" cy="444240"/>
            </a:xfrm>
            <a:prstGeom prst="rect">
              <a:avLst/>
            </a:prstGeom>
            <a:solidFill>
              <a:srgbClr val="00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419120" y="3684240"/>
              <a:ext cx="790920" cy="4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 Narrow"/>
                </a:rPr>
                <a:t>trivia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490840" y="3674880"/>
              <a:ext cx="1373040" cy="444240"/>
            </a:xfrm>
            <a:prstGeom prst="rect">
              <a:avLst/>
            </a:prstGeom>
            <a:solidFill>
              <a:srgbClr val="00dfc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795760" y="3684240"/>
              <a:ext cx="765000" cy="4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 Narrow"/>
                </a:rPr>
                <a:t>sm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852720" y="3674880"/>
              <a:ext cx="1373400" cy="444240"/>
            </a:xfrm>
            <a:prstGeom prst="rect">
              <a:avLst/>
            </a:prstGeom>
            <a:solidFill>
              <a:srgbClr val="7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934440" y="3684240"/>
              <a:ext cx="1208520" cy="4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 Narrow"/>
                </a:rPr>
                <a:t>moderate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214960" y="3674880"/>
              <a:ext cx="1374840" cy="4442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537160" y="3684240"/>
              <a:ext cx="727200" cy="4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 Narrow"/>
                </a:rPr>
                <a:t>large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576840" y="3674880"/>
              <a:ext cx="1374840" cy="444240"/>
            </a:xfrm>
            <a:prstGeom prst="rect">
              <a:avLst/>
            </a:prstGeom>
            <a:solidFill>
              <a:srgbClr val="fe9b0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634800" y="3684240"/>
              <a:ext cx="1258920" cy="4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 Narrow"/>
                </a:rPr>
                <a:t>very large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939080" y="3674880"/>
              <a:ext cx="669960" cy="444240"/>
            </a:xfrm>
            <a:prstGeom prst="rect">
              <a:avLst/>
            </a:prstGeom>
            <a:solidFill>
              <a:srgbClr val="fc012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105760" y="3684240"/>
              <a:ext cx="410040" cy="4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 Narrow"/>
                </a:rPr>
                <a:t>!!!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225160" y="3073320"/>
              <a:ext cx="558000" cy="48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d60093"/>
                  </a:solidFill>
                  <a:latin typeface="Arial Narrow"/>
                </a:rPr>
                <a:t>0.1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566880" y="3073320"/>
              <a:ext cx="558000" cy="48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d60093"/>
                  </a:solidFill>
                  <a:latin typeface="Arial Narrow"/>
                </a:rPr>
                <a:t>0.3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927320" y="3073320"/>
              <a:ext cx="558000" cy="48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d60093"/>
                  </a:solidFill>
                  <a:latin typeface="Arial Narrow"/>
                </a:rPr>
                <a:t>0.5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287760" y="3073320"/>
              <a:ext cx="558000" cy="48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d60093"/>
                  </a:solidFill>
                  <a:latin typeface="Arial Narrow"/>
                </a:rPr>
                <a:t>0.7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639800" y="3073320"/>
              <a:ext cx="332280" cy="48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d60093"/>
                  </a:solidFill>
                  <a:latin typeface="Arial Narrow"/>
                </a:rPr>
                <a:t>0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648200" y="3073320"/>
              <a:ext cx="558000" cy="48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d60093"/>
                  </a:solidFill>
                  <a:latin typeface="Arial Narrow"/>
                </a:rPr>
                <a:t>0.9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8431200" y="3073320"/>
              <a:ext cx="332280" cy="48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d60093"/>
                  </a:solidFill>
                  <a:latin typeface="Arial Narrow"/>
                </a:rPr>
                <a:t>1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14720" y="3071520"/>
              <a:ext cx="1235880" cy="48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d60093"/>
                  </a:solidFill>
                  <a:latin typeface="Arial Narrow"/>
                </a:rPr>
                <a:t>Hopkins: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81240" y="2362320"/>
              <a:ext cx="16534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</a:rPr>
                <a:t>Correlation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95080" y="2750760"/>
              <a:ext cx="1054800" cy="48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33cc"/>
                  </a:solidFill>
                  <a:latin typeface="Arial Narrow"/>
                </a:rPr>
                <a:t>Cohen: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226960" y="2750760"/>
              <a:ext cx="558000" cy="48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33cc"/>
                  </a:solidFill>
                  <a:latin typeface="Arial Narrow"/>
                </a:rPr>
                <a:t>0.1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568320" y="2750760"/>
              <a:ext cx="558000" cy="48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33cc"/>
                  </a:solidFill>
                  <a:latin typeface="Arial Narrow"/>
                </a:rPr>
                <a:t>0.3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928760" y="2750760"/>
              <a:ext cx="558000" cy="48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33cc"/>
                  </a:solidFill>
                  <a:latin typeface="Arial Narrow"/>
                </a:rPr>
                <a:t>0.5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641240" y="2750760"/>
              <a:ext cx="332280" cy="48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33cc"/>
                  </a:solidFill>
                  <a:latin typeface="Arial Narrow"/>
                </a:rPr>
                <a:t>0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966960" y="3555720"/>
              <a:ext cx="76546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1812960" y="3497040"/>
              <a:ext cx="0" cy="58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2492280" y="3497040"/>
              <a:ext cx="0" cy="58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3854520" y="3497040"/>
              <a:ext cx="0" cy="58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5214960" y="3497040"/>
              <a:ext cx="0" cy="58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6575400" y="3497040"/>
              <a:ext cx="0" cy="58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flipV="1">
              <a:off x="7937640" y="3497040"/>
              <a:ext cx="0" cy="58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flipV="1">
              <a:off x="8618400" y="3497040"/>
              <a:ext cx="0" cy="58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41440" y="3674880"/>
              <a:ext cx="372960" cy="444240"/>
            </a:xfrm>
            <a:prstGeom prst="rect">
              <a:avLst/>
            </a:prstGeom>
            <a:gradFill rotWithShape="0">
              <a:gsLst>
                <a:gs pos="0">
                  <a:srgbClr val="00dfca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0" name=""/>
          <p:cNvGrpSpPr/>
          <p:nvPr/>
        </p:nvGrpSpPr>
        <p:grpSpPr>
          <a:xfrm>
            <a:off x="381240" y="4232160"/>
            <a:ext cx="8390160" cy="1234080"/>
            <a:chOff x="381240" y="4232160"/>
            <a:chExt cx="8390160" cy="1234080"/>
          </a:xfrm>
        </p:grpSpPr>
        <p:sp>
          <p:nvSpPr>
            <p:cNvPr id="281" name=""/>
            <p:cNvSpPr/>
            <p:nvPr/>
          </p:nvSpPr>
          <p:spPr>
            <a:xfrm>
              <a:off x="961920" y="4232160"/>
              <a:ext cx="7655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808280" y="4232160"/>
              <a:ext cx="0" cy="58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487600" y="4232160"/>
              <a:ext cx="0" cy="58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3849840" y="4232160"/>
              <a:ext cx="0" cy="58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210280" y="4232160"/>
              <a:ext cx="0" cy="58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570720" y="4232160"/>
              <a:ext cx="0" cy="58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932600" y="4232160"/>
              <a:ext cx="0" cy="58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8613720" y="4232160"/>
              <a:ext cx="0" cy="58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9" name=""/>
            <p:cNvGrpSpPr/>
            <p:nvPr/>
          </p:nvGrpSpPr>
          <p:grpSpPr>
            <a:xfrm>
              <a:off x="381240" y="4316040"/>
              <a:ext cx="8390160" cy="1150200"/>
              <a:chOff x="381240" y="4316040"/>
              <a:chExt cx="8390160" cy="1150200"/>
            </a:xfrm>
          </p:grpSpPr>
          <p:sp>
            <p:nvSpPr>
              <p:cNvPr id="290" name=""/>
              <p:cNvSpPr/>
              <p:nvPr/>
            </p:nvSpPr>
            <p:spPr>
              <a:xfrm>
                <a:off x="2214360" y="4981320"/>
                <a:ext cx="558000" cy="48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600" spc="-1" strike="noStrike">
                    <a:solidFill>
                      <a:srgbClr val="d60093"/>
                    </a:solidFill>
                    <a:latin typeface="Arial Narrow"/>
                  </a:rPr>
                  <a:t>0.2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414720" y="4981320"/>
                <a:ext cx="1235880" cy="48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600" spc="-1" strike="noStrike">
                    <a:solidFill>
                      <a:srgbClr val="d60093"/>
                    </a:solidFill>
                    <a:latin typeface="Arial Narrow"/>
                  </a:rPr>
                  <a:t>Hopkins: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3555720" y="4981320"/>
                <a:ext cx="558000" cy="48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600" spc="-1" strike="noStrike">
                    <a:solidFill>
                      <a:srgbClr val="d60093"/>
                    </a:solidFill>
                    <a:latin typeface="Arial Narrow"/>
                  </a:rPr>
                  <a:t>0.6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4916160" y="4981320"/>
                <a:ext cx="558000" cy="48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600" spc="-1" strike="noStrike">
                    <a:solidFill>
                      <a:srgbClr val="d60093"/>
                    </a:solidFill>
                    <a:latin typeface="Arial Narrow"/>
                  </a:rPr>
                  <a:t>1.2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6287760" y="4981320"/>
                <a:ext cx="558000" cy="48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600" spc="-1" strike="noStrike">
                    <a:solidFill>
                      <a:srgbClr val="d60093"/>
                    </a:solidFill>
                    <a:latin typeface="Arial Narrow"/>
                  </a:rPr>
                  <a:t>2.0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1628640" y="4981320"/>
                <a:ext cx="332280" cy="48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600" spc="-1" strike="noStrike">
                    <a:solidFill>
                      <a:srgbClr val="d60093"/>
                    </a:solidFill>
                    <a:latin typeface="Arial Narrow"/>
                  </a:rPr>
                  <a:t>0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7648200" y="4981320"/>
                <a:ext cx="558000" cy="48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600" spc="-1" strike="noStrike">
                    <a:solidFill>
                      <a:srgbClr val="d60093"/>
                    </a:solidFill>
                    <a:latin typeface="Arial Narrow"/>
                  </a:rPr>
                  <a:t>4.0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8283600" y="4889160"/>
                <a:ext cx="487800" cy="57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d60093"/>
                    </a:solidFill>
                    <a:latin typeface="Symbol"/>
                    <a:ea typeface="Symbol"/>
                  </a:rPr>
                  <a:t>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381240" y="4316040"/>
                <a:ext cx="158508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 Narrow"/>
                  </a:rPr>
                  <a:t>Effect Size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2214360" y="4643280"/>
                <a:ext cx="558000" cy="48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600" spc="-1" strike="noStrike">
                    <a:solidFill>
                      <a:srgbClr val="0033cc"/>
                    </a:solidFill>
                    <a:latin typeface="Arial Narrow"/>
                  </a:rPr>
                  <a:t>0.2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95080" y="4643280"/>
                <a:ext cx="1054800" cy="48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600" spc="-1" strike="noStrike">
                    <a:solidFill>
                      <a:srgbClr val="0033cc"/>
                    </a:solidFill>
                    <a:latin typeface="Arial Narrow"/>
                  </a:rPr>
                  <a:t>Cohen: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3555720" y="4643280"/>
                <a:ext cx="558000" cy="48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600" spc="-1" strike="noStrike">
                    <a:solidFill>
                      <a:srgbClr val="0033cc"/>
                    </a:solidFill>
                    <a:latin typeface="Arial Narrow"/>
                  </a:rPr>
                  <a:t>0.5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4916160" y="4643280"/>
                <a:ext cx="558000" cy="48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600" spc="-1" strike="noStrike">
                    <a:solidFill>
                      <a:srgbClr val="0033cc"/>
                    </a:solidFill>
                    <a:latin typeface="Arial Narrow"/>
                  </a:rPr>
                  <a:t>0.8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628640" y="4643280"/>
                <a:ext cx="332280" cy="48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600" spc="-1" strike="noStrike">
                    <a:solidFill>
                      <a:srgbClr val="0033cc"/>
                    </a:solidFill>
                    <a:latin typeface="Arial Narrow"/>
                  </a:rPr>
                  <a:t>0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04" name=""/>
          <p:cNvSpPr/>
          <p:nvPr/>
        </p:nvSpPr>
        <p:spPr>
          <a:xfrm>
            <a:off x="317520" y="563868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For studies of athletic performance, percent differences or changes in the mean are better than Cohen effect size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/>
          </p:nvPr>
        </p:nvSpPr>
        <p:spPr>
          <a:xfrm>
            <a:off x="228600" y="304920"/>
            <a:ext cx="8686800" cy="6324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82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505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Model: </a:t>
            </a:r>
            <a:r>
              <a:rPr b="0" lang="en-US" sz="2800" spc="-1" strike="noStrike">
                <a:solidFill>
                  <a:srgbClr val="0066ff"/>
                </a:solidFill>
                <a:latin typeface="Arial Narrow"/>
              </a:rPr>
              <a:t>numeric vs nominal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           (repeated measures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e.g. strength vs tria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326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Model or test: 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150"/>
              </a:spcBef>
              <a:buClr>
                <a:srgbClr val="cc0066"/>
              </a:buClr>
              <a:buSzPct val="120000"/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0066"/>
                </a:solidFill>
                <a:latin typeface="Arial Narrow"/>
              </a:rPr>
              <a:t>paired t test</a:t>
            </a:r>
            <a:r>
              <a:rPr b="0" lang="en-US" sz="2500" spc="-1" strike="noStrike">
                <a:solidFill>
                  <a:srgbClr val="000000"/>
                </a:solidFill>
                <a:latin typeface="Arial Narrow"/>
              </a:rPr>
              <a:t> (2 trials)</a:t>
            </a:r>
            <a:endParaRPr b="0" lang="en-US" sz="25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150"/>
              </a:spcBef>
              <a:buClr>
                <a:srgbClr val="cc0066"/>
              </a:buClr>
              <a:buSzPct val="120000"/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0066"/>
                </a:solidFill>
                <a:latin typeface="Arial Narrow"/>
              </a:rPr>
              <a:t>repeated-measures ANOVA</a:t>
            </a:r>
            <a:r>
              <a:rPr b="0" lang="en-US" sz="2500" spc="-1" strike="noStrike">
                <a:solidFill>
                  <a:srgbClr val="000000"/>
                </a:solidFill>
                <a:latin typeface="Arial Narrow"/>
              </a:rPr>
              <a:t> with</a:t>
            </a: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Arial Narrow"/>
              </a:rPr>
              <a:t>one within-subject factor (&gt;2 trials)</a:t>
            </a:r>
            <a:endParaRPr b="0" lang="en-US" sz="25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326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Effect statistics: 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150"/>
              </a:spcBef>
              <a:buClr>
                <a:srgbClr val="cc0066"/>
              </a:buClr>
              <a:buSzPct val="120000"/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0066"/>
                </a:solidFill>
                <a:latin typeface="Arial Narrow"/>
              </a:rPr>
              <a:t>change in mean</a:t>
            </a:r>
            <a:r>
              <a:rPr b="0" lang="en-US" sz="2500" spc="-1" strike="noStrike">
                <a:solidFill>
                  <a:srgbClr val="000000"/>
                </a:solidFill>
                <a:latin typeface="Arial Narrow"/>
              </a:rPr>
              <a:t> expressed as raw change, percent change, or fraction of the pre standard deviation </a:t>
            </a:r>
            <a:endParaRPr b="0" lang="en-US" sz="25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326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Other statistics: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150"/>
              </a:spcBef>
              <a:buClr>
                <a:srgbClr val="cc0066"/>
              </a:buClr>
              <a:buSzPct val="120000"/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0066"/>
                </a:solidFill>
                <a:latin typeface="Arial Narrow"/>
              </a:rPr>
              <a:t>within-subject standard deviation</a:t>
            </a:r>
            <a:r>
              <a:rPr b="0" lang="en-US" sz="2500" spc="-1" strike="noStrike">
                <a:solidFill>
                  <a:srgbClr val="000000"/>
                </a:solidFill>
                <a:latin typeface="Arial Narrow"/>
              </a:rPr>
              <a:t> (not visible on above plot)</a:t>
            </a:r>
            <a:endParaRPr b="0" lang="en-US" sz="25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0">
              <a:spcBef>
                <a:spcPts val="1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0" lang="en-US" sz="2500" spc="-1" strike="noStrike">
                <a:solidFill>
                  <a:srgbClr val="000000"/>
                </a:solidFill>
                <a:latin typeface="Arial Narrow"/>
              </a:rPr>
              <a:t>= ty</a:t>
            </a:r>
            <a:r>
              <a:rPr b="0" lang="en-AU" sz="2500" spc="-1" strike="noStrike">
                <a:solidFill>
                  <a:srgbClr val="000000"/>
                </a:solidFill>
                <a:latin typeface="Arial Narrow"/>
              </a:rPr>
              <a:t>pical</a:t>
            </a:r>
            <a:r>
              <a:rPr b="0" lang="en-US" sz="2500" spc="-1" strike="noStrike">
                <a:solidFill>
                  <a:srgbClr val="000000"/>
                </a:solidFill>
                <a:latin typeface="Arial Narrow"/>
              </a:rPr>
              <a:t> erro</a:t>
            </a:r>
            <a:r>
              <a:rPr b="0" lang="en-AU" sz="2500" spc="-1" strike="noStrike">
                <a:solidFill>
                  <a:srgbClr val="000000"/>
                </a:solidFill>
                <a:latin typeface="Arial Narrow"/>
              </a:rPr>
              <a:t>r: </a:t>
            </a:r>
            <a:r>
              <a:rPr b="0" lang="en-US" sz="2500" spc="-1" strike="noStrike">
                <a:solidFill>
                  <a:srgbClr val="000000"/>
                </a:solidFill>
                <a:latin typeface="Arial Narrow"/>
              </a:rPr>
              <a:t>conve</a:t>
            </a:r>
            <a:r>
              <a:rPr b="0" lang="en-AU" sz="2500" spc="-1" strike="noStrike">
                <a:solidFill>
                  <a:srgbClr val="000000"/>
                </a:solidFill>
                <a:latin typeface="Arial Narrow"/>
              </a:rPr>
              <a:t>ys error of measurement</a:t>
            </a:r>
            <a:endParaRPr b="0" lang="en-US" sz="25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-228600">
              <a:spcBef>
                <a:spcPts val="150"/>
              </a:spcBef>
              <a:buClr>
                <a:srgbClr val="000000"/>
              </a:buClr>
              <a:buFont typeface="Arial Narro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 Narrow"/>
              </a:rPr>
              <a:t>useful to gauge reliability, individual responses, and magnitude of effects (for measures of athletic performance)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6" name=""/>
          <p:cNvSpPr/>
          <p:nvPr/>
        </p:nvSpPr>
        <p:spPr>
          <a:xfrm>
            <a:off x="5816520" y="533520"/>
            <a:ext cx="2895840" cy="274320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7342200" y="703440"/>
            <a:ext cx="1168560" cy="1697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263000" y="2487600"/>
            <a:ext cx="51048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p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8050320" y="2487600"/>
            <a:ext cx="61272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pos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7348680" y="2470320"/>
            <a:ext cx="1171440" cy="74160"/>
            <a:chOff x="7348680" y="2470320"/>
            <a:chExt cx="1171440" cy="74160"/>
          </a:xfrm>
        </p:grpSpPr>
        <p:sp>
          <p:nvSpPr>
            <p:cNvPr id="311" name=""/>
            <p:cNvSpPr/>
            <p:nvPr/>
          </p:nvSpPr>
          <p:spPr>
            <a:xfrm>
              <a:off x="7348680" y="2478600"/>
              <a:ext cx="1171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 flipV="1">
              <a:off x="7510320" y="2470320"/>
              <a:ext cx="0" cy="74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flipV="1">
              <a:off x="8348400" y="2470320"/>
              <a:ext cx="0" cy="74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4" name=""/>
          <p:cNvSpPr/>
          <p:nvPr/>
        </p:nvSpPr>
        <p:spPr>
          <a:xfrm flipV="1">
            <a:off x="7518240" y="1300320"/>
            <a:ext cx="825840" cy="5140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5" name=""/>
          <p:cNvGrpSpPr/>
          <p:nvPr/>
        </p:nvGrpSpPr>
        <p:grpSpPr>
          <a:xfrm>
            <a:off x="7458120" y="1479240"/>
            <a:ext cx="98280" cy="352440"/>
            <a:chOff x="7458120" y="1479240"/>
            <a:chExt cx="98280" cy="352440"/>
          </a:xfrm>
        </p:grpSpPr>
        <p:sp>
          <p:nvSpPr>
            <p:cNvPr id="316" name=""/>
            <p:cNvSpPr/>
            <p:nvPr/>
          </p:nvSpPr>
          <p:spPr>
            <a:xfrm flipV="1">
              <a:off x="7507080" y="1479240"/>
              <a:ext cx="0" cy="352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458120" y="1479600"/>
              <a:ext cx="9828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8" name=""/>
          <p:cNvGrpSpPr/>
          <p:nvPr/>
        </p:nvGrpSpPr>
        <p:grpSpPr>
          <a:xfrm>
            <a:off x="8292960" y="799920"/>
            <a:ext cx="106560" cy="431640"/>
            <a:chOff x="8292960" y="799920"/>
            <a:chExt cx="106560" cy="431640"/>
          </a:xfrm>
        </p:grpSpPr>
        <p:sp>
          <p:nvSpPr>
            <p:cNvPr id="319" name=""/>
            <p:cNvSpPr/>
            <p:nvPr/>
          </p:nvSpPr>
          <p:spPr>
            <a:xfrm flipV="1">
              <a:off x="8345520" y="799920"/>
              <a:ext cx="0" cy="4316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8292960" y="800280"/>
              <a:ext cx="10656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1" name=""/>
          <p:cNvSpPr/>
          <p:nvPr/>
        </p:nvSpPr>
        <p:spPr>
          <a:xfrm>
            <a:off x="8255160" y="1227240"/>
            <a:ext cx="180720" cy="1746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7416720" y="1724040"/>
            <a:ext cx="181080" cy="1746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121440" y="1371600"/>
            <a:ext cx="80640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798"/>
              </a:lnSpc>
              <a:tabLst>
                <a:tab algn="l" pos="0"/>
                <a:tab algn="l" pos="355680"/>
                <a:tab algn="l" pos="711360"/>
                <a:tab algn="l" pos="107964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treng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4" name=""/>
          <p:cNvGrpSpPr/>
          <p:nvPr/>
        </p:nvGrpSpPr>
        <p:grpSpPr>
          <a:xfrm>
            <a:off x="7182000" y="685440"/>
            <a:ext cx="80640" cy="1703160"/>
            <a:chOff x="7182000" y="685440"/>
            <a:chExt cx="80640" cy="1703160"/>
          </a:xfrm>
        </p:grpSpPr>
        <p:sp>
          <p:nvSpPr>
            <p:cNvPr id="325" name=""/>
            <p:cNvSpPr/>
            <p:nvPr/>
          </p:nvSpPr>
          <p:spPr>
            <a:xfrm flipH="1">
              <a:off x="7182000" y="2279520"/>
              <a:ext cx="80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H="1">
              <a:off x="7182000" y="1949400"/>
              <a:ext cx="80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>
              <a:off x="7182000" y="1601640"/>
              <a:ext cx="80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 flipH="1">
              <a:off x="7182000" y="1271520"/>
              <a:ext cx="80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>
              <a:off x="7182000" y="923760"/>
              <a:ext cx="80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flipV="1">
              <a:off x="7262640" y="685440"/>
              <a:ext cx="0" cy="1703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1" name=""/>
          <p:cNvSpPr/>
          <p:nvPr/>
        </p:nvSpPr>
        <p:spPr>
          <a:xfrm>
            <a:off x="7596360" y="2776680"/>
            <a:ext cx="5839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2" name=""/>
          <p:cNvGrpSpPr/>
          <p:nvPr/>
        </p:nvGrpSpPr>
        <p:grpSpPr>
          <a:xfrm>
            <a:off x="7458120" y="1822320"/>
            <a:ext cx="98280" cy="352440"/>
            <a:chOff x="7458120" y="1822320"/>
            <a:chExt cx="98280" cy="352440"/>
          </a:xfrm>
        </p:grpSpPr>
        <p:sp>
          <p:nvSpPr>
            <p:cNvPr id="333" name=""/>
            <p:cNvSpPr/>
            <p:nvPr/>
          </p:nvSpPr>
          <p:spPr>
            <a:xfrm>
              <a:off x="7507080" y="1822320"/>
              <a:ext cx="0" cy="352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7458120" y="2174400"/>
              <a:ext cx="9828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5" name=""/>
          <p:cNvGrpSpPr/>
          <p:nvPr/>
        </p:nvGrpSpPr>
        <p:grpSpPr>
          <a:xfrm>
            <a:off x="8292960" y="1363680"/>
            <a:ext cx="106560" cy="431640"/>
            <a:chOff x="8292960" y="1363680"/>
            <a:chExt cx="106560" cy="431640"/>
          </a:xfrm>
        </p:grpSpPr>
        <p:sp>
          <p:nvSpPr>
            <p:cNvPr id="336" name=""/>
            <p:cNvSpPr/>
            <p:nvPr/>
          </p:nvSpPr>
          <p:spPr>
            <a:xfrm>
              <a:off x="8345520" y="1363680"/>
              <a:ext cx="0" cy="4316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8292960" y="1794960"/>
              <a:ext cx="10656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9:26:03Z</dcterms:created>
  <dc:creator>Will Hopkins</dc:creator>
  <dc:description/>
  <dc:language>en-US</dc:language>
  <cp:lastModifiedBy>Reviewer Q</cp:lastModifiedBy>
  <cp:lastPrinted>2001-02-09T23:28:35Z</cp:lastPrinted>
  <dcterms:modified xsi:type="dcterms:W3CDTF">2002-10-27T20:44:50Z</dcterms:modified>
  <cp:revision>75</cp:revision>
  <dc:subject/>
  <dc:title>Quantitative data analysis</dc:title>
</cp:coreProperties>
</file>