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BEB-2BB8-4C98-AC50-F8507BB0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D9C-AA4D-4EE5-A1CB-89500E04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9A1-6733-41B1-9A82-5D2DCF4B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DB4-3BA7-408F-8B57-1A9D9926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9A2-758A-4CB8-96E2-34F0EFD7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136-2EC6-4DBC-85E6-360E458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028-2A97-45B3-A1CB-392EE1D7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A140-F5D9-43EB-B9D5-8EEFF247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C04-8F49-4E62-81FE-48708C58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8267-D3BF-46C7-9678-236BBEB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CA2-E8EC-40D2-BD0A-88515BF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63F-ECBB-46B2-9390-B04582AD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3784-BC76-4EF4-8DD6-18E6866E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8CA-7172-4831-835A-F42DB9E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0231-E550-4CE9-9C4B-411B7E1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8E46-2CF2-41E1-9CC3-A23DC7E9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3AF-31B0-4ABA-ADD1-97CED30B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751-8116-4C87-B741-D983C4E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2EC-D8AD-468C-8F17-D4DD4D8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789-38AF-4365-BFD4-C1F51664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C5E-8425-4BAD-9B1A-4B82867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B7C-7582-40CB-A883-CF0C034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D77-CA59-4EDA-80D0-646CCA9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CB7-E796-4D7D-B1B6-331AFCF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814-B251-45A3-ADE0-C6D28B1D611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866-4595-4470-9A7D-877EE5000FA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E6A-5ADC-4F0F-9022-A10C8ABC080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E648-5C12-41CD-94F8-9DC54D4B5CBE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PERKEMBANGAN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ALAM MANAJEMEN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555-0676-46DD-8EA7-3FFD7105E6D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0F0A5E-B55B-4360-BD69-AB29F09990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AMORGANI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42B-4BB9-4D93-816F-20B27066F1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D91E1-9918-487A-B791-8023A4CC5A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143000"/>
          <a:ext cx="9144000" cy="5416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SIUPIK (Sistem Informasi untuk PENGUSAHA dan INDUSTRI KECIL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784-30B0-47D9-843F-6897689EED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4F4EA-2AD6-4ECC-ABCF-3191232757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38B-FE88-40B8-9732-AC3521EBFBF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364B4-4B18-44E4-89EB-5BFE71B723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4F5-6610-4797-A54A-DBD829BB4A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9DD80-8DE2-412E-81B1-B500D3F7B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48320" y="914400"/>
            <a:ext cx="3733560" cy="30729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dustrial Plant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(Kendalian Industri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ir and Gas Pl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Water and Liquid Pl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hemical Pl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lectronic Pl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neumatic Pl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914400"/>
            <a:ext cx="4038840" cy="30578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rocess Control Systems (Sistem Pengendalian Proses)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ID Controll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CA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L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C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P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962520"/>
            <a:ext cx="7239240" cy="11912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MAN-MACHINE INTERFACE (MMI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791320" y="4572000"/>
          <a:ext cx="173664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666880" y="198108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98108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352680" y="990720"/>
          <a:ext cx="169416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990720"/>
                    <a:ext cx="16941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95280" y="4724280"/>
          <a:ext cx="123840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72428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200400" y="5334120"/>
          <a:ext cx="1884240" cy="97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3341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M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530-C8E3-4D7B-8E6A-E229B26B3BF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85D20-E77C-4639-8C81-D7DC0F058C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836-6945-4249-A37A-3CFDE04D46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63EFB-6161-4A04-AEBA-65F64C43EA4F}" type="datetime1">
              <a:rPr lang="en-US"/>
              <a:t>07/31/26</a:t>
            </a:fld>
          </a:p>
        </p:txBody>
      </p:sp>
    </p:spTree>
  </p:cSld>
  <p:transition spd="slow" advTm="89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309-3F81-4FEB-AD69-898568F3362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1CBB8D-D2F1-46F2-948D-3F0BA51DA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ari Hiroshima-Nagasak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 WTC 911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mpai Bom di Bali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………………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dan Makassar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54A-E6EE-4A8C-AF61-9C572C6B5D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BFBBF-8B52-4B68-9B81-D6D5B72153D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450-E9CC-417B-ACB0-331B5445E94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846B1-79DF-45B2-809B-6C3C825D901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3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2E1-271C-412C-8B70-596D406A64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F6F70-CCE8-4DE9-A259-43D0A1651B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5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6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EFB-43E5-4A23-82DC-F5F3DC2893D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45219-67A6-4D51-9F54-E13961CFCF7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A13-AABB-4331-AF4B-BD7CD3B43866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932C7-E554-4429-A24B-578103F3E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1C8-6E6A-40D2-9D4F-8092392192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F3978-F5A6-44DA-A9C1-E10A7497B2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06-26T13:47:40Z</dcterms:modified>
  <cp:revision>66</cp:revision>
  <dc:subject/>
  <dc:title>PowerPoint Presentation</dc:title>
</cp:coreProperties>
</file>