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5.wmf" ContentType="image/x-wmf"/>
  <Override PartName="/ppt/media/image19.jpeg" ContentType="image/jpeg"/>
  <Override PartName="/ppt/media/image17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2.wmf" ContentType="image/x-wmf"/>
  <Override PartName="/ppt/media/image3.wmf" ContentType="image/x-wmf"/>
  <Override PartName="/ppt/media/image18.wmf" ContentType="image/x-wmf"/>
  <Override PartName="/ppt/media/image5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FC7E-AD8E-45F8-A4E5-342E94CD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C1EC-B8CA-49D4-9661-37B2695B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5646-2EA9-40CE-B87E-A1BDB100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8872-586F-4985-8DC1-C9599BD3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0BBD-58A3-4936-9A40-CBE26E51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5F34-6F59-4178-AC09-A8F1C28D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4305-825D-45CA-8F97-07CCE6DA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D784-B156-43B3-B9B5-C9C2F2D9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2189-4BE0-4609-B55C-73A372E8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F7DE-3287-4D24-978B-FE22ADF3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C665-F06D-415F-98A4-253D27BB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E26-A5CE-4A1C-A8D6-C27F8FB3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FA7F-5F5A-4445-8573-FC30CB9C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AA22-E623-4EB5-A6AD-7B73A38B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9D56-2139-4C52-BD44-60469BE5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13F3-9092-4C91-A770-9ED88D15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E635-EA87-48A6-ADC8-97C7E5AF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BD9-9388-4BFB-9F1F-CC09502B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2AE-9B05-4305-B59F-BDE02A2A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C9EC-5F43-4253-A5C5-3F0F4FE8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04BE-B17E-4553-933F-D2DF8154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B95-3275-4767-AC01-5F1FD969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E1E-086F-4909-B9FE-0D4323C2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760-F4C1-425F-8D66-C64901C3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8A5E-0C6D-434A-A7AA-FAD12650F453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4EED-1EA3-4F37-8DFE-D314826DA7B1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95FF-8AD1-4426-935B-B697FBD575F0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061E-40D3-4521-BFFC-C45C2A453AEC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  <a:ea typeface="Times New Roman"/>
              </a:rPr>
              <a:t>MAN-MACHINE INTERFACE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4495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hiza@unhas.ac.id     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8E79-D040-43F4-842F-936A0380517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10ED3E1-EF74-4D0B-88D1-F56FCD52AA6F}" type="datetime1">
              <a:rPr lang="en-US"/>
              <a:t>07/31/26</a:t>
            </a:fld>
          </a:p>
        </p:txBody>
      </p:sp>
    </p:spTree>
  </p:cSld>
  <p:transition spd="slow" advTm="31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42892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8" name="DCS" descr=""/>
          <p:cNvPicPr/>
          <p:nvPr/>
        </p:nvPicPr>
        <p:blipFill>
          <a:blip r:embed="rId1"/>
          <a:stretch/>
        </p:blipFill>
        <p:spPr>
          <a:xfrm>
            <a:off x="-228600" y="1447920"/>
            <a:ext cx="9372600" cy="414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BD6-BD11-4AA8-ABFA-E6870FC95637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5FA69-71CD-4FBD-B981-F26D2C83CC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2408-58E1-4D7C-8EC4-0305939F6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B99B-048C-4D9B-B4A5-F898FF71273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57200" y="685800"/>
            <a:ext cx="8381520" cy="5029200"/>
            <a:chOff x="457200" y="685800"/>
            <a:chExt cx="8381520" cy="502920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3459600" y="2026800"/>
              <a:ext cx="890280" cy="1676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"/>
            <p:cNvGrpSpPr/>
            <p:nvPr/>
          </p:nvGrpSpPr>
          <p:grpSpPr>
            <a:xfrm>
              <a:off x="5211000" y="1020960"/>
              <a:ext cx="3627720" cy="3686040"/>
              <a:chOff x="5211000" y="1020960"/>
              <a:chExt cx="3627720" cy="3686040"/>
            </a:xfrm>
          </p:grpSpPr>
          <p:graphicFrame>
            <p:nvGraphicFramePr>
              <p:cNvPr id="194" name=""/>
              <p:cNvGraphicFramePr/>
              <p:nvPr/>
            </p:nvGraphicFramePr>
            <p:xfrm>
              <a:off x="7837920" y="1020960"/>
              <a:ext cx="1000440" cy="9093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95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837920" y="1020960"/>
                        <a:ext cx="1000440" cy="90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6" name=""/>
              <p:cNvGraphicFramePr/>
              <p:nvPr/>
            </p:nvGraphicFramePr>
            <p:xfrm>
              <a:off x="8088120" y="3702960"/>
              <a:ext cx="750600" cy="100404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8088120" y="3702960"/>
                        <a:ext cx="750600" cy="100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8" name=""/>
              <p:cNvGraphicFramePr/>
              <p:nvPr/>
            </p:nvGraphicFramePr>
            <p:xfrm>
              <a:off x="6962400" y="4038120"/>
              <a:ext cx="820080" cy="5670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99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962400" y="4038120"/>
                        <a:ext cx="82008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0" name=""/>
              <p:cNvSpPr/>
              <p:nvPr/>
            </p:nvSpPr>
            <p:spPr>
              <a:xfrm>
                <a:off x="6837120" y="2026440"/>
                <a:ext cx="1901520" cy="181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211000" y="2361600"/>
                <a:ext cx="1626120" cy="1005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</a:rPr>
                  <a:t>I/O INTERFACE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457200" y="685800"/>
              <a:ext cx="2273760" cy="4358520"/>
              <a:chOff x="457200" y="685800"/>
              <a:chExt cx="2273760" cy="4358520"/>
            </a:xfrm>
          </p:grpSpPr>
          <p:sp>
            <p:nvSpPr>
              <p:cNvPr id="203" name=""/>
              <p:cNvSpPr/>
              <p:nvPr/>
            </p:nvSpPr>
            <p:spPr>
              <a:xfrm>
                <a:off x="832320" y="685800"/>
                <a:ext cx="1876680" cy="284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</a:rPr>
                  <a:t>MMI </a:t>
                </a:r>
                <a:r>
                  <a:rPr b="0" lang="en-US" sz="1800" spc="-1" strike="noStrike">
                    <a:solidFill>
                      <a:srgbClr val="eaeaea"/>
                    </a:solidFill>
                    <a:latin typeface="Tahoma"/>
                  </a:rPr>
                  <a:t>pada </a:t>
                </a: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</a:rPr>
                  <a:t>ICT: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ourier New"/>
                  <a:buChar char="o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eaeaea"/>
                    </a:solidFill>
                    <a:latin typeface="Tahoma"/>
                  </a:rPr>
                  <a:t>Keyboard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ourier New"/>
                  <a:buChar char="o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eaeaea"/>
                    </a:solidFill>
                    <a:latin typeface="Tahoma"/>
                  </a:rPr>
                  <a:t>Mouse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ourier New"/>
                  <a:buChar char="o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eaeaea"/>
                    </a:solidFill>
                    <a:latin typeface="Tahoma"/>
                  </a:rPr>
                  <a:t>Monitor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ourier New"/>
                  <a:buChar char="o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eaeaea"/>
                    </a:solidFill>
                    <a:latin typeface="Tahoma"/>
                  </a:rPr>
                  <a:t>Loudspeaker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ourier New"/>
                  <a:buChar char="o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eaeaea"/>
                    </a:solidFill>
                    <a:latin typeface="Tahoma"/>
                  </a:rPr>
                  <a:t>Microphone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ourier New"/>
                  <a:buChar char="o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Tahoma"/>
                  </a:rPr>
                  <a:t>Dll. 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aphicFrame>
            <p:nvGraphicFramePr>
              <p:cNvPr id="204" name=""/>
              <p:cNvGraphicFramePr/>
              <p:nvPr/>
            </p:nvGraphicFramePr>
            <p:xfrm>
              <a:off x="1958400" y="2529360"/>
              <a:ext cx="772560" cy="9738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05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1958400" y="2529360"/>
                        <a:ext cx="772560" cy="973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06" name=""/>
              <p:cNvGrpSpPr/>
              <p:nvPr/>
            </p:nvGrpSpPr>
            <p:grpSpPr>
              <a:xfrm>
                <a:off x="457200" y="2697480"/>
                <a:ext cx="772200" cy="2346840"/>
                <a:chOff x="457200" y="2697480"/>
                <a:chExt cx="772200" cy="234684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703440" y="2828520"/>
                  <a:ext cx="302400" cy="512280"/>
                </a:xfrm>
                <a:custGeom>
                  <a:avLst/>
                  <a:gdLst/>
                  <a:ahLst/>
                  <a:rect l="l" t="t" r="r" b="b"/>
                  <a:pathLst>
                    <a:path w="457" h="507">
                      <a:moveTo>
                        <a:pt x="238" y="117"/>
                      </a:moveTo>
                      <a:lnTo>
                        <a:pt x="198" y="65"/>
                      </a:lnTo>
                      <a:lnTo>
                        <a:pt x="142" y="26"/>
                      </a:lnTo>
                      <a:lnTo>
                        <a:pt x="92" y="0"/>
                      </a:lnTo>
                      <a:lnTo>
                        <a:pt x="52" y="7"/>
                      </a:lnTo>
                      <a:lnTo>
                        <a:pt x="23" y="36"/>
                      </a:lnTo>
                      <a:lnTo>
                        <a:pt x="0" y="124"/>
                      </a:lnTo>
                      <a:lnTo>
                        <a:pt x="9" y="225"/>
                      </a:lnTo>
                      <a:lnTo>
                        <a:pt x="33" y="322"/>
                      </a:lnTo>
                      <a:lnTo>
                        <a:pt x="59" y="397"/>
                      </a:lnTo>
                      <a:lnTo>
                        <a:pt x="109" y="475"/>
                      </a:lnTo>
                      <a:lnTo>
                        <a:pt x="152" y="507"/>
                      </a:lnTo>
                      <a:lnTo>
                        <a:pt x="211" y="507"/>
                      </a:lnTo>
                      <a:lnTo>
                        <a:pt x="271" y="485"/>
                      </a:lnTo>
                      <a:lnTo>
                        <a:pt x="301" y="429"/>
                      </a:lnTo>
                      <a:lnTo>
                        <a:pt x="317" y="358"/>
                      </a:lnTo>
                      <a:lnTo>
                        <a:pt x="311" y="270"/>
                      </a:lnTo>
                      <a:lnTo>
                        <a:pt x="450" y="280"/>
                      </a:lnTo>
                      <a:lnTo>
                        <a:pt x="457" y="241"/>
                      </a:lnTo>
                      <a:lnTo>
                        <a:pt x="298" y="225"/>
                      </a:lnTo>
                      <a:lnTo>
                        <a:pt x="258" y="134"/>
                      </a:lnTo>
                      <a:lnTo>
                        <a:pt x="238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57200" y="2697480"/>
                  <a:ext cx="348120" cy="821520"/>
                </a:xfrm>
                <a:custGeom>
                  <a:avLst/>
                  <a:gdLst/>
                  <a:ahLst/>
                  <a:rect l="l" t="t" r="r" b="b"/>
                  <a:pathLst>
                    <a:path w="526" h="813">
                      <a:moveTo>
                        <a:pt x="307" y="19"/>
                      </a:moveTo>
                      <a:lnTo>
                        <a:pt x="373" y="0"/>
                      </a:lnTo>
                      <a:lnTo>
                        <a:pt x="426" y="3"/>
                      </a:lnTo>
                      <a:lnTo>
                        <a:pt x="466" y="32"/>
                      </a:lnTo>
                      <a:lnTo>
                        <a:pt x="493" y="78"/>
                      </a:lnTo>
                      <a:lnTo>
                        <a:pt x="483" y="126"/>
                      </a:lnTo>
                      <a:lnTo>
                        <a:pt x="446" y="126"/>
                      </a:lnTo>
                      <a:lnTo>
                        <a:pt x="456" y="87"/>
                      </a:lnTo>
                      <a:lnTo>
                        <a:pt x="426" y="52"/>
                      </a:lnTo>
                      <a:lnTo>
                        <a:pt x="397" y="39"/>
                      </a:lnTo>
                      <a:lnTo>
                        <a:pt x="347" y="52"/>
                      </a:lnTo>
                      <a:lnTo>
                        <a:pt x="367" y="91"/>
                      </a:lnTo>
                      <a:lnTo>
                        <a:pt x="373" y="126"/>
                      </a:lnTo>
                      <a:lnTo>
                        <a:pt x="367" y="156"/>
                      </a:lnTo>
                      <a:lnTo>
                        <a:pt x="317" y="169"/>
                      </a:lnTo>
                      <a:lnTo>
                        <a:pt x="264" y="159"/>
                      </a:lnTo>
                      <a:lnTo>
                        <a:pt x="254" y="136"/>
                      </a:lnTo>
                      <a:lnTo>
                        <a:pt x="198" y="198"/>
                      </a:lnTo>
                      <a:lnTo>
                        <a:pt x="165" y="266"/>
                      </a:lnTo>
                      <a:lnTo>
                        <a:pt x="119" y="354"/>
                      </a:lnTo>
                      <a:lnTo>
                        <a:pt x="89" y="432"/>
                      </a:lnTo>
                      <a:lnTo>
                        <a:pt x="76" y="507"/>
                      </a:lnTo>
                      <a:lnTo>
                        <a:pt x="86" y="546"/>
                      </a:lnTo>
                      <a:lnTo>
                        <a:pt x="139" y="595"/>
                      </a:lnTo>
                      <a:lnTo>
                        <a:pt x="248" y="637"/>
                      </a:lnTo>
                      <a:lnTo>
                        <a:pt x="307" y="656"/>
                      </a:lnTo>
                      <a:lnTo>
                        <a:pt x="367" y="666"/>
                      </a:lnTo>
                      <a:lnTo>
                        <a:pt x="456" y="702"/>
                      </a:lnTo>
                      <a:lnTo>
                        <a:pt x="522" y="725"/>
                      </a:lnTo>
                      <a:lnTo>
                        <a:pt x="526" y="770"/>
                      </a:lnTo>
                      <a:lnTo>
                        <a:pt x="493" y="803"/>
                      </a:lnTo>
                      <a:lnTo>
                        <a:pt x="453" y="813"/>
                      </a:lnTo>
                      <a:lnTo>
                        <a:pt x="393" y="783"/>
                      </a:lnTo>
                      <a:lnTo>
                        <a:pt x="254" y="712"/>
                      </a:lnTo>
                      <a:lnTo>
                        <a:pt x="139" y="663"/>
                      </a:lnTo>
                      <a:lnTo>
                        <a:pt x="59" y="608"/>
                      </a:lnTo>
                      <a:lnTo>
                        <a:pt x="6" y="559"/>
                      </a:lnTo>
                      <a:lnTo>
                        <a:pt x="0" y="500"/>
                      </a:lnTo>
                      <a:lnTo>
                        <a:pt x="29" y="422"/>
                      </a:lnTo>
                      <a:lnTo>
                        <a:pt x="89" y="305"/>
                      </a:lnTo>
                      <a:lnTo>
                        <a:pt x="145" y="208"/>
                      </a:lnTo>
                      <a:lnTo>
                        <a:pt x="215" y="107"/>
                      </a:lnTo>
                      <a:lnTo>
                        <a:pt x="268" y="48"/>
                      </a:lnTo>
                      <a:lnTo>
                        <a:pt x="334" y="19"/>
                      </a:lnTo>
                      <a:lnTo>
                        <a:pt x="30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85520" y="3378600"/>
                  <a:ext cx="181800" cy="771120"/>
                </a:xfrm>
                <a:custGeom>
                  <a:avLst/>
                  <a:gdLst/>
                  <a:ahLst/>
                  <a:rect l="l" t="t" r="r" b="b"/>
                  <a:pathLst>
                    <a:path w="275" h="763">
                      <a:moveTo>
                        <a:pt x="17" y="59"/>
                      </a:moveTo>
                      <a:lnTo>
                        <a:pt x="27" y="20"/>
                      </a:lnTo>
                      <a:lnTo>
                        <a:pt x="70" y="0"/>
                      </a:lnTo>
                      <a:lnTo>
                        <a:pt x="109" y="0"/>
                      </a:lnTo>
                      <a:lnTo>
                        <a:pt x="159" y="29"/>
                      </a:lnTo>
                      <a:lnTo>
                        <a:pt x="206" y="98"/>
                      </a:lnTo>
                      <a:lnTo>
                        <a:pt x="239" y="169"/>
                      </a:lnTo>
                      <a:lnTo>
                        <a:pt x="255" y="266"/>
                      </a:lnTo>
                      <a:lnTo>
                        <a:pt x="269" y="380"/>
                      </a:lnTo>
                      <a:lnTo>
                        <a:pt x="275" y="490"/>
                      </a:lnTo>
                      <a:lnTo>
                        <a:pt x="275" y="633"/>
                      </a:lnTo>
                      <a:lnTo>
                        <a:pt x="255" y="721"/>
                      </a:lnTo>
                      <a:lnTo>
                        <a:pt x="219" y="753"/>
                      </a:lnTo>
                      <a:lnTo>
                        <a:pt x="156" y="763"/>
                      </a:lnTo>
                      <a:lnTo>
                        <a:pt x="90" y="760"/>
                      </a:lnTo>
                      <a:lnTo>
                        <a:pt x="56" y="721"/>
                      </a:lnTo>
                      <a:lnTo>
                        <a:pt x="37" y="653"/>
                      </a:lnTo>
                      <a:lnTo>
                        <a:pt x="20" y="585"/>
                      </a:lnTo>
                      <a:lnTo>
                        <a:pt x="7" y="461"/>
                      </a:lnTo>
                      <a:lnTo>
                        <a:pt x="0" y="322"/>
                      </a:lnTo>
                      <a:lnTo>
                        <a:pt x="0" y="159"/>
                      </a:lnTo>
                      <a:lnTo>
                        <a:pt x="17" y="88"/>
                      </a:lnTo>
                      <a:lnTo>
                        <a:pt x="17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9400" y="3399840"/>
                  <a:ext cx="277920" cy="592200"/>
                </a:xfrm>
                <a:custGeom>
                  <a:avLst/>
                  <a:gdLst/>
                  <a:ahLst/>
                  <a:rect l="l" t="t" r="r" b="b"/>
                  <a:pathLst>
                    <a:path w="420" h="586">
                      <a:moveTo>
                        <a:pt x="23" y="0"/>
                      </a:moveTo>
                      <a:lnTo>
                        <a:pt x="109" y="10"/>
                      </a:lnTo>
                      <a:lnTo>
                        <a:pt x="198" y="26"/>
                      </a:lnTo>
                      <a:lnTo>
                        <a:pt x="291" y="78"/>
                      </a:lnTo>
                      <a:lnTo>
                        <a:pt x="357" y="117"/>
                      </a:lnTo>
                      <a:lnTo>
                        <a:pt x="400" y="173"/>
                      </a:lnTo>
                      <a:lnTo>
                        <a:pt x="420" y="205"/>
                      </a:lnTo>
                      <a:lnTo>
                        <a:pt x="380" y="300"/>
                      </a:lnTo>
                      <a:lnTo>
                        <a:pt x="317" y="358"/>
                      </a:lnTo>
                      <a:lnTo>
                        <a:pt x="241" y="400"/>
                      </a:lnTo>
                      <a:lnTo>
                        <a:pt x="201" y="426"/>
                      </a:lnTo>
                      <a:lnTo>
                        <a:pt x="132" y="439"/>
                      </a:lnTo>
                      <a:lnTo>
                        <a:pt x="129" y="465"/>
                      </a:lnTo>
                      <a:lnTo>
                        <a:pt x="182" y="488"/>
                      </a:lnTo>
                      <a:lnTo>
                        <a:pt x="258" y="508"/>
                      </a:lnTo>
                      <a:lnTo>
                        <a:pt x="330" y="547"/>
                      </a:lnTo>
                      <a:lnTo>
                        <a:pt x="301" y="576"/>
                      </a:lnTo>
                      <a:lnTo>
                        <a:pt x="271" y="586"/>
                      </a:lnTo>
                      <a:lnTo>
                        <a:pt x="228" y="543"/>
                      </a:lnTo>
                      <a:lnTo>
                        <a:pt x="162" y="517"/>
                      </a:lnTo>
                      <a:lnTo>
                        <a:pt x="109" y="498"/>
                      </a:lnTo>
                      <a:lnTo>
                        <a:pt x="109" y="459"/>
                      </a:lnTo>
                      <a:lnTo>
                        <a:pt x="119" y="417"/>
                      </a:lnTo>
                      <a:lnTo>
                        <a:pt x="152" y="400"/>
                      </a:lnTo>
                      <a:lnTo>
                        <a:pt x="258" y="358"/>
                      </a:lnTo>
                      <a:lnTo>
                        <a:pt x="317" y="293"/>
                      </a:lnTo>
                      <a:lnTo>
                        <a:pt x="360" y="225"/>
                      </a:lnTo>
                      <a:lnTo>
                        <a:pt x="350" y="192"/>
                      </a:lnTo>
                      <a:lnTo>
                        <a:pt x="317" y="153"/>
                      </a:lnTo>
                      <a:lnTo>
                        <a:pt x="238" y="98"/>
                      </a:lnTo>
                      <a:lnTo>
                        <a:pt x="142" y="78"/>
                      </a:lnTo>
                      <a:lnTo>
                        <a:pt x="79" y="75"/>
                      </a:lnTo>
                      <a:lnTo>
                        <a:pt x="23" y="75"/>
                      </a:lnTo>
                      <a:lnTo>
                        <a:pt x="0" y="39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91360" y="4070880"/>
                  <a:ext cx="338040" cy="956880"/>
                </a:xfrm>
                <a:custGeom>
                  <a:avLst/>
                  <a:gdLst/>
                  <a:ahLst/>
                  <a:rect l="l" t="t" r="r" b="b"/>
                  <a:pathLst>
                    <a:path w="511" h="947">
                      <a:moveTo>
                        <a:pt x="59" y="0"/>
                      </a:moveTo>
                      <a:lnTo>
                        <a:pt x="13" y="0"/>
                      </a:lnTo>
                      <a:lnTo>
                        <a:pt x="0" y="68"/>
                      </a:lnTo>
                      <a:lnTo>
                        <a:pt x="33" y="108"/>
                      </a:lnTo>
                      <a:lnTo>
                        <a:pt x="139" y="202"/>
                      </a:lnTo>
                      <a:lnTo>
                        <a:pt x="232" y="322"/>
                      </a:lnTo>
                      <a:lnTo>
                        <a:pt x="292" y="446"/>
                      </a:lnTo>
                      <a:lnTo>
                        <a:pt x="301" y="527"/>
                      </a:lnTo>
                      <a:lnTo>
                        <a:pt x="298" y="586"/>
                      </a:lnTo>
                      <a:lnTo>
                        <a:pt x="272" y="719"/>
                      </a:lnTo>
                      <a:lnTo>
                        <a:pt x="238" y="827"/>
                      </a:lnTo>
                      <a:lnTo>
                        <a:pt x="209" y="889"/>
                      </a:lnTo>
                      <a:lnTo>
                        <a:pt x="202" y="928"/>
                      </a:lnTo>
                      <a:lnTo>
                        <a:pt x="232" y="928"/>
                      </a:lnTo>
                      <a:lnTo>
                        <a:pt x="278" y="915"/>
                      </a:lnTo>
                      <a:lnTo>
                        <a:pt x="292" y="918"/>
                      </a:lnTo>
                      <a:lnTo>
                        <a:pt x="388" y="924"/>
                      </a:lnTo>
                      <a:lnTo>
                        <a:pt x="461" y="947"/>
                      </a:lnTo>
                      <a:lnTo>
                        <a:pt x="487" y="934"/>
                      </a:lnTo>
                      <a:lnTo>
                        <a:pt x="511" y="885"/>
                      </a:lnTo>
                      <a:lnTo>
                        <a:pt x="487" y="859"/>
                      </a:lnTo>
                      <a:lnTo>
                        <a:pt x="378" y="856"/>
                      </a:lnTo>
                      <a:lnTo>
                        <a:pt x="301" y="866"/>
                      </a:lnTo>
                      <a:lnTo>
                        <a:pt x="262" y="885"/>
                      </a:lnTo>
                      <a:lnTo>
                        <a:pt x="268" y="840"/>
                      </a:lnTo>
                      <a:lnTo>
                        <a:pt x="308" y="771"/>
                      </a:lnTo>
                      <a:lnTo>
                        <a:pt x="341" y="664"/>
                      </a:lnTo>
                      <a:lnTo>
                        <a:pt x="368" y="573"/>
                      </a:lnTo>
                      <a:lnTo>
                        <a:pt x="348" y="469"/>
                      </a:lnTo>
                      <a:lnTo>
                        <a:pt x="318" y="358"/>
                      </a:lnTo>
                      <a:lnTo>
                        <a:pt x="258" y="231"/>
                      </a:lnTo>
                      <a:lnTo>
                        <a:pt x="172" y="114"/>
                      </a:lnTo>
                      <a:lnTo>
                        <a:pt x="99" y="29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78960" y="4069080"/>
                  <a:ext cx="227520" cy="975240"/>
                </a:xfrm>
                <a:custGeom>
                  <a:avLst/>
                  <a:gdLst/>
                  <a:ahLst/>
                  <a:rect l="l" t="t" r="r" b="b"/>
                  <a:pathLst>
                    <a:path w="344" h="965">
                      <a:moveTo>
                        <a:pt x="238" y="0"/>
                      </a:moveTo>
                      <a:lnTo>
                        <a:pt x="195" y="91"/>
                      </a:lnTo>
                      <a:lnTo>
                        <a:pt x="165" y="224"/>
                      </a:lnTo>
                      <a:lnTo>
                        <a:pt x="129" y="371"/>
                      </a:lnTo>
                      <a:lnTo>
                        <a:pt x="96" y="520"/>
                      </a:lnTo>
                      <a:lnTo>
                        <a:pt x="96" y="575"/>
                      </a:lnTo>
                      <a:lnTo>
                        <a:pt x="129" y="673"/>
                      </a:lnTo>
                      <a:lnTo>
                        <a:pt x="175" y="725"/>
                      </a:lnTo>
                      <a:lnTo>
                        <a:pt x="218" y="790"/>
                      </a:lnTo>
                      <a:lnTo>
                        <a:pt x="248" y="838"/>
                      </a:lnTo>
                      <a:lnTo>
                        <a:pt x="235" y="861"/>
                      </a:lnTo>
                      <a:lnTo>
                        <a:pt x="159" y="871"/>
                      </a:lnTo>
                      <a:lnTo>
                        <a:pt x="36" y="890"/>
                      </a:lnTo>
                      <a:lnTo>
                        <a:pt x="0" y="920"/>
                      </a:lnTo>
                      <a:lnTo>
                        <a:pt x="30" y="946"/>
                      </a:lnTo>
                      <a:lnTo>
                        <a:pt x="99" y="965"/>
                      </a:lnTo>
                      <a:lnTo>
                        <a:pt x="179" y="926"/>
                      </a:lnTo>
                      <a:lnTo>
                        <a:pt x="238" y="900"/>
                      </a:lnTo>
                      <a:lnTo>
                        <a:pt x="314" y="890"/>
                      </a:lnTo>
                      <a:lnTo>
                        <a:pt x="344" y="881"/>
                      </a:lnTo>
                      <a:lnTo>
                        <a:pt x="334" y="848"/>
                      </a:lnTo>
                      <a:lnTo>
                        <a:pt x="248" y="764"/>
                      </a:lnTo>
                      <a:lnTo>
                        <a:pt x="198" y="676"/>
                      </a:lnTo>
                      <a:lnTo>
                        <a:pt x="155" y="617"/>
                      </a:lnTo>
                      <a:lnTo>
                        <a:pt x="149" y="559"/>
                      </a:lnTo>
                      <a:lnTo>
                        <a:pt x="169" y="462"/>
                      </a:lnTo>
                      <a:lnTo>
                        <a:pt x="215" y="361"/>
                      </a:lnTo>
                      <a:lnTo>
                        <a:pt x="265" y="189"/>
                      </a:lnTo>
                      <a:lnTo>
                        <a:pt x="308" y="88"/>
                      </a:lnTo>
                      <a:lnTo>
                        <a:pt x="304" y="29"/>
                      </a:lnTo>
                      <a:lnTo>
                        <a:pt x="265" y="0"/>
                      </a:lnTo>
                      <a:lnTo>
                        <a:pt x="2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3" name=""/>
            <p:cNvSpPr/>
            <p:nvPr/>
          </p:nvSpPr>
          <p:spPr>
            <a:xfrm>
              <a:off x="2833920" y="2361960"/>
              <a:ext cx="750600" cy="8380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10200" y="2529360"/>
              <a:ext cx="875520" cy="838080"/>
            </a:xfrm>
            <a:prstGeom prst="leftRightArrow">
              <a:avLst>
                <a:gd name="adj1" fmla="val 50000"/>
                <a:gd name="adj2" fmla="val 2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84120" y="3703320"/>
              <a:ext cx="1626480" cy="67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ahoma"/>
                </a:rPr>
                <a:t>KOMPUT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58400" y="4709160"/>
              <a:ext cx="5254200" cy="100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aeaea"/>
                  </a:solidFill>
                  <a:latin typeface="Tahoma"/>
                </a:rPr>
                <a:t>Gambar 4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aeaea"/>
                  </a:solidFill>
                  <a:latin typeface="Tahoma"/>
                </a:rPr>
                <a:t>Dua macam perangkat </a:t>
              </a:r>
              <a:r>
                <a:rPr b="0" i="1" lang="en-US" sz="1200" spc="-1" strike="noStrike">
                  <a:solidFill>
                    <a:srgbClr val="eaeaea"/>
                  </a:solidFill>
                  <a:latin typeface="Tahoma"/>
                </a:rPr>
                <a:t>I/O-interface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09104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8" name="AFPT%20921%20-%20Gas%20Flow%20Pressure%20Temperature" descr=""/>
          <p:cNvPicPr/>
          <p:nvPr/>
        </p:nvPicPr>
        <p:blipFill>
          <a:blip r:embed="rId10"/>
          <a:stretch/>
        </p:blipFill>
        <p:spPr>
          <a:xfrm>
            <a:off x="6781680" y="2189160"/>
            <a:ext cx="198144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3866-D53D-4450-8E37-0D2AE8B1B94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9E9071C-BB13-4B84-AE89-23E20CF511AC}" type="datetime1">
              <a:rPr lang="en-US"/>
              <a:t>07/31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035A-966F-41DF-9EA0-CCBF0E61E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B96B-5F0F-483E-8373-A485629EFF2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AMDISAST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3240" y="309600"/>
            <a:ext cx="1852560" cy="3686040"/>
            <a:chOff x="3240" y="309600"/>
            <a:chExt cx="1852560" cy="3686040"/>
          </a:xfrm>
        </p:grpSpPr>
        <p:sp>
          <p:nvSpPr>
            <p:cNvPr id="107" name=""/>
            <p:cNvSpPr/>
            <p:nvPr/>
          </p:nvSpPr>
          <p:spPr>
            <a:xfrm>
              <a:off x="593640" y="515880"/>
              <a:ext cx="725400" cy="80496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309600"/>
              <a:ext cx="834840" cy="129060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0560" y="1379520"/>
              <a:ext cx="436680" cy="121140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1413000"/>
              <a:ext cx="666720" cy="93024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44720" y="2467080"/>
              <a:ext cx="811080" cy="150336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4960" y="2463840"/>
              <a:ext cx="546120" cy="153180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119240" y="3240"/>
            <a:ext cx="334800" cy="452520"/>
            <a:chOff x="1119240" y="3240"/>
            <a:chExt cx="334800" cy="452520"/>
          </a:xfrm>
        </p:grpSpPr>
        <p:sp>
          <p:nvSpPr>
            <p:cNvPr id="114" name=""/>
            <p:cNvSpPr/>
            <p:nvPr/>
          </p:nvSpPr>
          <p:spPr>
            <a:xfrm>
              <a:off x="1184400" y="3240"/>
              <a:ext cx="269640" cy="31428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19240" y="369720"/>
              <a:ext cx="8424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 KUNINGANNNN !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BOMB" descr=""/>
          <p:cNvPicPr/>
          <p:nvPr/>
        </p:nvPicPr>
        <p:blipFill>
          <a:blip r:embed="rId2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752480"/>
          <a:ext cx="8381880" cy="383400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71B-0582-4BE1-84AB-8E2BD373C16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A4943-A73A-4979-8D5F-27EA6C563A3C}" type="datetime1">
              <a:rPr lang="en-US"/>
              <a:t>07/31/26</a:t>
            </a:fld>
          </a:p>
        </p:txBody>
      </p:sp>
    </p:spTree>
  </p:cSld>
  <p:transition spd="slow" advTm="6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2" name="attack01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attack10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24" name="attack12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25D-49FD-47F4-BFB3-56CF3FE7485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72958-62A6-47B7-AB0A-EF9AE3691BAC}" type="datetime1">
              <a:rPr lang="en-US"/>
              <a:t>07/31/26</a:t>
            </a:fld>
          </a:p>
        </p:txBody>
      </p:sp>
    </p:spTree>
  </p:cSld>
  <p:transition spd="slow" advTm="25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ttack03" descr=""/>
          <p:cNvPicPr/>
          <p:nvPr/>
        </p:nvPicPr>
        <p:blipFill>
          <a:blip r:embed="rId1"/>
          <a:stretch/>
        </p:blipFill>
        <p:spPr>
          <a:xfrm>
            <a:off x="0" y="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6" name="wtc_collapse1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7" name="wtc_collapse2" descr=""/>
          <p:cNvPicPr/>
          <p:nvPr/>
        </p:nvPicPr>
        <p:blipFill>
          <a:blip r:embed="rId3"/>
          <a:stretch/>
        </p:blipFill>
        <p:spPr>
          <a:xfrm>
            <a:off x="6676920" y="762120"/>
            <a:ext cx="2467080" cy="3638520"/>
          </a:xfrm>
          <a:prstGeom prst="rect">
            <a:avLst/>
          </a:prstGeom>
          <a:ln w="0">
            <a:noFill/>
          </a:ln>
        </p:spPr>
      </p:pic>
      <p:pic>
        <p:nvPicPr>
          <p:cNvPr id="128" name="wtc_collapse3" descr=""/>
          <p:cNvPicPr/>
          <p:nvPr/>
        </p:nvPicPr>
        <p:blipFill>
          <a:blip r:embed="rId4"/>
          <a:stretch/>
        </p:blipFill>
        <p:spPr>
          <a:xfrm>
            <a:off x="1371600" y="838080"/>
            <a:ext cx="6324480" cy="57121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05360" y="0"/>
            <a:ext cx="2438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B6C-4DEF-4314-88C3-0B74760C605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61DD7-668F-42D5-96DE-095020D6E3DE}" type="datetime1">
              <a:rPr lang="en-US"/>
              <a:t>07/31/26</a:t>
            </a:fld>
          </a:p>
        </p:txBody>
      </p:sp>
    </p:spTree>
  </p:cSld>
  <p:transition spd="slow" advTm="51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 spd="slow" advTm="6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43000" y="6840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40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93A-B2A3-4404-A7CF-48888C2D984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16356-20C9-4BA0-A461-8863798380F8}" type="datetime1">
              <a:rPr lang="en-US"/>
              <a:t>07/31/26</a:t>
            </a:fld>
          </a:p>
        </p:txBody>
      </p:sp>
    </p:spTree>
  </p:cSld>
  <p:transition spd="slow" advTm="60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3660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5608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6792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6094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57913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Contoh: sekretaris, manajer, 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 advTm="78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1E16-480E-4A25-AF74-271F88998776}" type="slidenum"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9E07-B961-4EBA-9C76-2CDA7D20ABE8}" type="datetime"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65440" y="380880"/>
            <a:ext cx="6463080" cy="6096240"/>
            <a:chOff x="1765440" y="380880"/>
            <a:chExt cx="6463080" cy="6096240"/>
          </a:xfrm>
        </p:grpSpPr>
        <p:grpSp>
          <p:nvGrpSpPr>
            <p:cNvPr id="156" name=""/>
            <p:cNvGrpSpPr/>
            <p:nvPr/>
          </p:nvGrpSpPr>
          <p:grpSpPr>
            <a:xfrm>
              <a:off x="1923120" y="380880"/>
              <a:ext cx="6305400" cy="4970160"/>
              <a:chOff x="1923120" y="380880"/>
              <a:chExt cx="6305400" cy="4970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923120" y="380880"/>
                <a:ext cx="5198040" cy="282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GENERALIZED PROCESS PLANT MODEL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64040" y="1152000"/>
                <a:ext cx="1533600" cy="1713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aeaea"/>
                    </a:solidFill>
                    <a:latin typeface="Tahoma"/>
                  </a:rPr>
                  <a:t>VALVES</a:t>
                </a:r>
                <a:endParaRPr b="0" lang="en-US" sz="8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aeaea"/>
                    </a:solidFill>
                    <a:latin typeface="Tahoma"/>
                  </a:rPr>
                  <a:t>PUMPS</a:t>
                </a:r>
                <a:endParaRPr b="0" lang="en-US" sz="8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aeaea"/>
                    </a:solidFill>
                    <a:latin typeface="Tahoma"/>
                  </a:rPr>
                  <a:t>HEAT-EXCHANGERS</a:t>
                </a:r>
                <a:endParaRPr b="0" lang="en-US" sz="8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aeaea"/>
                    </a:solidFill>
                    <a:latin typeface="Tahoma"/>
                  </a:rPr>
                  <a:t>HEATING ELEMENTS</a:t>
                </a:r>
                <a:endParaRPr b="0" lang="en-US" sz="8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aeaea"/>
                    </a:solidFill>
                    <a:latin typeface="Tahoma"/>
                  </a:rPr>
                  <a:t>FURNACE</a:t>
                </a:r>
                <a:endParaRPr b="0" lang="en-US" sz="8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aeaea"/>
                    </a:solidFill>
                    <a:latin typeface="Tahoma"/>
                  </a:rPr>
                  <a:t>BOILERS</a:t>
                </a:r>
                <a:endParaRPr b="0" lang="en-US" sz="8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aeaea"/>
                    </a:solidFill>
                    <a:latin typeface="Tahoma"/>
                  </a:rPr>
                  <a:t>BLOWERS</a:t>
                </a:r>
                <a:endParaRPr b="0" lang="en-US" sz="8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aeaea"/>
                    </a:solidFill>
                    <a:latin typeface="Tahoma"/>
                  </a:rPr>
                  <a:t>FANS</a:t>
                </a:r>
                <a:endParaRPr b="0" lang="en-US" sz="8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aeaea"/>
                    </a:solidFill>
                    <a:latin typeface="Tahoma"/>
                  </a:rPr>
                  <a:t>etc.</a:t>
                </a:r>
                <a:endParaRPr b="0" lang="en-US" sz="8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797640" y="1323360"/>
                <a:ext cx="1789200" cy="128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ahoma"/>
                  </a:rPr>
                  <a:t>INDUSTRIAL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ahoma"/>
                  </a:rPr>
                  <a:t>PROCESS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587200" y="809280"/>
                <a:ext cx="136332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LEVEL</a:t>
                </a:r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587200" y="1152000"/>
                <a:ext cx="136332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RESSURE</a:t>
                </a:r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87200" y="1495080"/>
                <a:ext cx="1363320" cy="34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LOW</a:t>
                </a:r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587200" y="1837800"/>
                <a:ext cx="136332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ahoma"/>
                  </a:rPr>
                  <a:t>TEMPERATURE</a:t>
                </a:r>
                <a:endParaRPr b="0" lang="en-US" sz="9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87200" y="2180520"/>
                <a:ext cx="1363320" cy="77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PH, salinity, humidity, oxygen content, etc.</a:t>
                </a:r>
                <a:endParaRPr b="0" lang="en-US" sz="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23120" y="3294720"/>
                <a:ext cx="5198040" cy="119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Tahoma"/>
                  </a:rPr>
                  <a:t>PROCESS CONTROL SYSTEMS</a:t>
                </a:r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08080" y="3637440"/>
                <a:ext cx="153360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ID CONTROLLER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542040" y="3723120"/>
                <a:ext cx="93708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SCADA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479480" y="3723120"/>
                <a:ext cx="110772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LC/DCS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587200" y="3466080"/>
                <a:ext cx="1363320" cy="942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dvanced Process Control (APC)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371760" y="4237200"/>
                <a:ext cx="1874520" cy="94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ICT: 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Information and Communication Technology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604960" y="4151520"/>
                <a:ext cx="3493800" cy="1199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5400000">
                <a:off x="5919840" y="1842840"/>
                <a:ext cx="2742480" cy="1874520"/>
              </a:xfrm>
              <a:custGeom>
                <a:avLst/>
                <a:gdLst>
                  <a:gd name="textAreaLeft" fmla="*/ 0 w 2742480"/>
                  <a:gd name="textAreaRight" fmla="*/ 2742840 w 2742480"/>
                  <a:gd name="textAreaTop" fmla="*/ 0 h 1874520"/>
                  <a:gd name="textAreaBottom" fmla="*/ 1874880 h 18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604960" y="2865960"/>
                <a:ext cx="937080" cy="42840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aphicFrame>
          <p:nvGraphicFramePr>
            <p:cNvPr id="174" name=""/>
            <p:cNvGraphicFramePr/>
            <p:nvPr/>
          </p:nvGraphicFramePr>
          <p:xfrm>
            <a:off x="5589000" y="4562640"/>
            <a:ext cx="686160" cy="63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9000" y="4562640"/>
                      <a:ext cx="686160" cy="63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"/>
            <p:cNvGraphicFramePr/>
            <p:nvPr/>
          </p:nvGraphicFramePr>
          <p:xfrm>
            <a:off x="2451600" y="4562640"/>
            <a:ext cx="686160" cy="630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51600" y="4562640"/>
                      <a:ext cx="686160" cy="63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" name=""/>
            <p:cNvSpPr/>
            <p:nvPr/>
          </p:nvSpPr>
          <p:spPr>
            <a:xfrm>
              <a:off x="2549880" y="5232600"/>
              <a:ext cx="3529440" cy="47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Tahoma"/>
                </a:rPr>
                <a:t>MAN-MACHINE INTERFACE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1765440" y="4658400"/>
              <a:ext cx="1077840" cy="1435680"/>
              <a:chOff x="1765440" y="4658400"/>
              <a:chExt cx="1077840" cy="1435680"/>
            </a:xfrm>
          </p:grpSpPr>
          <p:sp>
            <p:nvSpPr>
              <p:cNvPr id="180" name=""/>
              <p:cNvSpPr/>
              <p:nvPr/>
            </p:nvSpPr>
            <p:spPr>
              <a:xfrm>
                <a:off x="2108880" y="4738680"/>
                <a:ext cx="421920" cy="31356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65440" y="4658400"/>
                <a:ext cx="485640" cy="50256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23720" y="5075280"/>
                <a:ext cx="254160" cy="47196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340720" y="5088240"/>
                <a:ext cx="388080" cy="362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371320" y="5499000"/>
                <a:ext cx="471960" cy="58572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074680" y="5497560"/>
                <a:ext cx="317880" cy="59652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3039840" y="5998680"/>
              <a:ext cx="4215600" cy="47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aeaea"/>
                  </a:solidFill>
                  <a:latin typeface="Tahoma"/>
                </a:rPr>
                <a:t>Gambar 2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eaeaea"/>
                  </a:solidFill>
                  <a:latin typeface="Tahoma"/>
                </a:rPr>
                <a:t>Man-Machine Interface</a:t>
              </a:r>
              <a:r>
                <a:rPr b="0" lang="en-US" sz="1200" spc="-1" strike="noStrike">
                  <a:solidFill>
                    <a:srgbClr val="eaeaea"/>
                  </a:solidFill>
                  <a:latin typeface="Tahoma"/>
                </a:rPr>
                <a:t> di Industri Manufaktur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4-09-13T16:22:18Z</dcterms:modified>
  <cp:revision>74</cp:revision>
  <dc:subject/>
  <dc:title>PowerPoint Presentation</dc:title>
</cp:coreProperties>
</file>