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9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png" ContentType="image/png"/>
  <Override PartName="/ppt/media/image2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CF8-A362-4D58-8F72-6336848A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7F1-65D5-4F3D-9FFE-EE2F8407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598-164B-4054-8A6D-014FCD27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2C-E77D-4049-9D03-4CDDE079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2A00-E43A-4355-A7C3-D26224D6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77FE-46FF-43B3-9DFD-EF3B1D6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7AA3-FEBF-4E11-B029-951D6A0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C8C1-B60C-4239-B49D-4EDDCB9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F0F-C5BF-4921-8CA3-3C48A63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265-359F-465F-ADC9-3EF509D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5531-8730-480B-AAAB-4929605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727-B121-4D1A-B058-437F6DB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B03-A174-4ADE-A943-0EE0CFC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542A-957A-4190-A451-755BFE3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D4D-C1D0-4026-889E-791C727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57BF-577C-458F-BF65-09080D18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E2C-22A1-4874-A0C5-EC04C42B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FFF-14BB-4DBC-B947-97DCCFA1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F8C-AC6C-4AD0-B044-DD1E77E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982-345D-487B-A4E7-7FDA3355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95E-444C-4CC7-B3D5-45BF13C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132-74BF-4A10-8D6B-13AEBB7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CA7-D5C1-4392-8EB3-5F94021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FFB-C701-44E3-9BF2-B4AF261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9BB2-636D-4034-8BE7-7E8F8EE5A039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1B48-6CD7-4AF8-B862-A37EE113C0A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536-8C93-45A9-9211-1BADFE19F3A2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A5D-C7AF-4F53-B9DD-BC2B226E366E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PERKANTORAN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202D-DC99-489F-A73A-EE276657E5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EAFF6E-043A-41F2-BD1E-C8D1B02D90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5D3-50BF-464E-9344-6ABAD999F2C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823B2-4DCB-4008-B84D-5D0EA3539B4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D36E1-78B2-4F61-9318-B3DA1CCC147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AMORGANI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890-D90C-4074-BE96-9BDE1FAC31A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93695-FEE4-485B-AE40-CC02CB52E4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5416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SIUPIK (Sistem Informasi untuk PENGUSAHA dan INDUSTRI KECIL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523-8F0E-4CC9-AE45-606F7A7EEE8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20AE4-16B9-4631-8D65-1C74085755C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E79-8077-451A-84C6-C238A162B4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5842-83A3-4711-BA08-DAE08018BF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296-A892-485F-A935-CD1CAF6DAC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E1883-181D-4DDD-863D-9BD82F1F26D7}" type="datetime1">
              <a:rPr lang="en-US"/>
              <a:t>07/31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KOMENDAS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rlu diingat bahwa setiap sistem informasi itu tidak saling  men-substitusi satu sama lai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nentu kebijakan mesti cermat dan pandai-pandai memilah-milah pekerja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eknologi memang mestilah diterapkan secara tepat-guna (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appropriate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Kecanggihan bukanlah jaminan beresnya urusan, demikian pula sebaliknya, kesederhanaan malah mungkin bisa menyelesaikan masalah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idaklah bijaksana untuk menerapkan teknologi canggih untuk sekedar latah dan ikut-ikutan, atau hanya karena sedang “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nge-trend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” saj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386-0ED2-4F26-8AA6-241EE839A1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1E41A-474C-43BC-9D60-7680BD0DB16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101-8A28-4C72-BBC3-28869895BB5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94485C-5EEB-4A83-BB23-D0ED05DAA7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C0B-716A-4ABA-9D6C-C622F59A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27B-F0DF-4CD6-84DF-0F181B38FD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terintegrasiny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tiga) h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erj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kat (khususnya: KOMPUTE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ber Daya Manu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AMCONFUS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bd05515_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403F-2F65-4104-BCD1-FF26CBC0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62F-CD13-4540-9BD0-4F74F7B64D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AMCONFUS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EE8-6B54-4AA0-B1CC-5FE9578F0A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4AB95-ABDE-47B5-B578-1DE0EE68E679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1FA-FBA4-458E-98F7-CAA63B4D51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9E6F-CAA1-40B2-BDBB-F9B8BCBBDB1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205-4677-40FA-A397-86B6231466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AB191-E88C-469C-9027-32409A01D6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3F9-7147-4B00-8E09-F3042B7B44B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647AB-F41C-45C3-BB78-3613DA3B3446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AB4-F9D6-4E3D-94E5-C1D2B8DF1C5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C879C-223A-43E4-998D-FE7847A857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12-17T14:01:24Z</dcterms:modified>
  <cp:revision>73</cp:revision>
  <dc:subject/>
  <dc:title>PowerPoint Presentation</dc:title>
</cp:coreProperties>
</file>