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jpeg" ContentType="image/jpeg"/>
  <Override PartName="/ppt/media/TYPE.WAV" ContentType="audio/x-wav"/>
  <Override PartName="/ppt/media/image5.wmf" ContentType="image/x-wmf"/>
  <Override PartName="/ppt/media/EXPLODE.WAV" ContentType="audio/x-wav"/>
  <Override PartName="/ppt/media/image4.wmf" ContentType="image/x-wmf"/>
  <Override PartName="/ppt/media/image27.wmf" ContentType="image/x-wmf"/>
  <Override PartName="/ppt/media/image6.wmf" ContentType="image/x-wmf"/>
  <Override PartName="/ppt/media/image23.wmf" ContentType="image/x-wmf"/>
  <Override PartName="/ppt/media/image11.jpeg" ContentType="image/jpeg"/>
  <Override PartName="/ppt/media/image9.jpeg" ContentType="image/jpeg"/>
  <Override PartName="/ppt/media/image25.wmf" ContentType="image/x-wmf"/>
  <Override PartName="/ppt/media/image7.wmf" ContentType="image/x-wmf"/>
  <Override PartName="/ppt/media/image8.jpeg" ContentType="image/jpeg"/>
  <Override PartName="/ppt/media/image26.wmf" ContentType="image/x-wmf"/>
  <Override PartName="/ppt/media/RICOCHET.WAV" ContentType="audio/x-wav"/>
  <Override PartName="/ppt/media/image3.wmf" ContentType="image/x-wmf"/>
  <Override PartName="/ppt/media/applause.wav" ContentType="audio/x-wav"/>
  <Override PartName="/ppt/media/image2.wmf" ContentType="image/x-wmf"/>
  <Override PartName="/ppt/media/image29.png" ContentType="image/png"/>
  <Override PartName="/ppt/media/WHOOSH.WAV" ContentType="audio/x-wav"/>
  <Override PartName="/ppt/media/image1.png" ContentType="image/png"/>
  <Override PartName="/ppt/media/image12.jpeg" ContentType="image/jpeg"/>
  <Override PartName="/ppt/media/image13.jpeg" ContentType="image/jpeg"/>
  <Override PartName="/ppt/media/image10.jpeg" ContentType="image/jpeg"/>
  <Override PartName="/ppt/media/image14.png" ContentType="image/png"/>
  <Override PartName="/ppt/media/image28.wmf" ContentType="image/x-wmf"/>
  <Override PartName="/ppt/media/CHIMES.WAV" ContentType="audio/x-wav"/>
  <Override PartName="/ppt/media/image18.wmf" ContentType="image/x-wmf"/>
  <Override PartName="/ppt/media/image20.wmf" ContentType="image/x-wmf"/>
  <Override PartName="/ppt/media/CAMERA.WAV" ContentType="audio/x-wav"/>
  <Override PartName="/ppt/media/image24.wmf" ContentType="image/x-wmf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0F65-6382-4C00-B029-FDFCC4578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3C53-8C20-423E-A4A9-5B0E9199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F320-FD02-42CF-A9AB-8559FF1D4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0702-CE94-4E47-88CB-1D1C4BC94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CF72-C281-4A1D-8B83-9136DC2F2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97B8-CE6B-4E85-838D-E66B1B96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2513-938C-40C0-B050-1B182BF8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6599-230A-4108-9DF3-7DE2ECB8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E24D7-E669-4EFA-BC77-25C4AC44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CCFC-95C6-444A-A3BC-23DC1C75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A1812-B906-46FF-9660-B2B2C9BF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7D11-4CB3-49F2-9A84-6C4DB080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B301-E7E1-44B0-AF2A-8D12C9C1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C967A-87F3-475A-85D1-371CE9AA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7DBE7-1B6C-4438-8ACE-6D069435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2CDC-910C-44E8-9431-57457933D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CC9A-3CD5-4A89-87D4-BAAACC4A3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0067-6160-4526-BF6A-C667E542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6C15-5001-4B95-8C76-8EC89342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7032-0576-46AC-8129-95FAE2BA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24F0-167B-47DF-A9D8-99DB5229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1FC8-8FA6-4ED1-9CE5-B13CA9D9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BAD1-033D-42DA-9E7D-8A015BBF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7B05-F4B4-4239-BAAA-CA6D6722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61C8-AC27-46AF-BCD4-5975EAF354F5}" type="datetime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DB74-DD26-4DD2-82BC-B939FBE82C83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4D62-D47A-4965-8B55-B325FA6FF9A4}" type="datetime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796D-54A8-4033-A2D1-D463C8C9BA34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WHOOSH.WAV"/><Relationship Id="rId3" Type="http://schemas.openxmlformats.org/officeDocument/2006/relationships/audio" Target="../media/TYPE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0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2.wmf"/><Relationship Id="rId17" Type="http://schemas.openxmlformats.org/officeDocument/2006/relationships/audio" Target="../media/EXPLODE.WAV"/><Relationship Id="rId18" Type="http://schemas.openxmlformats.org/officeDocument/2006/relationships/audio" Target="../media/WHOOSH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CAMERA.WAV"/><Relationship Id="rId2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audio" Target="../media/RICOCHET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audio" Target="../media/RICOCHET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wmf"/><Relationship Id="rId3" Type="http://schemas.openxmlformats.org/officeDocument/2006/relationships/image" Target="../media/image7.wmf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EXPLODE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Tahoma"/>
              </a:rPr>
              <a:t>SISTEM INFORMASI DI DUNIA PENDIDIKAN TINGGI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2120" y="39621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oleh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 S. Sadj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@unhas.ac.i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http://www.unhas.ac.id/~rhiza/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F305-A187-40F5-839B-28B390AF9189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38E6894-309B-4970-B008-30C375E23EF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295280" y="411120"/>
          <a:ext cx="7162920" cy="644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11120"/>
                    <a:ext cx="716292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a"/>
                </a:solidFill>
                <a:latin typeface="Arial"/>
              </a:rPr>
              <a:t>KOMPOSISI TENAGA KERJA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F39F-5C9E-484E-B4F3-CDDBC128D2CD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E561DE-DD5E-4F07-9443-4F6B8018150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4519440" cy="34671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19720" y="1371600"/>
            <a:ext cx="3886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-produksi …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golah………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-distribusikan 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94360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07320" y="33526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29200" y="3886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produks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59560" y="441972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TEKNOLOGI INFORM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95680" y="5486400"/>
            <a:ext cx="11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Arial"/>
              </a:rPr>
              <a:t>CIO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6933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bd189"/>
                </a:solidFill>
                <a:latin typeface="Arial"/>
              </a:rPr>
              <a:t>Pekerja informas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55627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…………………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. sekretaris dan manajer ……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42184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COMPUT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905120" y="1219320"/>
            <a:ext cx="2628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uter .......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419720" y="914400"/>
            <a:ext cx="380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086600" y="990720"/>
          <a:ext cx="1550880" cy="14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990720"/>
                    <a:ext cx="155088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5638680" y="1447920"/>
          <a:ext cx="123840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1447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7543800" y="3505320"/>
          <a:ext cx="1332000" cy="144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43800" y="3505320"/>
                    <a:ext cx="133200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8020080" y="5029200"/>
          <a:ext cx="1123920" cy="160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020080" y="5029200"/>
                    <a:ext cx="11239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0" y="5102280"/>
          <a:ext cx="2209680" cy="157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5102280"/>
                    <a:ext cx="220968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438280" y="5486400"/>
          <a:ext cx="1884600" cy="97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38280" y="5486400"/>
                    <a:ext cx="188460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6324480" y="5334120"/>
          <a:ext cx="1374840" cy="1523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24480" y="5334120"/>
                    <a:ext cx="13748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236160" cy="29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Mesin Ketik Canggih?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HIBURAN: Games, VCD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Lemari ARSIP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KOMUNIKASI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Bantu ADMINISTRASI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5286C0-5B31-49DD-A808-6EE83C937C21}" type="datetime1">
              <a:rPr lang="en-US"/>
              <a:t>07/31/26</a:t>
            </a:fld>
          </a:p>
        </p:txBody>
      </p:sp>
    </p:spTree>
  </p:cSld>
  <p:transition spd="med">
    <p:wipe dir="r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55ba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18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97c0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04920" y="3581280"/>
            <a:ext cx="2130480" cy="29908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Tingkatan-Tingkatan Sistem Informasi (1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28600" y="990720"/>
          <a:ext cx="8915400" cy="5867280"/>
        </p:xfrm>
        <a:graphic>
          <a:graphicData uri="http://schemas.openxmlformats.org/drawingml/2006/table">
            <a:tbl>
              <a:tblPr/>
              <a:tblGrid>
                <a:gridCol w="2228760"/>
                <a:gridCol w="2229120"/>
                <a:gridCol w="2228760"/>
                <a:gridCol w="2228760"/>
              </a:tblGrid>
              <a:tr h="156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29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MANU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nsil, Ballpoint, Buku Tulis, Mesin Tik sampai ke P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dak ada, atau paket-paket perangkat lunak “generik” yang tersedia, seperti pengolah kata, 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pread-sheet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, dst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gandalkan kemampuan manusiawi: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kuntabilitas, ketelitian, ingatan, keuletan, dst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2743200" y="5398920"/>
          <a:ext cx="1550880" cy="145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5398920"/>
                    <a:ext cx="155088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A2E2-2577-44EB-BBC6-1C65B9A24793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CD6DF9-F844-4211-B198-A516278409C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18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Tingkatan-Tingkatan Sistem Informasi (2)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1143000"/>
          <a:ext cx="9144000" cy="45259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57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KOMPUTE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KOMPUTER umumnya P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ket-paket yang dibangun untuk keperluan yang spesifik, misalnya paket software untuk administrasi dan simulasi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kerjaan yang berulang, rutin, membosankan, memerlukan ketelitian dan ingatan kuat, yang berpeluang terjadi kesalahan manusiawi, dibantu dengan KOMPUTER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2666880" y="3733920"/>
          <a:ext cx="12384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733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2514600" y="5257800"/>
          <a:ext cx="188424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5257800"/>
                    <a:ext cx="18842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04920" y="4495680"/>
          <a:ext cx="1736640" cy="188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4495680"/>
                    <a:ext cx="173664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81F8-4EAA-4CE0-A61D-0496EB61EB9A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457AFB-877A-4DC7-B1AF-50C71C4BD7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Tingkatan-Tingkatan Sistem Informasi (3)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0" y="838080"/>
          <a:ext cx="9144000" cy="57913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72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 JARINGAN KOMPUTE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KOMPUTER(PC, Workstation, Server), perangkat jaringan (NIC, HUB, BRIDGE, SWITCH), sistem telekomunikasi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ket-paket perangkat lunak berbasis jaring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source sharing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, bisa diakses dan meng-akses dari dan ke sistem informasi lai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228600" y="4956120"/>
          <a:ext cx="1905120" cy="19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956120"/>
                    <a:ext cx="190512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609480" y="4038480"/>
          <a:ext cx="1694160" cy="114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038480"/>
                    <a:ext cx="169416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4876920" y="4114800"/>
            <a:ext cx="1746000" cy="245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49D2-80AC-481F-AD76-B68681816C46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4F3F22-6C59-471E-918A-48B844460D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CONTOH APLIKASI TEKNOLOGI INFORMASI DI JURUSAN TEKNIK SIPIL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94920" y="2590920"/>
            <a:ext cx="346716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rus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ose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takulia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00240" y="2819520"/>
            <a:ext cx="3801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kanika Fluida (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Fluid Mechanic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20574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Websit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00600" y="20574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Laboratoriu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7450200" y="1066680"/>
          <a:ext cx="1693800" cy="11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0200" y="1066680"/>
                    <a:ext cx="169380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0" y="4648320"/>
          <a:ext cx="1905120" cy="190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648320"/>
                    <a:ext cx="190512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8007-E842-4EE4-9831-98BB90DAC1F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0D890E-27E1-476C-B922-AA226B2E8E6E}" type="datetime1">
              <a:rPr lang="en-US"/>
              <a:t>07/31/26</a:t>
            </a:fld>
          </a:p>
        </p:txBody>
      </p:sp>
    </p:spTree>
  </p:cSld>
  <p:transition spd="slow" advTm="89000">
    <p:wipe dir="r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6661-9E9F-46E2-B076-EF76F773ABF3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7DCC054-5FD3-4F4B-9606-09575B441E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EF9B-375C-4BED-AB70-2B8EB211E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F8AE-BFD1-4CCC-AD4E-099FFC14E7E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ATAR BELAKANG MASALAH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 Dharma Pendidikan Tinggi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didik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elitian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gabdian Pada Masyaraka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657600" y="2133720"/>
            <a:ext cx="1857240" cy="3995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486400" y="4267080"/>
            <a:ext cx="2438280" cy="187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7010280" y="2971800"/>
          <a:ext cx="1551240" cy="145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2971800"/>
                    <a:ext cx="155124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5334120" y="1828800"/>
            <a:ext cx="1630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" dur="1" fill="hold"/>
                                  <p:tgtEl>
                                    <p:spTgt spid="11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EDF5-2326-4284-A479-B313A337E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8308-2B8E-4288-9A5A-4ED5CF555C4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05120" y="1592280"/>
            <a:ext cx="6906960" cy="5265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914400" y="114300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Situasi Hari Ini ……….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6960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ari Hiroshima-Nagasaki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ke WTC 911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ampai Bom di Bali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 Makassar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 Marriott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OM………BOM…….. BOM……BO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6781680" y="0"/>
            <a:ext cx="1517760" cy="2743200"/>
          </a:xfrm>
          <a:prstGeom prst="rect">
            <a:avLst/>
          </a:prstGeom>
          <a:ln w="0">
            <a:noFill/>
          </a:ln>
        </p:spPr>
      </p:pic>
    </p:spTree>
  </p:cSld>
  <p:transition spd="slow" advTm="61000"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ITUASI HARI IN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8381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Gambaran situasi GLOBAL masa kini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Persaingan Global di era pasar beb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Meningkatnya kekerasan dan kerusuha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Serba cepat, serba jalan pintas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serba  STRESSSSSS ………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1DD1-59D7-47DD-88A6-9FF413EF150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CDA264-CEDF-4498-95FC-4E24CF962B44}" type="datetime1">
              <a:rPr lang="en-US"/>
              <a:t>07/31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ekilas Sejarah Peradab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04920" y="1600200"/>
          <a:ext cx="8534160" cy="420228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94624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ra Peradab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ssue Sentr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istiwa Dahsy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TANI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AHAN TAN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VOLUSI SOSIAL dan KEMERDEKA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DUST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NERG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IROSHIMA NAGASAK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3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TC 91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B869-AB7F-40FF-A933-BE3465748A81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A23D24-AE19-4BD6-B37A-CFAC51252455}" type="datetime1">
              <a:rPr lang="en-US"/>
              <a:t>07/31/26</a:t>
            </a:fld>
          </a:p>
        </p:txBody>
      </p:sp>
    </p:spTree>
  </p:cSld>
  <p:transition spd="med">
    <p:wipe dir="r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477120" y="0"/>
            <a:ext cx="266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8792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809880" y="3543480"/>
            <a:ext cx="5334120" cy="33145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809880" y="1219320"/>
            <a:ext cx="3733920" cy="230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344E-4890-4C8D-8CB3-23CEB452E519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27403D-BF07-44EE-B853-0C246D6B81D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3735360" cy="4191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759120" y="0"/>
            <a:ext cx="2911680" cy="4381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6676920" y="1371600"/>
            <a:ext cx="2467080" cy="4324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705360" y="-360"/>
            <a:ext cx="2438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57B9-016F-44F5-8129-1CEDE862AE29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E386DE-894E-43CD-AC91-FF04404D08A5}" type="datetime1">
              <a:rPr lang="en-US"/>
              <a:t>07/31/26</a:t>
            </a:fld>
          </a:p>
        </p:txBody>
      </p:sp>
    </p:spTree>
  </p:cSld>
  <p:transition spd="med">
    <p:wipe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848360" cy="594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143A-F415-4BFD-8936-E380E3B66F68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2D942B-081D-4429-9C77-1AE5C372A19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1828800"/>
            <a:ext cx="3886200" cy="2971800"/>
          </a:xfrm>
          <a:prstGeom prst="ellipse">
            <a:avLst/>
          </a:pr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2514600"/>
            <a:ext cx="396252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Masyarakat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nyata”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4343400"/>
            <a:ext cx="1143000" cy="1143000"/>
          </a:xfrm>
          <a:prstGeom prst="ellipse">
            <a:avLst/>
          </a:prstGeom>
          <a:solidFill>
            <a:srgbClr val="000054"/>
          </a:solidFill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47242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ASYARAKAT” MAY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00600" y="380880"/>
            <a:ext cx="3809880" cy="3353040"/>
          </a:xfrm>
          <a:prstGeom prst="ellipse">
            <a:avLst/>
          </a:prstGeom>
          <a:noFill/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210280" y="1066680"/>
            <a:ext cx="318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MASYARAKAT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9828800">
            <a:off x="3809880" y="2361960"/>
            <a:ext cx="2133720" cy="609480"/>
          </a:xfrm>
          <a:custGeom>
            <a:avLst/>
            <a:gdLst>
              <a:gd name="textAreaLeft" fmla="*/ 333360 w 2133720"/>
              <a:gd name="textAreaRight" fmla="*/ 1867320 w 21337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9544400">
            <a:off x="3373200" y="3477960"/>
            <a:ext cx="3298680" cy="709560"/>
          </a:xfrm>
          <a:custGeom>
            <a:avLst/>
            <a:gdLst>
              <a:gd name="textAreaLeft" fmla="*/ 515160 w 3298680"/>
              <a:gd name="textAreaRight" fmla="*/ 2886480 w 3298680"/>
              <a:gd name="textAreaTop" fmla="*/ 177480 h 709560"/>
              <a:gd name="textAreaBottom" fmla="*/ 532440 h 709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608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bd189"/>
                </a:solidFill>
                <a:latin typeface="Arial"/>
              </a:rPr>
              <a:t>The Information Society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3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tiara S. Sadjad</cp:lastModifiedBy>
  <dcterms:modified xsi:type="dcterms:W3CDTF">2005-02-03T14:30:11Z</dcterms:modified>
  <cp:revision>83</cp:revision>
  <dc:subject/>
  <dc:title>PowerPoint Presentation</dc:title>
</cp:coreProperties>
</file>