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jpeg" ContentType="image/jpeg"/>
  <Override PartName="/ppt/media/TYPE.WAV" ContentType="audio/x-wav"/>
  <Override PartName="/ppt/media/image5.wmf" ContentType="image/x-wmf"/>
  <Override PartName="/ppt/media/EXPLODE.WAV" ContentType="audio/x-wav"/>
  <Override PartName="/ppt/media/image4.wmf" ContentType="image/x-wmf"/>
  <Override PartName="/ppt/media/image27.wmf" ContentType="image/x-wmf"/>
  <Override PartName="/ppt/media/image6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25.wmf" ContentType="image/x-wmf"/>
  <Override PartName="/ppt/media/image7.wmf" ContentType="image/x-wmf"/>
  <Override PartName="/ppt/media/image8.jpeg" ContentType="image/jpeg"/>
  <Override PartName="/ppt/media/image26.wmf" ContentType="image/x-wmf"/>
  <Override PartName="/ppt/media/RICOCHET.WAV" ContentType="audio/x-wav"/>
  <Override PartName="/ppt/media/image3.wmf" ContentType="image/x-wmf"/>
  <Override PartName="/ppt/media/applause.wav" ContentType="audio/x-wav"/>
  <Override PartName="/ppt/media/image2.wmf" ContentType="image/x-wmf"/>
  <Override PartName="/ppt/media/image29.png" ContentType="image/png"/>
  <Override PartName="/ppt/media/WHOOSH.WAV" ContentType="audio/x-wav"/>
  <Override PartName="/ppt/media/image1.png" ContentType="image/png"/>
  <Override PartName="/ppt/media/image12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CAMERA.WAV" ContentType="audio/x-wav"/>
  <Override PartName="/ppt/media/image24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FD8-B30C-4677-AD8E-B8F125B9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0AE-9B95-4069-8B80-7F14FD08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6B0-83E7-41B6-88D5-85E3B970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3F3-A4D8-44DD-8970-D15D9283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CE0E-FB1F-4E68-95A9-C115F7E6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4284-A066-4CED-B9A4-7030E1AD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5B31-26A6-412E-AF1A-ED60531B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AF54-32DA-4855-9158-85C5DB77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2FC2-40FF-4FC4-B315-76159009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B8A7-9F26-4AA4-BFB8-E06EB49C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77CD-99EB-4BD6-B6EB-54F7968D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2C0-E241-41F3-9A87-7E98AEAB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B4A3-6CD0-4422-AE52-E4A3CA5E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F49F-5C3F-4981-AB54-0CEF41A8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CC85-AE7C-4D34-81D2-27259343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348B-EB8C-4C81-BB41-BA32C126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D57C-F8DA-46DB-8555-47C84AC4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846-6B3A-4F80-A08C-4646065E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5F5-9C35-4B33-A5F8-58CB724A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513-41DA-4B9C-87CF-10AD7BDC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74F-18FF-4F64-993E-41C5431F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139-4F36-44F6-8D53-82F3F580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75C4-760B-4C5F-A7EA-EBF47BB0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AA77-0F5A-410F-9FE6-A5E472B8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F23D-2E09-47FA-A2C5-11CA5C9A27FB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7204-2CBF-46CA-9CC0-CCEDB6D896BD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A314-3B6D-42BC-994A-BCA38556D818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7531-E1DE-4918-89FF-C87467973444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2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audio" Target="../media/RICOCHET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Tahoma"/>
              </a:rPr>
              <a:t>SISTEM INFORMASI DI DUNIA PENDIDIKAN TINGGI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5F9B-CD14-447F-AB62-265C6A2D9EC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48C4EB1-10FE-4C21-B920-84309FFD86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33F-1B08-470A-AB95-D4B2DD8EA8B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A3AAA-56F5-475D-BC1B-B866436DE5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5627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1E877-6BCC-44D1-B1C5-7367E6450052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87B-6A2A-40BA-AA1B-F50316AD458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DC512-C440-4FF6-A7F3-BAA2C53F0C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98F-740F-4ED2-9446-F24154020FB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4B165-21DA-44FA-B6E9-CEB3A8C423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340-811F-460B-BB84-965749CECC0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042B2-53ED-4425-8FFB-BD341E390B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CONTOH APLIKASI TEKNOLOGI INFORMASI DI JURUSAN TEKNIK SIPI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34671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rus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s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takulia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kanika Fluida (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Fluid Mechanic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ebsi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aboratoriu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23C-C0E0-48D2-B5F5-6B95A91377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3C2C9-0EC1-4D73-9136-B2B41954D795}" type="datetime1">
              <a:rPr lang="en-US"/>
              <a:t>07/31/26</a:t>
            </a:fld>
          </a:p>
        </p:txBody>
      </p:sp>
    </p:spTree>
  </p:cSld>
  <p:transition spd="slow" advTm="89000">
    <p:wipe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0F66-4AA2-4988-84B5-EE8E494065A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DFFA8AF-1160-4763-875F-BC8482D4E6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A482-458A-41EC-A702-77A7E1462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2531-09FA-4ECB-9570-CF0B8646757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TAR BELAKANG MASALAH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 Dharma Pendidikan Tinggi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didik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elitian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abdian Pada Masyarak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1857240" cy="3995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86400" y="4267080"/>
            <a:ext cx="2438280" cy="18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010280" y="2971800"/>
          <a:ext cx="155124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971800"/>
                    <a:ext cx="155124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334120" y="1828800"/>
            <a:ext cx="1630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98D5-5720-433F-ADE6-673500E8C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F846-A054-464F-8729-31E9524EABE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FC9-696D-4362-A9E7-81DEF13F3D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AC5B2-EDDB-4B91-86BD-E6ABE8C204FD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097-71AC-4B06-A7ED-E401995B05C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498C9-0AAE-4E11-B263-728B8552FD69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36F-CCEC-46DE-8D19-B3E03AF9D42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B2DDA-5A67-45ED-BF6E-B40AB1B703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5BD-90CD-4FB4-BA48-14E9BA44740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5EAA4-D130-4BDD-AB2B-9F9F656317FD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0E8-3852-47F1-9520-A903E061A10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1D05A-FA44-453E-9DA8-A34C59E809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2-03T14:30:11Z</dcterms:modified>
  <cp:revision>83</cp:revision>
  <dc:subject/>
  <dc:title>PowerPoint Presentation</dc:title>
</cp:coreProperties>
</file>