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wmf" ContentType="image/x-wmf"/>
  <Override PartName="/ppt/media/image10.jpeg" ContentType="image/jpeg"/>
  <Override PartName="/ppt/media/image8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FAF6-459F-48EC-87AE-1B5227E5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D42-7741-4BF0-9372-65BDFE55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631-A267-49B5-AF83-EF13BA08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3C7-AB16-4FC9-B34A-36AF4C09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8597-FAFC-429F-9CFA-E5A64D4C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E4A5-10EC-4865-B2CB-5925A3AE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D81A-33C6-4800-A757-714876D5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9C0A-5F1A-4E4F-A20B-CB8B9D82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5526-94A3-4656-8492-A2F6C7AB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A73B-0623-46F7-8101-9F7F0B64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42E8-0D7D-4E4F-BF06-A94FB17B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40F-C1F7-4DE2-95B1-C07A2896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B6BF-3690-40B5-A3EE-DE67364B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848E-D4AC-408E-BEAA-4C6B1278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AD32-0855-4489-A0A1-8B5C55DA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BCA6-41E3-46BD-A93E-FA28E305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5D97-B40E-45F1-BB71-A35058A6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4BE1-96AD-443C-A35C-9F9CFD04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FEE8-BC41-4035-B9F5-D8D03122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D78-0531-4E82-AFF4-F48B25BA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8D9-5CB7-4F69-B233-D0D64225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0C7-1D2E-439A-9222-0F642CE2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6CE-3873-4A60-A3DB-D26701A8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4C3-7871-4744-BB34-071AB793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64F3-7F26-4143-BF86-B23043FFA8F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06F0-EF46-4B7D-93CD-C1ECF0880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F00C-298C-4AE8-8082-21FD2A5245B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035D-E0B6-4320-952B-2F2D0C601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ERANAN ILMUWAN DAN TEKNOLOG MUSLIM DALAM ERA INFORMASI GLOBAL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45EA-2B73-47BF-B67E-D7B8EBBC258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B57289B-2DED-4AC2-8C82-8F0D48C7ED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86400"/>
            <a:ext cx="70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 sekretaris dan manajer ……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NIA ILMU PENGETAH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AMCONFUS" descr=""/>
          <p:cNvPicPr/>
          <p:nvPr/>
        </p:nvPicPr>
        <p:blipFill>
          <a:blip r:embed="rId1"/>
          <a:stretch/>
        </p:blipFill>
        <p:spPr>
          <a:xfrm>
            <a:off x="4572000" y="3352680"/>
            <a:ext cx="1062000" cy="2286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57400" y="990720"/>
            <a:ext cx="6324480" cy="5181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1066680"/>
            <a:ext cx="7632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281952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ALAM GA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274320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ALAM NY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B50-3CDE-40F8-A9B1-17895F88624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126CC-E67C-4357-AE28-B607B78809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971800" y="3359160"/>
            <a:ext cx="3657600" cy="2743200"/>
            <a:chOff x="2971800" y="3359160"/>
            <a:chExt cx="3657600" cy="2743200"/>
          </a:xfrm>
        </p:grpSpPr>
        <p:pic>
          <p:nvPicPr>
            <p:cNvPr id="150" name="AMCONFUS" descr=""/>
            <p:cNvPicPr/>
            <p:nvPr/>
          </p:nvPicPr>
          <p:blipFill>
            <a:blip r:embed="rId1"/>
            <a:stretch/>
          </p:blipFill>
          <p:spPr>
            <a:xfrm>
              <a:off x="4425840" y="4609440"/>
              <a:ext cx="614160" cy="12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971800" y="3359160"/>
              <a:ext cx="3657600" cy="2743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78280" y="3399120"/>
              <a:ext cx="43920" cy="270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24240" y="4327200"/>
              <a:ext cx="1057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GA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86080" y="4286160"/>
              <a:ext cx="105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NY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590920" y="380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NG MAHA PENCIPTA (al-Khali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990720"/>
            <a:ext cx="838080" cy="3429000"/>
          </a:xfrm>
          <a:prstGeom prst="downArrow">
            <a:avLst>
              <a:gd name="adj1" fmla="val 50000"/>
              <a:gd name="adj2" fmla="val 1022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11430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ORM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ahy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ra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C5FA-7E0B-4DF0-A96F-2BFB78188503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01690-AE8E-44DC-8A6B-8E59AEC36D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-2438280" y="380880"/>
            <a:ext cx="11582280" cy="6248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AMCONFUS" descr=""/>
          <p:cNvPicPr/>
          <p:nvPr/>
        </p:nvPicPr>
        <p:blipFill>
          <a:blip r:embed="rId1"/>
          <a:stretch/>
        </p:blipFill>
        <p:spPr>
          <a:xfrm>
            <a:off x="0" y="1828800"/>
            <a:ext cx="1415880" cy="3048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809880" y="1295280"/>
            <a:ext cx="40579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ALAM NY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iptaan al-Khali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usia, makhluk hidup, benda-benda, zat-zat, langit dan b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662280"/>
            <a:ext cx="17524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B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kn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mbel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el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gka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AMCONFUS" descr=""/>
          <p:cNvPicPr/>
          <p:nvPr/>
        </p:nvPicPr>
        <p:blipFill>
          <a:blip r:embed="rId2"/>
          <a:stretch/>
        </p:blipFill>
        <p:spPr>
          <a:xfrm>
            <a:off x="8001000" y="2362320"/>
            <a:ext cx="7081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371600" y="304812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1600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3429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immaterial: interaksi sosial, hubungan antar manusia, negara, ipoleksosbud, filsa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066680" y="0"/>
            <a:ext cx="914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219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TRANCENDENTAL: ma’rifatullah, d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5029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AM REKAYASA (The artificial, man-made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581280"/>
            <a:ext cx="449604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4724280"/>
            <a:ext cx="3200400" cy="1752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487692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4876920"/>
            <a:ext cx="152280" cy="3045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F589-E7F4-4D7B-BEDD-B62C1E2876CF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2D7AE-C1C5-496B-9FC8-76EFA2188A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-2438280" y="380880"/>
            <a:ext cx="11582280" cy="6248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AMCONFUS" descr=""/>
          <p:cNvPicPr/>
          <p:nvPr/>
        </p:nvPicPr>
        <p:blipFill>
          <a:blip r:embed="rId1"/>
          <a:stretch/>
        </p:blipFill>
        <p:spPr>
          <a:xfrm>
            <a:off x="0" y="1828800"/>
            <a:ext cx="1415880" cy="3048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14400" y="3886200"/>
            <a:ext cx="175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B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kn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mbel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el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gka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AMCONFUS" descr=""/>
          <p:cNvPicPr/>
          <p:nvPr/>
        </p:nvPicPr>
        <p:blipFill>
          <a:blip r:embed="rId2"/>
          <a:stretch/>
        </p:blipFill>
        <p:spPr>
          <a:xfrm>
            <a:off x="8001000" y="2362320"/>
            <a:ext cx="708120" cy="15238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371600" y="304812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1600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066680" y="0"/>
            <a:ext cx="914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3581280"/>
            <a:ext cx="449604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0"/>
            <a:ext cx="274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’RIFATULLAH, TH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685800"/>
            <a:ext cx="274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-ILMU AGAMA WAHYU/SAMA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1676520"/>
            <a:ext cx="3276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-ILMU HUKUM dan SOSIAL –BUDAYA KEMASYARAKAT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3200400"/>
            <a:ext cx="289584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 KESEHATAN dan PSIKOLO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19920" y="4191120"/>
            <a:ext cx="31240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TEMATIK dan 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3600" y="4724280"/>
            <a:ext cx="3200400" cy="1752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5029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AM REKAYASA (The artificial, man-made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19520" y="480060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ERING an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37160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IGIOU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84F8-1398-41DC-9A21-BE8E0231EF6A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A3423-7E02-43A3-82D4-17949EFE06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 flipV="1">
            <a:off x="3733920" y="0"/>
            <a:ext cx="4876560" cy="5029200"/>
          </a:xfrm>
          <a:custGeom>
            <a:avLst/>
            <a:gdLst>
              <a:gd name="textAreaLeft" fmla="*/ 653040 w 4876560"/>
              <a:gd name="textAreaRight" fmla="*/ 4223520 w 4876560"/>
              <a:gd name="textAreaTop" fmla="*/ 879840 h 5029200"/>
              <a:gd name="textAreaBottom" fmla="*/ 3646080 h 502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928880" y="3267000"/>
            <a:ext cx="3159000" cy="2448000"/>
            <a:chOff x="1928880" y="3267000"/>
            <a:chExt cx="3159000" cy="2448000"/>
          </a:xfrm>
        </p:grpSpPr>
        <p:pic>
          <p:nvPicPr>
            <p:cNvPr id="195" name="AMCONFUS" descr=""/>
            <p:cNvPicPr/>
            <p:nvPr/>
          </p:nvPicPr>
          <p:blipFill>
            <a:blip r:embed="rId1"/>
            <a:stretch/>
          </p:blipFill>
          <p:spPr>
            <a:xfrm>
              <a:off x="3184920" y="4382640"/>
              <a:ext cx="53028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928880" y="3267000"/>
              <a:ext cx="3159000" cy="2448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89120" y="3302640"/>
              <a:ext cx="37800" cy="24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33080" y="4131000"/>
              <a:ext cx="913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GA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54080" y="4094280"/>
              <a:ext cx="915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NY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143000" y="609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NG MAHA PENCIPTA (al-Khali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12920" y="1154160"/>
            <a:ext cx="723960" cy="3058920"/>
          </a:xfrm>
          <a:prstGeom prst="downArrow">
            <a:avLst>
              <a:gd name="adj1" fmla="val 50000"/>
              <a:gd name="adj2" fmla="val 10563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21080" y="1289160"/>
            <a:ext cx="177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ORM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ahy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ra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81480" y="3886200"/>
            <a:ext cx="3124440" cy="1556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ERING an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2819520"/>
            <a:ext cx="312444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1295280"/>
            <a:ext cx="312444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IGIOU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57150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 Pengetahuan yang ISLAMI mendekatkan ilmuwan kepada al-Khal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F86F-0CAE-44C1-90D5-964D52A1B4EA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07D1A-544E-4A25-92BC-2529C39B48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7617-5E12-4406-A972-84F45F16771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B127F9A-2BAD-4257-8E40-BC266A68B2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AMDISAST" descr=""/>
          <p:cNvPicPr/>
          <p:nvPr/>
        </p:nvPicPr>
        <p:blipFill>
          <a:blip r:embed="rId1"/>
          <a:stretch/>
        </p:blipFill>
        <p:spPr>
          <a:xfrm>
            <a:off x="2236680" y="1981080"/>
            <a:ext cx="6907320" cy="4876920"/>
          </a:xfrm>
          <a:prstGeom prst="rect">
            <a:avLst/>
          </a:prstGeom>
          <a:ln w="0">
            <a:noFill/>
          </a:ln>
        </p:spPr>
      </p:pic>
      <p:pic>
        <p:nvPicPr>
          <p:cNvPr id="104" name="AMCONFUS" descr=""/>
          <p:cNvPicPr/>
          <p:nvPr/>
        </p:nvPicPr>
        <p:blipFill>
          <a:blip r:embed="rId2"/>
          <a:stretch/>
        </p:blipFill>
        <p:spPr>
          <a:xfrm>
            <a:off x="0" y="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……………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dan Makass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BOMB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6337-8F39-4FEF-83F0-555D5C4FC02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F7989-3D7F-49F5-98AE-D93204442EF0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2120" y="1828800"/>
          <a:ext cx="8001000" cy="3618000"/>
        </p:xfrm>
        <a:graphic>
          <a:graphicData uri="http://schemas.openxmlformats.org/drawingml/2006/table">
            <a:tbl>
              <a:tblPr/>
              <a:tblGrid>
                <a:gridCol w="2619360"/>
                <a:gridCol w="2619360"/>
                <a:gridCol w="2762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 Peradab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 Sent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stiwa Dahsy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TAN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HAN TAN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ROSHIMA NAGASAK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TC 9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012-FF74-4991-A714-8385E66FE44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A343F-97CC-4B63-A882-A8FB34CBF578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attack01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attack10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13" name="attack12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7B4-70C3-4334-8ADD-87A6F946DE2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D8D14-C2C0-4166-AF7F-D298383787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attack03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15" name="wtc_collapse1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16" name="wtc_collapse2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23CB-C1DB-4BD3-A768-3E950E42296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F2FF4-AB6F-4B46-B418-BD73CDD3861E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wtc_collapse3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327-1471-458B-B659-7BF728BBC160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C1048-AB58-40AE-9591-D73FD43B73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1752480"/>
            <a:ext cx="3886200" cy="2971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81952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762120"/>
            <a:ext cx="3810240" cy="33526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144792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9828800">
            <a:off x="3429000" y="19047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9544400">
            <a:off x="3352680" y="3504960"/>
            <a:ext cx="3299040" cy="709560"/>
          </a:xfrm>
          <a:custGeom>
            <a:avLst/>
            <a:gdLst>
              <a:gd name="textAreaLeft" fmla="*/ 515520 w 3299040"/>
              <a:gd name="textAreaRight" fmla="*/ 2886840 w 329904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A188-284B-4F60-8BE2-ADB2E17E207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DD8E5-0B85-4C66-9E98-81FA5BE019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UNIA INDUST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i J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k: Pelaya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Per-Bank-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Pariwis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Telekomunik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Jasa Transport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1676520"/>
            <a:ext cx="380988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i Manufa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k: Ba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S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Miny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Tamb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(peralatan) Telekomunik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535-257A-4625-B72E-0C768CCB5E01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7370B-ED26-4DE5-96FB-05ED9D0B79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2-01T13:45:56Z</dcterms:modified>
  <cp:revision>88</cp:revision>
  <dc:subject/>
  <dc:title>PowerPoint Presentation</dc:title>
</cp:coreProperties>
</file>