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83D-0513-4771-B95A-180DE1D1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858-EF74-4C13-A0F8-EE4ACA5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12A-BB14-4681-8EAD-00175025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69F-772E-4F97-84D5-A292F87E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BCD-5D3A-4074-A726-2F05B0D4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088-9950-453E-B3A2-464528C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733-43E7-40EF-A48C-00D01E33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9FB-3625-4207-A59A-904BABB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C12-D9CF-4645-BE15-FA34796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C4D3-DA14-4129-8D66-C6CB4B2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A22-E13E-46C7-A858-2BA4823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5CC-3A06-4286-AA55-59B50BD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9F3A-DBCA-476E-A7BF-22C8A58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22EE-F565-4640-862B-6C25F8D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1A9-0F2F-4D9D-AD4D-FF905DA1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5899-0F6F-4A1F-8514-87AEFD90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BA0-D7A5-47D3-8702-A1E0226B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B94-1E60-4233-847A-0D79E99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8C0-F387-499F-BE28-7C43D5C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278-BA62-4D09-94AA-E4E0B3EA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D71-7690-4C69-9569-D3998B25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52F-40CB-4D22-8921-65D5820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7F5-FD3B-4CDB-B0A4-BC0D1A9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09A-4D48-41DB-A61C-D72CBA86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FB8-37B6-4BBA-9480-BDE0770F25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4345-5DB8-45F9-9855-4621DBE2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16F4-7C7E-4C2A-8F44-D10E56B805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2C2-489B-4B77-A7B7-8041AC94A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RANAN ILMUWAN DAN TEKNOLOG MUSLIM DALAM ERA INFORMASI GLOB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6CE8-EF91-4171-8E26-6E7337D7334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0F6C6B-515D-45E4-8419-A06EA97111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NIA ILMU PENGETAH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MCONFUS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57400" y="990720"/>
            <a:ext cx="6324480" cy="5181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066680"/>
            <a:ext cx="7632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8195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GA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7432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934-EF63-4136-9053-9D52923F2F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58DA-DD78-4F60-9866-AD286D8E47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150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98A-A415-41BE-AF72-1D35ED055FD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A14E2-46E5-4AC0-9F68-6F406EB105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0DA-31E3-42AA-9200-CDD85343A6A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89DAB-4799-4A25-9E9A-C9C2D67585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11D-6D75-4990-B2F1-4C141F2C458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6BAC-5FCC-4C82-A843-E8A7D307EF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V="1">
            <a:off x="3733920" y="0"/>
            <a:ext cx="4876560" cy="5029200"/>
          </a:xfrm>
          <a:custGeom>
            <a:avLst/>
            <a:gdLst>
              <a:gd name="textAreaLeft" fmla="*/ 653040 w 4876560"/>
              <a:gd name="textAreaRight" fmla="*/ 4223520 w 4876560"/>
              <a:gd name="textAreaTop" fmla="*/ 879840 h 5029200"/>
              <a:gd name="textAreaBottom" fmla="*/ 364608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9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7150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Pengetahuan yang ISLAMI mendekatkan ilmuwan kepada al-Khal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B45-1540-49FB-B0EA-9E422495ABE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4BACF-6189-46BA-851D-B390E9AD9E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15FB-4C33-49F2-A883-1DDA8E49548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9BA26E9-AA16-4AAB-A906-55B40CB9C3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CCF-9554-41CB-81BE-53DD570220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7DD99-9620-4377-AFC7-4C143C5FBE2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828800"/>
          <a:ext cx="8001000" cy="36180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 Peradab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S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TAN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HAN TAN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OSHIMA NAGASA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TC 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7BF-2174-4604-ADF7-197AEDAD4BA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1126-A6F3-48D3-B904-70A356A6ECA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3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B1F-7BF6-4DC3-8532-B87C23BFE77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5C23C-473A-4C4C-BBF1-448FD15CA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5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6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7DD-0F54-4B70-8272-71B20A25D80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A62CB-B5D0-4D0E-82F8-0BA48872B4A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484-F9D7-4902-9096-44BA190DBAB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257D6-EC62-47D9-AE87-1C03E93FFE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F03-6AC0-422B-A169-A9559EC04EF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460CA-7E22-4633-9C47-201F699011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44C-3552-4C78-828E-1F3A5158767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B6B32-EC18-443D-9293-D7361BABF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2-01T13:45:56Z</dcterms:modified>
  <cp:revision>88</cp:revision>
  <dc:subject/>
  <dc:title>PowerPoint Presentation</dc:title>
</cp:coreProperties>
</file>