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wmf" ContentType="image/x-wmf"/>
  <Override PartName="/ppt/media/image19.wmf" ContentType="image/x-wmf"/>
  <Override PartName="/ppt/media/image17.wmf" ContentType="image/x-wmf"/>
  <Override PartName="/ppt/media/DRIVEBY.WAV" ContentType="audio/x-wav"/>
  <Override PartName="/ppt/media/image16.jpeg" ContentType="image/jpeg"/>
  <Override PartName="/ppt/media/TYPE.WAV" ContentType="audio/x-wav"/>
  <Override PartName="/ppt/media/image5.wmf" ContentType="image/x-wmf"/>
  <Override PartName="/ppt/media/image15.wmf" ContentType="image/x-wmf"/>
  <Override PartName="/ppt/media/DRUMROLL.WAV" ContentType="audio/x-wav"/>
  <Override PartName="/ppt/media/image7.wmf" ContentType="image/x-wmf"/>
  <Override PartName="/ppt/media/CAMERA.WAV" ContentType="audio/x-wav"/>
  <Override PartName="/ppt/media/CARBRAKE.WAV" ContentType="audio/x-wav"/>
  <Override PartName="/ppt/media/image9.jpeg" ContentType="image/jpeg"/>
  <Override PartName="/ppt/media/image23.wmf" ContentType="image/x-wmf"/>
  <Override PartName="/ppt/media/image11.jpeg" ContentType="image/jpeg"/>
  <Override PartName="/ppt/media/image8.jpeg" ContentType="image/jpeg"/>
  <Override PartName="/ppt/media/image22.wmf" ContentType="image/x-wmf"/>
  <Override PartName="/ppt/media/applause.wav" ContentType="audio/x-wav"/>
  <Override PartName="/ppt/media/LASER.WAV" ContentType="audio/x-wav"/>
  <Override PartName="/ppt/media/glass.wav" ContentType="audio/x-wav"/>
  <Override PartName="/ppt/media/image6.wmf" ContentType="image/x-wmf"/>
  <Override PartName="/ppt/media/image24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26.wmf" ContentType="image/x-wmf"/>
  <Override PartName="/ppt/media/RICOCHET.WAV" ContentType="audio/x-wav"/>
  <Override PartName="/ppt/media/image3.wmf" ContentType="image/x-wmf"/>
  <Override PartName="/ppt/media/image27.wmf" ContentType="image/x-wmf"/>
  <Override PartName="/ppt/media/image4.wmf" ContentType="image/x-wmf"/>
  <Override PartName="/ppt/media/EXPLODE.WAV" ContentType="audio/x-wav"/>
  <Override PartName="/ppt/media/WHOOSH.WAV" ContentType="audio/x-wav"/>
  <Override PartName="/ppt/media/image1.png" ContentType="image/png"/>
  <Override PartName="/ppt/media/image12.jpeg" ContentType="image/jpeg"/>
  <Override PartName="/ppt/media/image13.jpeg" ContentType="image/jpeg"/>
  <Override PartName="/ppt/media/image10.jpeg" ContentType="image/jpeg"/>
  <Override PartName="/ppt/media/image14.png" ContentType="image/png"/>
  <Override PartName="/ppt/media/image28.wmf" ContentType="image/x-wmf"/>
  <Override PartName="/ppt/media/CHIMES.WAV" ContentType="audio/x-wav"/>
  <Override PartName="/ppt/media/image18.wmf" ContentType="image/x-wmf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D9CC-5C19-4691-BC7C-65279857E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6267-C5CC-4FBA-8E8A-E02CAF3A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57EF-FDCE-4608-9449-BC0F09A93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2301-6AAE-4C65-B863-E68CE2B74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9805-C76B-462B-BDDA-1A457D5AA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114A-3C55-40E2-AFD4-E8378147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02EC-69FA-452A-BD84-18BE493F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EC89-5454-4E99-9C91-9523199F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04D5-9381-4BB9-977F-DFC93A73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5390-04A7-469A-8A3B-0A9C3CF1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24A2-A2C7-4DE7-987A-7D34ACA2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E925-BAA6-451D-BDDF-6AA1BD46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C0C5-039E-444B-B935-FA4F7517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0363-C6EB-4A01-A581-743C0726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2A49-247E-4059-B7C7-6D7C1292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D7E1-EFD9-42EE-A8F6-8D646CCA0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5459-208A-42E9-83F3-398CE1AD4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1CCA-E80E-4623-9C06-FF1D4A30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94FB-B170-4E68-9C5A-0F4BDA4B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3601-16D0-47B2-BACE-30275AA5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267A-114A-4C3A-80B0-419E05F6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8B18-C264-450A-A7F7-4F337B62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12DD-F080-4D63-87FE-87A257E6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112A-9F21-4499-9FB5-1A388D28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9EE9-C569-4B25-9FEA-C7D6F5762DA8}" type="datetime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E648-BEC7-4CEC-B349-930B326939B0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B9DE-C444-4C09-8130-5ACC5C209D3D}" type="datetime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69D8-AA4A-4E3B-9CFB-96250D7B08CF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WHOOSH.WAV"/><Relationship Id="rId3" Type="http://schemas.openxmlformats.org/officeDocument/2006/relationships/audio" Target="../media/TYPE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0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2.wmf"/><Relationship Id="rId17" Type="http://schemas.openxmlformats.org/officeDocument/2006/relationships/audio" Target="../media/EXPLODE.WAV"/><Relationship Id="rId18" Type="http://schemas.openxmlformats.org/officeDocument/2006/relationships/audio" Target="../media/WHOOSH.WAV"/><Relationship Id="rId19" Type="http://schemas.openxmlformats.org/officeDocument/2006/relationships/audio" Target="../media/DRIVEBY.WAV"/><Relationship Id="rId20" Type="http://schemas.openxmlformats.org/officeDocument/2006/relationships/audio" Target="../media/WHOOSH.WAV"/><Relationship Id="rId21" Type="http://schemas.openxmlformats.org/officeDocument/2006/relationships/audio" Target="../media/DRIVEBY.WAV"/><Relationship Id="rId22" Type="http://schemas.openxmlformats.org/officeDocument/2006/relationships/audio" Target="../media/CARBRAKE.WAV"/><Relationship Id="rId23" Type="http://schemas.openxmlformats.org/officeDocument/2006/relationships/audio" Target="../media/WHOOSH.WAV"/><Relationship Id="rId24" Type="http://schemas.openxmlformats.org/officeDocument/2006/relationships/audio" Target="../media/CAMERA.WAV"/><Relationship Id="rId25" Type="http://schemas.openxmlformats.org/officeDocument/2006/relationships/audio" Target="../media/LASER.WAV"/><Relationship Id="rId26" Type="http://schemas.openxmlformats.org/officeDocument/2006/relationships/audio" Target="../media/LASER.WAV"/><Relationship Id="rId27" Type="http://schemas.openxmlformats.org/officeDocument/2006/relationships/audio" Target="../media/LASER.WAV"/><Relationship Id="rId28" Type="http://schemas.openxmlformats.org/officeDocument/2006/relationships/audio" Target="../media/LASER.WAV"/><Relationship Id="rId29" Type="http://schemas.openxmlformats.org/officeDocument/2006/relationships/audio" Target="../media/LASER.WAV"/><Relationship Id="rId30" Type="http://schemas.openxmlformats.org/officeDocument/2006/relationships/audio" Target="../media/LASER.WAV"/><Relationship Id="rId3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audio" Target="../media/WHOOSH.WAV"/><Relationship Id="rId8" Type="http://schemas.openxmlformats.org/officeDocument/2006/relationships/audio" Target="../media/CARBRAKE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audio" Target="../media/RICOCHET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audio" Target="../media/RICOCHET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wmf"/><Relationship Id="rId3" Type="http://schemas.openxmlformats.org/officeDocument/2006/relationships/image" Target="../media/image7.wmf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EXPLODE.WAV"/><Relationship Id="rId5" Type="http://schemas.openxmlformats.org/officeDocument/2006/relationships/audio" Target="../media/DRIVEBY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Tahoma"/>
              </a:rPr>
              <a:t>SISTEM INFORMASI DI DUNIA PENDIDIKAN TINGGI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2120" y="39621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oleh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 S. Sadj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@unhas.ac.i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http://www.unhas.ac.id/~rhiza/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C93E-1559-4AB0-B39A-07883E495C6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F3EC3E9-7F4C-45C1-95D3-450E3377A4B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295280" y="411120"/>
          <a:ext cx="7162920" cy="644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11120"/>
                    <a:ext cx="716292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a"/>
                </a:solidFill>
                <a:latin typeface="Arial"/>
              </a:rPr>
              <a:t>KOMPOSISI TENAGA KERJA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718A-F802-4F32-87C8-D45ABA666791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E92A1F-15ED-4CBE-94FE-41E25155D0C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4519440" cy="34671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19720" y="1371600"/>
            <a:ext cx="3886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-produksi …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golah………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-distribusikan 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94360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07320" y="33526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29200" y="3886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produks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59560" y="441972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TEKNOLOGI INFORM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95680" y="5486400"/>
            <a:ext cx="11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Arial"/>
              </a:rPr>
              <a:t>CIO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6933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bd189"/>
                </a:solidFill>
                <a:latin typeface="Arial"/>
              </a:rPr>
              <a:t>Pekerja informas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55627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…………………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. sekretaris dan manajer ……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42184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COMPUT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905120" y="1219320"/>
            <a:ext cx="2628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uter .......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419720" y="914400"/>
            <a:ext cx="380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086600" y="990720"/>
          <a:ext cx="1550880" cy="14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990720"/>
                    <a:ext cx="155088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5638680" y="1447920"/>
          <a:ext cx="123840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1447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7543800" y="3505320"/>
          <a:ext cx="1332000" cy="144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43800" y="3505320"/>
                    <a:ext cx="133200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8020080" y="5029200"/>
          <a:ext cx="1123920" cy="160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020080" y="5029200"/>
                    <a:ext cx="11239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0" y="5102280"/>
          <a:ext cx="2209680" cy="157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5102280"/>
                    <a:ext cx="220968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438280" y="5486400"/>
          <a:ext cx="1884600" cy="97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38280" y="5486400"/>
                    <a:ext cx="188460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6324480" y="5334120"/>
          <a:ext cx="1374840" cy="1523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24480" y="5334120"/>
                    <a:ext cx="13748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236160" cy="29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Mesin Ketik Canggih?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HIBURAN: Games, VCD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Lemari ARSIP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KOMUNIKASI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Bantu ADMINISTRASI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1A53C2-7F65-4689-95C0-073FE84ECE61}" type="datetime1">
              <a:rPr lang="en-US"/>
              <a:t>07/31/26</a:t>
            </a:fld>
          </a:p>
        </p:txBody>
      </p:sp>
    </p:spTree>
  </p:cSld>
  <p:transition spd="med">
    <p:wipe dir="r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55ba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18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97c0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04920" y="3581280"/>
            <a:ext cx="2130480" cy="29908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Tingkatan-Tingkatan Sistem Informasi (1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28600" y="990720"/>
          <a:ext cx="8915400" cy="5867280"/>
        </p:xfrm>
        <a:graphic>
          <a:graphicData uri="http://schemas.openxmlformats.org/drawingml/2006/table">
            <a:tbl>
              <a:tblPr/>
              <a:tblGrid>
                <a:gridCol w="2228760"/>
                <a:gridCol w="2229120"/>
                <a:gridCol w="2228760"/>
                <a:gridCol w="2228760"/>
              </a:tblGrid>
              <a:tr h="156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29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MANU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nsil, Ballpoint, Buku Tulis, Mesin Tik sampai ke P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dak ada, atau paket-paket perangkat lunak “generik” yang tersedia, seperti pengolah kata, 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pread-sheet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, dst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gandalkan kemampuan manusiawi: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kuntabilitas, ketelitian, ingatan, keuletan, dst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2743200" y="5398920"/>
          <a:ext cx="1550880" cy="145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5398920"/>
                    <a:ext cx="155088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4BA3-E78B-43D9-97B1-CAAFF0DAEA22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2FCBF2-97AC-485A-B3B5-7D1D0FBAE4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18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Tingkatan-Tingkatan Sistem Informasi (2)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1143000"/>
          <a:ext cx="9144000" cy="45259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57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KOMPUTE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KOMPUTER umumnya P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ket-paket yang dibangun untuk keperluan yang spesifik, misalnya paket software untuk administrasi dan simulasi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kerjaan yang berulang, rutin, membosankan, memerlukan ketelitian dan ingatan kuat, yang berpeluang terjadi kesalahan manusiawi, dibantu dengan KOMPUTER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2666880" y="3733920"/>
          <a:ext cx="12384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733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2514600" y="5257800"/>
          <a:ext cx="188424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5257800"/>
                    <a:ext cx="18842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04920" y="4495680"/>
          <a:ext cx="1736640" cy="188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4495680"/>
                    <a:ext cx="173664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B54D-794E-4275-951D-71046C519F32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C04BC1-67FD-4029-B2E3-D983288B20F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Tingkatan-Tingkatan Sistem Informasi (3)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0" y="838080"/>
          <a:ext cx="9144000" cy="57913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72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 JARINGAN KOMPUTE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KOMPUTER(PC, Workstation, Server), perangkat jaringan (NIC, HUB, BRIDGE, SWITCH), sistem telekomunikasi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ket-paket perangkat lunak berbasis jaring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source sharing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, bisa diakses dan meng-akses dari dan ke sistem informasi lai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228600" y="4956120"/>
          <a:ext cx="1905120" cy="19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956120"/>
                    <a:ext cx="190512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609480" y="4038480"/>
          <a:ext cx="1694160" cy="114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038480"/>
                    <a:ext cx="169416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4876920" y="4114800"/>
            <a:ext cx="1746000" cy="245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A1C6-B4B7-47FF-80E9-B8F8A1A05749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B8F617-85CA-4694-8A71-97C2258B58E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CONTOH APLIKASI TEKNOLOGI INFORMASI DI JURUSAN TEKNIK SIPIL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94920" y="2590920"/>
            <a:ext cx="346716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rus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ose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takulia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00240" y="2819520"/>
            <a:ext cx="3801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kanika Fluida (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Fluid Mechanic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20574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Websit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00600" y="20574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Laboratoriu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7450200" y="1066680"/>
          <a:ext cx="1693800" cy="11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0200" y="1066680"/>
                    <a:ext cx="169380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0" y="4648320"/>
          <a:ext cx="1905120" cy="190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648320"/>
                    <a:ext cx="190512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20C6-F2F5-4C7B-938C-ED8DC58CF9F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4BE9E7-7278-424E-99B3-878757D161AB}" type="datetime1">
              <a:rPr lang="en-US"/>
              <a:t>07/31/26</a:t>
            </a:fld>
          </a:p>
        </p:txBody>
      </p:sp>
    </p:spTree>
  </p:cSld>
  <p:transition spd="slow" advTm="89000">
    <p:wipe dir="r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C8365-BBD9-41EA-ABD9-B2491762BBA6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B687FD9-E05E-4DDE-A193-B1D8A6F9901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8F33-B606-4D0E-B176-B9DD411E2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95DE-9C70-48C5-8229-EACA3D479D8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ATAR BELAKANG MASALAH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 Dharma Pendidikan Tinggi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didik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elitian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gabdian Pada Masyaraka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657600" y="2133720"/>
            <a:ext cx="1857240" cy="3995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486400" y="4267080"/>
            <a:ext cx="2438280" cy="187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7010280" y="2971800"/>
          <a:ext cx="1551240" cy="145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2971800"/>
                    <a:ext cx="155124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5334120" y="1828800"/>
            <a:ext cx="1630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" dur="1" fill="hold"/>
                                  <p:tgtEl>
                                    <p:spTgt spid="11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7CEC-E893-4259-9278-CF1AD2A73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778F-0EA2-4581-8C87-8CF31894120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05120" y="1592280"/>
            <a:ext cx="6906960" cy="5265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914400" y="114300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Situasi Hari Ini ……….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6960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ari Hiroshima-Nagasaki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ke WTC 911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ampai Bom di Bali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 Makassar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 Marriott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OM………BOM…….. BOM……BO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6781680" y="0"/>
            <a:ext cx="1517760" cy="2743200"/>
          </a:xfrm>
          <a:prstGeom prst="rect">
            <a:avLst/>
          </a:prstGeom>
          <a:ln w="0">
            <a:noFill/>
          </a:ln>
        </p:spPr>
      </p:pic>
    </p:spTree>
  </p:cSld>
  <p:transition spd="slow" advTm="61000"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ITUASI HARI IN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8381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Gambaran situasi GLOBAL masa kini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Persaingan Global di era pasar beb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Meningkatnya kekerasan dan kerusuha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Serba cepat, serba jalan pintas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serba  STRESSSSSS ………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2874-1DEE-4C78-89BD-7E3B9E0AB79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483D26-77FC-41C0-8FC3-063A59B5C718}" type="datetime1">
              <a:rPr lang="en-US"/>
              <a:t>07/31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ekilas Sejarah Peradab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04920" y="1600200"/>
          <a:ext cx="8534160" cy="420228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94624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ra Peradab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ssue Sentr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istiwa Dahsy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TANI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AHAN TAN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VOLUSI SOSIAL dan KEMERDEKA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DUST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NERG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IROSHIMA NAGASAK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3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TC 91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A436-A6D1-45AF-A586-9D655F951C94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5C5B07-F910-4292-9163-27523E789810}" type="datetime1">
              <a:rPr lang="en-US"/>
              <a:t>07/31/26</a:t>
            </a:fld>
          </a:p>
        </p:txBody>
      </p:sp>
    </p:spTree>
  </p:cSld>
  <p:transition spd="med">
    <p:wipe dir="r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477120" y="0"/>
            <a:ext cx="266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8792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809880" y="3543480"/>
            <a:ext cx="5334120" cy="33145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809880" y="1219320"/>
            <a:ext cx="3733920" cy="230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C523-C90C-4488-B107-F4A9112D1206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A9A243-A4DB-48D2-AC1F-3C700BF131E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3735360" cy="4191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759120" y="0"/>
            <a:ext cx="2911680" cy="4381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6676920" y="1371600"/>
            <a:ext cx="2467080" cy="4324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705360" y="-360"/>
            <a:ext cx="2438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6187-39C8-4D88-B88B-D6DE5813AE25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629AC6-6372-462C-BAAE-D6494DCB1BD9}" type="datetime1">
              <a:rPr lang="en-US"/>
              <a:t>07/31/26</a:t>
            </a:fld>
          </a:p>
        </p:txBody>
      </p:sp>
    </p:spTree>
  </p:cSld>
  <p:transition spd="med">
    <p:wipe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848360" cy="594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628B-E4F0-4443-878D-CF2DC9D57048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A591DD-EE99-4F07-86F0-B7D61C45FD7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1828800"/>
            <a:ext cx="3886200" cy="2971800"/>
          </a:xfrm>
          <a:prstGeom prst="ellipse">
            <a:avLst/>
          </a:pr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2514600"/>
            <a:ext cx="396252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Masyarakat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nyata”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4343400"/>
            <a:ext cx="1143000" cy="1143000"/>
          </a:xfrm>
          <a:prstGeom prst="ellipse">
            <a:avLst/>
          </a:prstGeom>
          <a:solidFill>
            <a:srgbClr val="000054"/>
          </a:solidFill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47242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ASYARAKAT” MAY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00600" y="380880"/>
            <a:ext cx="3809880" cy="3353040"/>
          </a:xfrm>
          <a:prstGeom prst="ellipse">
            <a:avLst/>
          </a:prstGeom>
          <a:noFill/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210280" y="1066680"/>
            <a:ext cx="318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MASYARAKAT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9828800">
            <a:off x="3809880" y="2361960"/>
            <a:ext cx="2133720" cy="609480"/>
          </a:xfrm>
          <a:custGeom>
            <a:avLst/>
            <a:gdLst>
              <a:gd name="textAreaLeft" fmla="*/ 333360 w 2133720"/>
              <a:gd name="textAreaRight" fmla="*/ 1867320 w 21337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9544400">
            <a:off x="3373200" y="3477960"/>
            <a:ext cx="3298680" cy="709560"/>
          </a:xfrm>
          <a:custGeom>
            <a:avLst/>
            <a:gdLst>
              <a:gd name="textAreaLeft" fmla="*/ 515160 w 3298680"/>
              <a:gd name="textAreaRight" fmla="*/ 2886480 w 3298680"/>
              <a:gd name="textAreaTop" fmla="*/ 177480 h 709560"/>
              <a:gd name="textAreaBottom" fmla="*/ 532440 h 709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608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bd189"/>
                </a:solidFill>
                <a:latin typeface="Arial"/>
              </a:rPr>
              <a:t>The Information Society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3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Xp</cp:lastModifiedBy>
  <dcterms:modified xsi:type="dcterms:W3CDTF">2005-02-02T01:46:08Z</dcterms:modified>
  <cp:revision>77</cp:revision>
  <dc:subject/>
  <dc:title>PowerPoint Presentation</dc:title>
</cp:coreProperties>
</file>