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6.jpeg" ContentType="image/jpeg"/>
  <Override PartName="/ppt/media/TYPE.WAV" ContentType="audio/x-wav"/>
  <Override PartName="/ppt/media/image5.wmf" ContentType="image/x-wmf"/>
  <Override PartName="/ppt/media/image15.wmf" ContentType="image/x-wmf"/>
  <Override PartName="/ppt/media/DRUMROLL.WAV" ContentType="audio/x-wav"/>
  <Override PartName="/ppt/media/image7.wmf" ContentType="image/x-wmf"/>
  <Override PartName="/ppt/media/CAMERA.WAV" ContentType="audio/x-wav"/>
  <Override PartName="/ppt/media/CARBRAKE.WAV" ContentType="audio/x-wav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22.wmf" ContentType="image/x-wmf"/>
  <Override PartName="/ppt/media/applause.wav" ContentType="audio/x-wav"/>
  <Override PartName="/ppt/media/LASER.WAV" ContentType="audio/x-wav"/>
  <Override PartName="/ppt/media/glass.wav" ContentType="audio/x-wav"/>
  <Override PartName="/ppt/media/image6.wmf" ContentType="image/x-wmf"/>
  <Override PartName="/ppt/media/image24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WHOOSH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CAB-B818-4350-BF83-C7741B64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D00-1BD3-48F0-842F-6743C48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B15-8B8A-4774-A3CF-C3D40AE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C1A-3A43-418B-A3B4-40C17501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05B-B827-4E76-B116-BD0CDA8D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365A-6F08-4CD4-9881-3142FE8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408-66B1-4FFA-9A1C-20E17E80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CF0-012F-4F02-BF0D-9003AB1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AFA-1F37-4478-AE46-8EB0147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4C49-FB40-472B-9C03-5C415CF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539F-0C88-47A0-B549-0284DFAC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E71-1B75-49FA-8727-58626546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1285-3F0C-426B-BE13-BF87AD1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D84-E295-4434-BE9D-F940491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0D7-12D9-4F0C-B4DE-4809F80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AF26-E864-47A5-BEE2-D25908F3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661B-620F-495C-BC88-EE70DEE9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91F-2BC0-4D43-AB76-ACC90BD5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94A-058A-4A7B-9BE1-D3132747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F2C-6CE1-4204-80C7-B84EC165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EC5-9815-4E3A-9F93-8D33A3C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2EA-F168-4CCD-B394-0E15AD8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05D-9B84-4958-92D5-A414C93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727-EB3D-4023-AEA8-31BCD92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5E7-FB8B-4DF8-80A2-9D5D96654DDC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303-D361-4E63-BD5B-38A4B49E309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FBEF-1792-431E-8592-FAAC92604F9A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57E-3504-442B-A99E-715E18442D4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WHOOSH.WAV"/><Relationship Id="rId21" Type="http://schemas.openxmlformats.org/officeDocument/2006/relationships/audio" Target="../media/DRIVEBY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DUNIA PENDIDIKAN TINGGI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8878-D2E3-4E47-A87A-741D2AA5C3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87764F-2FF1-4640-B805-80DBEB7E1B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B00-59E1-41EE-9F8B-8F97675272B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31B32-8BD6-4B27-942A-D19A66C79E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FE322-AFDB-492E-A7BE-B8FB2366F83E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ACF-AAB8-4BF0-92D0-29E7A3D4FEB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32EE2-42CE-4CE8-8672-526ED70962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190-2C10-4F5F-B4C3-F95543DB03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C7162-58BC-4C6A-8053-E7FE48DEB4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27B-D1B7-4429-8C98-FFD21D8641E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58DC-AC6C-44AF-9BA3-2E098C5C69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NTOH APLIKASI TEKNOLOGI INFORMASI DI JURUSAN TEKNIK SIPI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rus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s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takuli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kanika Fluida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luid Mechani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boratori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B77-2EE9-41B0-B24B-A0029BE2A8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3117E-0F56-44CB-81E4-CD7F42C4BAC0}" type="datetime1">
              <a:rPr lang="en-US"/>
              <a:t>07/30/26</a:t>
            </a:fld>
          </a:p>
        </p:txBody>
      </p:sp>
    </p:spTree>
  </p:cSld>
  <p:transition spd="slow" advTm="89000"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569-1C31-4B06-85B6-DB55E732B9C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FB9424-AA3E-41E1-8D55-2A32E2B364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CEF8-B74D-466D-9AFF-E5AC2D2A9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0BB-5891-4D21-98CB-088EA3BC2B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 Dharma Pendidikan Tingg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bdian Pada 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7C04-EDA7-4595-9A25-EEC0D711B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55A-84F8-4491-9F12-E9E0450A42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D95-F271-40E9-BDD2-88A460C918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C95BF-3F5F-41DB-8266-4C244DD0DFF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7FF-4F88-4E24-A07B-63CB5E4235E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3066-155B-46E7-BF55-A8E035765DD7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2C6-1030-4182-ADCC-CF95478DFBF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ED720-7A65-4976-BD3D-2AD8A82234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B1A-5394-4B47-8A71-9B945BB6E5E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676CC-1983-4D2D-8101-AF8267CBD8C0}" type="datetime1">
              <a:rPr lang="en-US"/>
              <a:t>07/30/26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F63-9617-4053-B383-DB088FDEC86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EA79-657C-406C-A156-28BC650A1B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2-02T01:46:08Z</dcterms:modified>
  <cp:revision>77</cp:revision>
  <dc:subject/>
  <dc:title>PowerPoint Presentation</dc:title>
</cp:coreProperties>
</file>