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wmf" ContentType="image/x-wmf"/>
  <Override PartName="/ppt/media/image19.wmf" ContentType="image/x-wmf"/>
  <Override PartName="/ppt/media/image17.wmf" ContentType="image/x-wmf"/>
  <Override PartName="/ppt/media/DRIVEBY.WAV" ContentType="audio/x-wav"/>
  <Override PartName="/ppt/media/image16.jpeg" ContentType="image/jpeg"/>
  <Override PartName="/ppt/media/TYPE.WAV" ContentType="audio/x-wav"/>
  <Override PartName="/ppt/media/image5.wmf" ContentType="image/x-wmf"/>
  <Override PartName="/ppt/media/image15.wmf" ContentType="image/x-wmf"/>
  <Override PartName="/ppt/media/DRUMROLL.WAV" ContentType="audio/x-wav"/>
  <Override PartName="/ppt/media/image7.wmf" ContentType="image/x-wmf"/>
  <Override PartName="/ppt/media/CAMERA.WAV" ContentType="audio/x-wav"/>
  <Override PartName="/ppt/media/CARBRAKE.WAV" ContentType="audio/x-wav"/>
  <Override PartName="/ppt/media/image9.jpeg" ContentType="image/jpeg"/>
  <Override PartName="/ppt/media/image23.wmf" ContentType="image/x-wmf"/>
  <Override PartName="/ppt/media/image11.jpeg" ContentType="image/jpeg"/>
  <Override PartName="/ppt/media/image8.jpeg" ContentType="image/jpeg"/>
  <Override PartName="/ppt/media/image22.wmf" ContentType="image/x-wmf"/>
  <Override PartName="/ppt/media/applause.wav" ContentType="audio/x-wav"/>
  <Override PartName="/ppt/media/LASER.WAV" ContentType="audio/x-wav"/>
  <Override PartName="/ppt/media/glass.wav" ContentType="audio/x-wav"/>
  <Override PartName="/ppt/media/image6.wmf" ContentType="image/x-wmf"/>
  <Override PartName="/ppt/media/image24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26.wmf" ContentType="image/x-wmf"/>
  <Override PartName="/ppt/media/RICOCHET.WAV" ContentType="audio/x-wav"/>
  <Override PartName="/ppt/media/image3.wmf" ContentType="image/x-wmf"/>
  <Override PartName="/ppt/media/image27.wmf" ContentType="image/x-wmf"/>
  <Override PartName="/ppt/media/image4.wmf" ContentType="image/x-wmf"/>
  <Override PartName="/ppt/media/EXPLODE.WAV" ContentType="audio/x-wav"/>
  <Override PartName="/ppt/media/WHOOSH.WAV" ContentType="audio/x-wav"/>
  <Override PartName="/ppt/media/image1.png" ContentType="image/png"/>
  <Override PartName="/ppt/media/image12.jpeg" ContentType="image/jpeg"/>
  <Override PartName="/ppt/media/image13.jpeg" ContentType="image/jpeg"/>
  <Override PartName="/ppt/media/image10.jpeg" ContentType="image/jpeg"/>
  <Override PartName="/ppt/media/image14.png" ContentType="image/png"/>
  <Override PartName="/ppt/media/image28.wmf" ContentType="image/x-wmf"/>
  <Override PartName="/ppt/media/CHIMES.WAV" ContentType="audio/x-wav"/>
  <Override PartName="/ppt/media/image18.wmf" ContentType="image/x-wmf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05E9-06AF-487C-A5FE-A1FAC09EA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7934-1B23-44AC-A412-417D384D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CAD3-01EB-4B3A-92F4-090241C5F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9D09-775B-44D2-BD92-E82A453C8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F973-24C1-43C5-B5B6-A30FC0240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E5A4-5F75-434C-BB8C-82266074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EBC80-B82C-46F2-8C3B-53F14CD3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02B9-F94E-4F28-83A5-01C9C4A5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194B-3DA3-432B-8991-C23C4E9B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7088-0468-478B-91F8-EA87E73F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B44C-D3BF-4B01-9406-6B3D0668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1A12-BC26-4E41-BD04-56336C82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63743-C211-47A9-8422-3A6545C7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1438-13C3-4D96-935D-9501584B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E86C-9470-48FC-8C8C-C3830832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1EC51-D4FB-41E9-8777-8C5FB160A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DDA2-CB51-4ED2-BE0D-9F879E769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8427-9444-4731-B505-03A7EE37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D85B-D793-40BA-8A57-5D01C00B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EB84-82CB-4794-8806-D8B8D06E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6121-8997-420C-A842-56FFC3C0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70C7-8BCC-409D-85AB-B7D139C3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7F18-6196-488F-9F7C-3FB4E826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944F-AE29-4D87-A220-F3E86897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890A-0F55-4EBD-B223-841204C442DE}" type="datetime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C037-3CC5-456E-9906-4B1592B51A32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F5DA-B13F-46A6-BE8D-AD582CC9E4AA}" type="datetime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37BC-CC05-4DFE-9E17-56A9A26C27A9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WHOOSH.WAV"/><Relationship Id="rId3" Type="http://schemas.openxmlformats.org/officeDocument/2006/relationships/audio" Target="../media/TYPE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0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2.wmf"/><Relationship Id="rId17" Type="http://schemas.openxmlformats.org/officeDocument/2006/relationships/audio" Target="../media/EXPLODE.WAV"/><Relationship Id="rId18" Type="http://schemas.openxmlformats.org/officeDocument/2006/relationships/audio" Target="../media/WHOOSH.WAV"/><Relationship Id="rId19" Type="http://schemas.openxmlformats.org/officeDocument/2006/relationships/audio" Target="../media/DRIVEBY.WAV"/><Relationship Id="rId20" Type="http://schemas.openxmlformats.org/officeDocument/2006/relationships/audio" Target="../media/WHOOSH.WAV"/><Relationship Id="rId21" Type="http://schemas.openxmlformats.org/officeDocument/2006/relationships/audio" Target="../media/DRIVEBY.WAV"/><Relationship Id="rId22" Type="http://schemas.openxmlformats.org/officeDocument/2006/relationships/audio" Target="../media/CARBRAKE.WAV"/><Relationship Id="rId23" Type="http://schemas.openxmlformats.org/officeDocument/2006/relationships/audio" Target="../media/WHOOSH.WAV"/><Relationship Id="rId24" Type="http://schemas.openxmlformats.org/officeDocument/2006/relationships/audio" Target="../media/CAMERA.WAV"/><Relationship Id="rId25" Type="http://schemas.openxmlformats.org/officeDocument/2006/relationships/audio" Target="../media/LASER.WAV"/><Relationship Id="rId26" Type="http://schemas.openxmlformats.org/officeDocument/2006/relationships/audio" Target="../media/LASER.WAV"/><Relationship Id="rId27" Type="http://schemas.openxmlformats.org/officeDocument/2006/relationships/audio" Target="../media/LASER.WAV"/><Relationship Id="rId28" Type="http://schemas.openxmlformats.org/officeDocument/2006/relationships/audio" Target="../media/LASER.WAV"/><Relationship Id="rId29" Type="http://schemas.openxmlformats.org/officeDocument/2006/relationships/audio" Target="../media/LASER.WAV"/><Relationship Id="rId30" Type="http://schemas.openxmlformats.org/officeDocument/2006/relationships/audio" Target="../media/LASER.WAV"/><Relationship Id="rId3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audio" Target="../media/WHOOSH.WAV"/><Relationship Id="rId8" Type="http://schemas.openxmlformats.org/officeDocument/2006/relationships/audio" Target="../media/CARBRAKE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audio" Target="../media/RICOCHET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audio" Target="../media/RICOCHET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wmf"/><Relationship Id="rId3" Type="http://schemas.openxmlformats.org/officeDocument/2006/relationships/image" Target="../media/image7.wmf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EXPLODE.WAV"/><Relationship Id="rId5" Type="http://schemas.openxmlformats.org/officeDocument/2006/relationships/audio" Target="../media/DRIVEBY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Tahoma"/>
              </a:rPr>
              <a:t>SISTEM INFORMASI DI DUNIA PENDIDIKAN TINGGI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2120" y="39621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oleh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 S. Sadj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@unhas.ac.i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http://www.unhas.ac.id/~rhiza/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49E7-A7F4-4492-B0E9-E29329879CC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76FC74D-5339-4C55-BE02-8F6ED992B5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295280" y="411120"/>
          <a:ext cx="7162920" cy="644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11120"/>
                    <a:ext cx="716292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a"/>
                </a:solidFill>
                <a:latin typeface="Arial"/>
              </a:rPr>
              <a:t>KOMPOSISI TENAGA KERJA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CFED-8948-401D-B8C9-ED82FB004650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AABDA9-7015-4DD1-A12A-9FB8418A8C5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4519440" cy="34671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19720" y="1371600"/>
            <a:ext cx="3886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-produksi …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golah………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-distribusikan 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94360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07320" y="33526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29200" y="3886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produks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59560" y="441972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TEKNOLOGI INFORM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95680" y="5486400"/>
            <a:ext cx="11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Arial"/>
              </a:rPr>
              <a:t>CIO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6933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bd189"/>
                </a:solidFill>
                <a:latin typeface="Arial"/>
              </a:rPr>
              <a:t>Pekerja informas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55627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…………………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. sekretaris dan manajer ……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42184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COMPUT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905120" y="1219320"/>
            <a:ext cx="2628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uter .......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419720" y="914400"/>
            <a:ext cx="380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086600" y="990720"/>
          <a:ext cx="1550880" cy="14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990720"/>
                    <a:ext cx="155088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5638680" y="1447920"/>
          <a:ext cx="123840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1447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7543800" y="3505320"/>
          <a:ext cx="1332000" cy="144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43800" y="3505320"/>
                    <a:ext cx="133200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8020080" y="5029200"/>
          <a:ext cx="1123920" cy="160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020080" y="5029200"/>
                    <a:ext cx="11239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0" y="5102280"/>
          <a:ext cx="2209680" cy="157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5102280"/>
                    <a:ext cx="220968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438280" y="5486400"/>
          <a:ext cx="1884600" cy="97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38280" y="5486400"/>
                    <a:ext cx="188460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6324480" y="5334120"/>
          <a:ext cx="1374840" cy="1523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24480" y="5334120"/>
                    <a:ext cx="13748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236160" cy="29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Mesin Ketik Canggih?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HIBURAN: Games, VCD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Lemari ARSIP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KOMUNIKASI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Bantu ADMINISTRASI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57D2AB-99A1-4114-88D1-C2D559C2B618}" type="datetime1">
              <a:rPr lang="en-US"/>
              <a:t>07/29/26</a:t>
            </a:fld>
          </a:p>
        </p:txBody>
      </p:sp>
    </p:spTree>
  </p:cSld>
  <p:transition spd="med">
    <p:wipe dir="r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55ba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18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97c0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04920" y="3581280"/>
            <a:ext cx="2130480" cy="29908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Tingkatan-Tingkatan Sistem Informasi (1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28600" y="990720"/>
          <a:ext cx="8915400" cy="5867280"/>
        </p:xfrm>
        <a:graphic>
          <a:graphicData uri="http://schemas.openxmlformats.org/drawingml/2006/table">
            <a:tbl>
              <a:tblPr/>
              <a:tblGrid>
                <a:gridCol w="2228760"/>
                <a:gridCol w="2229120"/>
                <a:gridCol w="2228760"/>
                <a:gridCol w="2228760"/>
              </a:tblGrid>
              <a:tr h="156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29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MANU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nsil, Ballpoint, Buku Tulis, Mesin Tik sampai ke P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dak ada, atau paket-paket perangkat lunak “generik” yang tersedia, seperti pengolah kata, 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pread-sheet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, dst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gandalkan kemampuan manusiawi: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kuntabilitas, ketelitian, ingatan, keuletan, dst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2743200" y="5398920"/>
          <a:ext cx="1550880" cy="145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5398920"/>
                    <a:ext cx="155088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4D12-8172-489A-9549-5B15FA4E2162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445078-EABF-4E30-8852-FC996E2A6A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18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Tingkatan-Tingkatan Sistem Informasi (2)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1143000"/>
          <a:ext cx="9144000" cy="45259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57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KOMPUTE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KOMPUTER umumnya P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ket-paket yang dibangun untuk keperluan yang spesifik, misalnya paket software untuk administrasi dan simulasi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kerjaan yang berulang, rutin, membosankan, memerlukan ketelitian dan ingatan kuat, yang berpeluang terjadi kesalahan manusiawi, dibantu dengan KOMPUTER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2666880" y="3733920"/>
          <a:ext cx="12384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733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2514600" y="5257800"/>
          <a:ext cx="188424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5257800"/>
                    <a:ext cx="18842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04920" y="4495680"/>
          <a:ext cx="1736640" cy="188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4495680"/>
                    <a:ext cx="173664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1990-22C6-4B61-9B93-AD378E706B95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DB9AAF-E45D-4C6F-BB8D-7B4D884ED9E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Tingkatan-Tingkatan Sistem Informasi (3)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0" y="838080"/>
          <a:ext cx="9144000" cy="57913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72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 JARINGAN KOMPUTE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KOMPUTER(PC, Workstation, Server), perangkat jaringan (NIC, HUB, BRIDGE, SWITCH), sistem telekomunikasi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ket-paket perangkat lunak berbasis jaring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source sharing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, bisa diakses dan meng-akses dari dan ke sistem informasi lai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228600" y="4956120"/>
          <a:ext cx="1905120" cy="19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956120"/>
                    <a:ext cx="190512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609480" y="4038480"/>
          <a:ext cx="1694160" cy="114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038480"/>
                    <a:ext cx="169416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4876920" y="4114800"/>
            <a:ext cx="1746000" cy="245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A7D5-5346-4038-ADB2-4B376D722A15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84C5F3-5574-4113-86B9-536471E3D5B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CONTOH APLIKASI TEKNOLOGI INFORMASI DI JURUSAN TEKNIK SIPIL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94920" y="2590920"/>
            <a:ext cx="346716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rus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ose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takulia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00240" y="2819520"/>
            <a:ext cx="3801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kanika Fluida (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Fluid Mechanic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20574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Websit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00600" y="20574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Laboratoriu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7450200" y="1066680"/>
          <a:ext cx="1693800" cy="11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0200" y="1066680"/>
                    <a:ext cx="169380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0" y="4648320"/>
          <a:ext cx="1905120" cy="190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648320"/>
                    <a:ext cx="190512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ACC5-85CD-4D3E-98A6-FC382D727BB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610A09-0B83-4FF6-A450-677727018497}" type="datetime1">
              <a:rPr lang="en-US"/>
              <a:t>07/29/26</a:t>
            </a:fld>
          </a:p>
        </p:txBody>
      </p:sp>
    </p:spTree>
  </p:cSld>
  <p:transition spd="slow" advTm="89000">
    <p:wipe dir="r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0737-7FD4-46D3-BAE1-54CF0D9E16FF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DDF8EC8-9BDB-45D4-A393-F88BC10DD71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22E7-50CB-4797-8023-1C126632A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7E69-1A1D-4D1A-BFF5-63BA4C03E51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ATAR BELAKANG MASALAH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 Dharma Pendidikan Tinggi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didik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elitian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gabdian Pada Masyaraka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657600" y="2133720"/>
            <a:ext cx="1857240" cy="3995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486400" y="4267080"/>
            <a:ext cx="2438280" cy="187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7010280" y="2971800"/>
          <a:ext cx="1551240" cy="145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2971800"/>
                    <a:ext cx="155124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5334120" y="1828800"/>
            <a:ext cx="1630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" dur="1" fill="hold"/>
                                  <p:tgtEl>
                                    <p:spTgt spid="11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2D6B-A6C9-46C1-803D-526A8A13A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5B81-5556-49AE-9C8F-02B18F85ED5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05120" y="1592280"/>
            <a:ext cx="6906960" cy="5265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914400" y="114300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Situasi Hari Ini ……….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6960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ari Hiroshima-Nagasaki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ke WTC 911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ampai Bom di Bali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 Makassar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 Marriott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OM………BOM…….. BOM……BO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6781680" y="0"/>
            <a:ext cx="1517760" cy="2743200"/>
          </a:xfrm>
          <a:prstGeom prst="rect">
            <a:avLst/>
          </a:prstGeom>
          <a:ln w="0">
            <a:noFill/>
          </a:ln>
        </p:spPr>
      </p:pic>
    </p:spTree>
  </p:cSld>
  <p:transition spd="slow" advTm="61000"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ITUASI HARI IN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8381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Gambaran situasi GLOBAL masa kini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Persaingan Global di era pasar beb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Meningkatnya kekerasan dan kerusuha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Serba cepat, serba jalan pintas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serba  STRESSSSSS ………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A8D9-6002-4421-A474-D807B68FD2F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575BFD-B576-432A-B90A-50C818974BD6}" type="datetime1">
              <a:rPr lang="en-US"/>
              <a:t>07/29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ekilas Sejarah Peradab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04920" y="1600200"/>
          <a:ext cx="8534160" cy="420228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94624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ra Peradab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ssue Sentr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istiwa Dahsy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TANI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AHAN TAN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VOLUSI SOSIAL dan KEMERDEKA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DUST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NERG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IROSHIMA NAGASAK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3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TC 91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5772-F125-4B94-9749-87C28CC3BEAD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38F9E9-CD73-4B1E-8483-E70BB7FAC1CC}" type="datetime1">
              <a:rPr lang="en-US"/>
              <a:t>07/29/26</a:t>
            </a:fld>
          </a:p>
        </p:txBody>
      </p:sp>
    </p:spTree>
  </p:cSld>
  <p:transition spd="med">
    <p:wipe dir="r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477120" y="0"/>
            <a:ext cx="266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8792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809880" y="3543480"/>
            <a:ext cx="5334120" cy="33145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809880" y="1219320"/>
            <a:ext cx="3733920" cy="230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B7B6-DDC2-4AFE-BA15-528B2332011B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35B19B-CDCA-4D77-9E55-DFFC9F90F1E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3735360" cy="4191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759120" y="0"/>
            <a:ext cx="2911680" cy="4381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6676920" y="1371600"/>
            <a:ext cx="2467080" cy="4324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705360" y="-360"/>
            <a:ext cx="2438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CA7F-BCCE-490B-8ACF-B7A04C4C02B1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C82983-C7BB-4DD6-91D4-5D57D0B4253F}" type="datetime1">
              <a:rPr lang="en-US"/>
              <a:t>07/29/26</a:t>
            </a:fld>
          </a:p>
        </p:txBody>
      </p:sp>
    </p:spTree>
  </p:cSld>
  <p:transition spd="med">
    <p:wipe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848360" cy="594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6B90-5C32-448B-A7CF-5EB746DC77B8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3B5725-E4DD-4E5F-A139-B754BB5CC7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1828800"/>
            <a:ext cx="3886200" cy="2971800"/>
          </a:xfrm>
          <a:prstGeom prst="ellipse">
            <a:avLst/>
          </a:pr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2514600"/>
            <a:ext cx="396252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Masyarakat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nyata”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4343400"/>
            <a:ext cx="1143000" cy="1143000"/>
          </a:xfrm>
          <a:prstGeom prst="ellipse">
            <a:avLst/>
          </a:prstGeom>
          <a:solidFill>
            <a:srgbClr val="000054"/>
          </a:solidFill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47242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ASYARAKAT” MAY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00600" y="380880"/>
            <a:ext cx="3809880" cy="3353040"/>
          </a:xfrm>
          <a:prstGeom prst="ellipse">
            <a:avLst/>
          </a:prstGeom>
          <a:noFill/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210280" y="1066680"/>
            <a:ext cx="318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MASYARAKAT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9828800">
            <a:off x="3809880" y="2361960"/>
            <a:ext cx="2133720" cy="609480"/>
          </a:xfrm>
          <a:custGeom>
            <a:avLst/>
            <a:gdLst>
              <a:gd name="textAreaLeft" fmla="*/ 333360 w 2133720"/>
              <a:gd name="textAreaRight" fmla="*/ 1867320 w 21337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9544400">
            <a:off x="3373200" y="3477960"/>
            <a:ext cx="3298680" cy="709560"/>
          </a:xfrm>
          <a:custGeom>
            <a:avLst/>
            <a:gdLst>
              <a:gd name="textAreaLeft" fmla="*/ 515160 w 3298680"/>
              <a:gd name="textAreaRight" fmla="*/ 2886480 w 3298680"/>
              <a:gd name="textAreaTop" fmla="*/ 177480 h 709560"/>
              <a:gd name="textAreaBottom" fmla="*/ 532440 h 709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608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bd189"/>
                </a:solidFill>
                <a:latin typeface="Arial"/>
              </a:rPr>
              <a:t>The Information Society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3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Xp</cp:lastModifiedBy>
  <dcterms:modified xsi:type="dcterms:W3CDTF">2005-02-02T01:46:08Z</dcterms:modified>
  <cp:revision>77</cp:revision>
  <dc:subject/>
  <dc:title>PowerPoint Presentation</dc:title>
</cp:coreProperties>
</file>