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png" ContentType="image/png"/>
  <Override PartName="/ppt/media/image2.wmf" ContentType="image/x-wmf"/>
  <Override PartName="/ppt/media/image15.jpeg" ContentType="image/jpeg"/>
  <Override PartName="/ppt/media/image3.wmf" ContentType="image/x-wmf"/>
  <Override PartName="/ppt/media/image13.wmf" ContentType="image/x-wmf"/>
  <Override PartName="/ppt/media/image10.jpeg" ContentType="image/jpeg"/>
  <Override PartName="/ppt/media/image8.jpeg" ContentType="image/jpeg"/>
  <Override PartName="/ppt/media/image4.wmf" ContentType="image/x-wmf"/>
  <Override PartName="/ppt/media/image5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11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72AA-4D8E-4C3D-BA9C-E671659A1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7C03-CBEC-4C9C-8FB5-DE3DEA0E2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657E-CC1A-4845-9463-5BB494FD1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801A-5D5C-4D07-ADBB-441658903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70FCC-5050-4D26-8244-FDFBB1221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4264A-7881-4FA0-B165-C2B59818E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CDCFB-E86C-45CA-BE73-9230D42EE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5915F-829E-4561-9696-B5DA2DF95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6737A-A151-4113-B52B-511A86663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314B6-D41F-4966-BB51-87AED2E36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E99BF-DA8B-4CEF-AA6E-56DCE616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6B66-F814-4F7E-B54D-DB93C56F5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DED38-F983-41B6-8033-E58AB301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45334-BCD3-471C-AAD4-7AE8A8AB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F15AE-0C7C-4E71-83DB-9679DA63E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3D60C-1E88-46DE-97F9-2ECF5C898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652A2-3FCA-4409-A163-B4ED1D92A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3A88-2DA0-402E-A00D-26BB2464F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907F-1EE3-4CEA-AA1C-9B2D01D5D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D86C-1FB0-4DEF-9CFB-E1F3439B9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728F-50A2-4D22-BD50-823EC5AFA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B873-B1D5-464B-9170-94DB66013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D2E1-4745-4490-B92F-D668A42E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0537-35B8-4845-8C42-DE1585A6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4d4d4d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49A4B-E392-46C1-8CA3-744FBDA61FE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85001-99EB-4E3D-A5AA-DC3B669AF7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88931-2C49-4B61-AFC2-C67FBA9D945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46E12-2888-498A-A919-8BD0733645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b2b2b2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7621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ERANAN ILMUWAN DAN TEKNOLOG MUSLIM DALAM ERA INFORMASI GLOBAL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762120" y="396216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le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hiza S. Sadj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hiza@unhas.ac.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www.unhas.ac.id/~rhiza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A1D57-125B-4B9F-BC52-60AE7361EACD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6887EEAE-70D7-4022-9326-9E1B36BE6A8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4519440" cy="34671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419720" y="1371600"/>
            <a:ext cx="3886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em-produksi 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engolah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en-distribusikan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943600" y="29718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FORMA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07320" y="33526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3886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emproduks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59560" y="4419720"/>
            <a:ext cx="43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EKNOLOGI INFORMA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5486400"/>
            <a:ext cx="700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…………………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 sekretaris dan manajer ……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195680" y="5486400"/>
            <a:ext cx="117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6933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ekerja informas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NIA ILMU PENGETAHU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AMCONFUS" descr=""/>
          <p:cNvPicPr/>
          <p:nvPr/>
        </p:nvPicPr>
        <p:blipFill>
          <a:blip r:embed="rId1"/>
          <a:stretch/>
        </p:blipFill>
        <p:spPr>
          <a:xfrm>
            <a:off x="4572000" y="3352680"/>
            <a:ext cx="1062000" cy="2286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057400" y="990720"/>
            <a:ext cx="6324480" cy="51814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181480" y="1066680"/>
            <a:ext cx="76320" cy="510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66880" y="2819520"/>
            <a:ext cx="1828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ALAM GAI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715000" y="2743200"/>
            <a:ext cx="1828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ALAM NY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46D8-2E62-46C0-8F55-0FD801DC8D0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2DE77E-30B6-4049-93EE-1A60526C40B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2971800" y="3359160"/>
            <a:ext cx="3657600" cy="2743200"/>
            <a:chOff x="2971800" y="3359160"/>
            <a:chExt cx="3657600" cy="2743200"/>
          </a:xfrm>
        </p:grpSpPr>
        <p:pic>
          <p:nvPicPr>
            <p:cNvPr id="150" name="AMCONFUS" descr=""/>
            <p:cNvPicPr/>
            <p:nvPr/>
          </p:nvPicPr>
          <p:blipFill>
            <a:blip r:embed="rId1"/>
            <a:stretch/>
          </p:blipFill>
          <p:spPr>
            <a:xfrm>
              <a:off x="4425840" y="4609440"/>
              <a:ext cx="614160" cy="121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2971800" y="3359160"/>
              <a:ext cx="3657600" cy="2743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778280" y="3399120"/>
              <a:ext cx="43920" cy="270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324240" y="4327200"/>
              <a:ext cx="1057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ALAM GAI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086080" y="4286160"/>
              <a:ext cx="1059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ALAM NY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2590920" y="3808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ANG MAHA PENCIPTA (al-Khali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343400" y="990720"/>
            <a:ext cx="838080" cy="3429000"/>
          </a:xfrm>
          <a:prstGeom prst="downArrow">
            <a:avLst>
              <a:gd name="adj1" fmla="val 50000"/>
              <a:gd name="adj2" fmla="val 10228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57600" y="1143000"/>
            <a:ext cx="20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FORMA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ahy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lh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im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rad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45E7-F650-49FC-8768-8E21920586FA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E2B8B4-8B14-418F-AF46-A427ACC53F7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-2438280" y="380880"/>
            <a:ext cx="11582280" cy="6248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AMCONFUS" descr=""/>
          <p:cNvPicPr/>
          <p:nvPr/>
        </p:nvPicPr>
        <p:blipFill>
          <a:blip r:embed="rId1"/>
          <a:stretch/>
        </p:blipFill>
        <p:spPr>
          <a:xfrm>
            <a:off x="0" y="1828800"/>
            <a:ext cx="1415880" cy="30481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809880" y="1295280"/>
            <a:ext cx="40579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ALAM NY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iptaan al-Khali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nusia, makhluk hidup, benda-benda, zat-zat, langit dan bu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3662280"/>
            <a:ext cx="175248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UB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lmuw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ekno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embelaj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eneli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engka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AMCONFUS" descr=""/>
          <p:cNvPicPr/>
          <p:nvPr/>
        </p:nvPicPr>
        <p:blipFill>
          <a:blip r:embed="rId2"/>
          <a:stretch/>
        </p:blipFill>
        <p:spPr>
          <a:xfrm>
            <a:off x="8001000" y="2362320"/>
            <a:ext cx="7081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371600" y="3048120"/>
            <a:ext cx="64771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238880" y="160020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BYEK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029200" y="342900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byek immaterial: interaksi sosial, hubungan antar manusia, negara, ipoleksosbud, filsaf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066680" y="0"/>
            <a:ext cx="914400" cy="2286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2193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BYEK TRANCENDENTAL: ma’rifatullah, d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77120" y="50292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LAM REKAYASA (The artificial, man-made wor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3581280"/>
            <a:ext cx="4496040" cy="1676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43600" y="4724280"/>
            <a:ext cx="3200400" cy="17528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772400" y="487692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86600" y="4876920"/>
            <a:ext cx="152280" cy="3045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470D-EA18-43A1-A13D-E0A02FFF3901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8537B7-FE96-4E74-9A75-5E9057C4890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-2438280" y="380880"/>
            <a:ext cx="11582280" cy="6248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AMCONFUS" descr=""/>
          <p:cNvPicPr/>
          <p:nvPr/>
        </p:nvPicPr>
        <p:blipFill>
          <a:blip r:embed="rId1"/>
          <a:stretch/>
        </p:blipFill>
        <p:spPr>
          <a:xfrm>
            <a:off x="0" y="1828800"/>
            <a:ext cx="1415880" cy="3048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914400" y="3886200"/>
            <a:ext cx="1752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UB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lmuw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ekno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embelaj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eneli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engka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AMCONFUS" descr=""/>
          <p:cNvPicPr/>
          <p:nvPr/>
        </p:nvPicPr>
        <p:blipFill>
          <a:blip r:embed="rId2"/>
          <a:stretch/>
        </p:blipFill>
        <p:spPr>
          <a:xfrm>
            <a:off x="8001000" y="2362320"/>
            <a:ext cx="708120" cy="15238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371600" y="3048120"/>
            <a:ext cx="64771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238880" y="160020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BYEK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1066680" y="0"/>
            <a:ext cx="914400" cy="2286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3581280"/>
            <a:ext cx="4496040" cy="1676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81080" y="0"/>
            <a:ext cx="274320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’RIFATULLAH, THE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657600" y="685800"/>
            <a:ext cx="274320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LMU-ILMU AGAMA WAHYU/SAMAW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038480" y="1676520"/>
            <a:ext cx="327672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LMU-ILMU HUKUM dan SOSIAL –BUDAYA KEMASYARAKAT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3200400"/>
            <a:ext cx="289584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LMU KESEHATAN dan PSIKOLO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19920" y="4191120"/>
            <a:ext cx="312408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TEMATIK dan I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943600" y="4724280"/>
            <a:ext cx="3200400" cy="17528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50292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LAM REKAYASA (The artificial, man-made wor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19520" y="4800600"/>
            <a:ext cx="3124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NGINEERING and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31240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38080" y="137160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ELIGIOUS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791320" y="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19920" y="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C710-E7B8-4316-8694-BF6547E1FFBC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63A33C-03A9-47E5-8644-B9EE14A59B3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 flipV="1">
            <a:off x="3733920" y="0"/>
            <a:ext cx="4876560" cy="5029200"/>
          </a:xfrm>
          <a:custGeom>
            <a:avLst/>
            <a:gdLst>
              <a:gd name="textAreaLeft" fmla="*/ 653040 w 4876560"/>
              <a:gd name="textAreaRight" fmla="*/ 4223520 w 4876560"/>
              <a:gd name="textAreaTop" fmla="*/ 879840 h 5029200"/>
              <a:gd name="textAreaBottom" fmla="*/ 3646080 h 502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1928880" y="3267000"/>
            <a:ext cx="3159000" cy="2448000"/>
            <a:chOff x="1928880" y="3267000"/>
            <a:chExt cx="3159000" cy="2448000"/>
          </a:xfrm>
        </p:grpSpPr>
        <p:pic>
          <p:nvPicPr>
            <p:cNvPr id="195" name="AMCONFUS" descr=""/>
            <p:cNvPicPr/>
            <p:nvPr/>
          </p:nvPicPr>
          <p:blipFill>
            <a:blip r:embed="rId1"/>
            <a:stretch/>
          </p:blipFill>
          <p:spPr>
            <a:xfrm>
              <a:off x="3184920" y="4382640"/>
              <a:ext cx="530280" cy="10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1928880" y="3267000"/>
              <a:ext cx="3159000" cy="2448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489120" y="3302640"/>
              <a:ext cx="37800" cy="241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233080" y="4131000"/>
              <a:ext cx="913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ALAM GAI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754080" y="4094280"/>
              <a:ext cx="915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ALAM NY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1143000" y="6094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ANG MAHA PENCIPTA (al-Khali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12920" y="1154160"/>
            <a:ext cx="723960" cy="3058920"/>
          </a:xfrm>
          <a:prstGeom prst="downArrow">
            <a:avLst>
              <a:gd name="adj1" fmla="val 50000"/>
              <a:gd name="adj2" fmla="val 105632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21080" y="1289160"/>
            <a:ext cx="1778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FORMA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ahy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lh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im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rad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181480" y="3886200"/>
            <a:ext cx="3124440" cy="1556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ENGINEERING and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181480" y="2819520"/>
            <a:ext cx="3124440" cy="5814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181480" y="1295280"/>
            <a:ext cx="3124440" cy="1068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ELIGIOUS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295280" y="571500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lmu Pengetahuan yang ISLAMI mendekatkan ilmuwan kepada al-Khali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957A-F1B7-49FA-A34B-CD69B2C0DB73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785F38-2FFC-4605-AB9B-F646D2DE5E9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2133720" y="1219320"/>
            <a:ext cx="464796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SELESAI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657600" y="3352680"/>
            <a:ext cx="1752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he END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952520" y="3657240"/>
            <a:ext cx="3581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206C2-B4E9-4EEA-85FC-C669B02DD954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0627ADE-26CE-4013-BB47-685AFBADAAD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AMDISAST" descr=""/>
          <p:cNvPicPr/>
          <p:nvPr/>
        </p:nvPicPr>
        <p:blipFill>
          <a:blip r:embed="rId1"/>
          <a:stretch/>
        </p:blipFill>
        <p:spPr>
          <a:xfrm>
            <a:off x="2236680" y="1981080"/>
            <a:ext cx="6907320" cy="4876920"/>
          </a:xfrm>
          <a:prstGeom prst="rect">
            <a:avLst/>
          </a:prstGeom>
          <a:ln w="0">
            <a:noFill/>
          </a:ln>
        </p:spPr>
      </p:pic>
      <p:pic>
        <p:nvPicPr>
          <p:cNvPr id="104" name="AMCONFUS" descr=""/>
          <p:cNvPicPr/>
          <p:nvPr/>
        </p:nvPicPr>
        <p:blipFill>
          <a:blip r:embed="rId2"/>
          <a:stretch/>
        </p:blipFill>
        <p:spPr>
          <a:xfrm>
            <a:off x="0" y="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tuasi Hari Ini ……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6960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ri Hiroshima-Nagasak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e WTC 911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mpai Bom di Bali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………………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dan Makassa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BOMB" descr=""/>
          <p:cNvPicPr/>
          <p:nvPr/>
        </p:nvPicPr>
        <p:blipFill>
          <a:blip r:embed="rId3"/>
          <a:stretch/>
        </p:blipFill>
        <p:spPr>
          <a:xfrm>
            <a:off x="6781680" y="0"/>
            <a:ext cx="151776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E7D7-1B88-491A-B7F7-F8EB754B5EA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6EAAFC-6EBE-498F-A001-44EDAB0FDFF5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kilas Sejarah Peradab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762120" y="1828800"/>
          <a:ext cx="8001000" cy="3618000"/>
        </p:xfrm>
        <a:graphic>
          <a:graphicData uri="http://schemas.openxmlformats.org/drawingml/2006/table">
            <a:tbl>
              <a:tblPr/>
              <a:tblGrid>
                <a:gridCol w="2619360"/>
                <a:gridCol w="2619360"/>
                <a:gridCol w="2762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a Peradab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 Sent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istiwa Dahsy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TANI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HAN TANA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OLUSI SOSIAL dan KEMERDEKA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USTR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ROSHIMA NAGASAK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S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S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TC 9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CEA7-8E6E-4ACF-BB73-9C2F453746ED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7A94ED-0C03-407A-8AAC-C1CBB2D237EA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477120" y="0"/>
            <a:ext cx="2666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TC 9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attack01" descr=""/>
          <p:cNvPicPr/>
          <p:nvPr/>
        </p:nvPicPr>
        <p:blipFill>
          <a:blip r:embed="rId1"/>
          <a:stretch/>
        </p:blipFill>
        <p:spPr>
          <a:xfrm>
            <a:off x="0" y="0"/>
            <a:ext cx="378792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attack10" descr=""/>
          <p:cNvPicPr/>
          <p:nvPr/>
        </p:nvPicPr>
        <p:blipFill>
          <a:blip r:embed="rId2"/>
          <a:stretch/>
        </p:blipFill>
        <p:spPr>
          <a:xfrm>
            <a:off x="3809880" y="3543480"/>
            <a:ext cx="5334120" cy="3314520"/>
          </a:xfrm>
          <a:prstGeom prst="rect">
            <a:avLst/>
          </a:prstGeom>
          <a:ln w="0">
            <a:noFill/>
          </a:ln>
        </p:spPr>
      </p:pic>
      <p:pic>
        <p:nvPicPr>
          <p:cNvPr id="113" name="attack12" descr=""/>
          <p:cNvPicPr/>
          <p:nvPr/>
        </p:nvPicPr>
        <p:blipFill>
          <a:blip r:embed="rId3"/>
          <a:stretch/>
        </p:blipFill>
        <p:spPr>
          <a:xfrm>
            <a:off x="3809880" y="1219320"/>
            <a:ext cx="3733920" cy="230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CAA0-03CB-4E8E-9184-19630C6943D7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15AB9A-785D-4B86-A023-511A6B860F9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attack03" descr=""/>
          <p:cNvPicPr/>
          <p:nvPr/>
        </p:nvPicPr>
        <p:blipFill>
          <a:blip r:embed="rId1"/>
          <a:stretch/>
        </p:blipFill>
        <p:spPr>
          <a:xfrm>
            <a:off x="0" y="2209680"/>
            <a:ext cx="3735360" cy="4191120"/>
          </a:xfrm>
          <a:prstGeom prst="rect">
            <a:avLst/>
          </a:prstGeom>
          <a:ln w="0">
            <a:noFill/>
          </a:ln>
        </p:spPr>
      </p:pic>
      <p:pic>
        <p:nvPicPr>
          <p:cNvPr id="115" name="wtc_collapse1" descr=""/>
          <p:cNvPicPr/>
          <p:nvPr/>
        </p:nvPicPr>
        <p:blipFill>
          <a:blip r:embed="rId2"/>
          <a:stretch/>
        </p:blipFill>
        <p:spPr>
          <a:xfrm>
            <a:off x="3759120" y="0"/>
            <a:ext cx="2911680" cy="4381560"/>
          </a:xfrm>
          <a:prstGeom prst="rect">
            <a:avLst/>
          </a:prstGeom>
          <a:ln w="0">
            <a:noFill/>
          </a:ln>
        </p:spPr>
      </p:pic>
      <p:pic>
        <p:nvPicPr>
          <p:cNvPr id="116" name="wtc_collapse2" descr=""/>
          <p:cNvPicPr/>
          <p:nvPr/>
        </p:nvPicPr>
        <p:blipFill>
          <a:blip r:embed="rId3"/>
          <a:stretch/>
        </p:blipFill>
        <p:spPr>
          <a:xfrm>
            <a:off x="6676920" y="1371600"/>
            <a:ext cx="2467080" cy="43243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05360" y="-360"/>
            <a:ext cx="2438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TC 9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2826-EA1A-4B29-9E91-DE162F63EBB2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D56FA2-B9AC-49E9-832F-F9CC921D22D8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wtc_collapse3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848360" cy="594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363E-4355-46EF-AA33-AEDB48B99737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36C217-83DE-4753-9DEF-5C966EF3DBC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62120" y="1752480"/>
            <a:ext cx="3886200" cy="2971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2819520"/>
            <a:ext cx="396252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Masyarak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nyata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14600" y="4343400"/>
            <a:ext cx="1143000" cy="114300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472428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SYARAKAT” MA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52880" y="762120"/>
            <a:ext cx="3810240" cy="33526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86400" y="1447920"/>
            <a:ext cx="318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ASYARAK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FORMA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9828800">
            <a:off x="3429000" y="1904760"/>
            <a:ext cx="2133720" cy="609480"/>
          </a:xfrm>
          <a:custGeom>
            <a:avLst/>
            <a:gdLst>
              <a:gd name="textAreaLeft" fmla="*/ 333360 w 2133720"/>
              <a:gd name="textAreaRight" fmla="*/ 1867320 w 213372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9544400">
            <a:off x="3352680" y="3504960"/>
            <a:ext cx="3299040" cy="709560"/>
          </a:xfrm>
          <a:custGeom>
            <a:avLst/>
            <a:gdLst>
              <a:gd name="textAreaLeft" fmla="*/ 515520 w 3299040"/>
              <a:gd name="textAreaRight" fmla="*/ 2886840 w 3299040"/>
              <a:gd name="textAreaTop" fmla="*/ 177480 h 709560"/>
              <a:gd name="textAreaBottom" fmla="*/ 532440 h 709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0"/>
            <a:ext cx="608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Information Soci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1295280" y="411120"/>
          <a:ext cx="7162920" cy="644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411120"/>
                    <a:ext cx="7162920" cy="644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POSISI TENAGA KER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8F3C-E40F-4CF9-B893-913707189085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EF2F09-FFE9-49D9-A238-EB0271C1198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5000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0666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DUNIA INDUST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ustri J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k: Pelayan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o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ustri Per-Bank-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ustri Pariwis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ustri Telekomunika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ustri Jasa Transporta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1676520"/>
            <a:ext cx="3809880" cy="4114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ustri Manufakt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k: Bar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o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ustri Se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ustri Miny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ustri Tamb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ustri (peralatan) Telekomunika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ustri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6C97-7183-4FA6-98E1-A1CC37C98BC7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DD7EC4-B420-47BA-92C2-5C8B1D99FB7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utiara S. Sadjad</cp:lastModifiedBy>
  <dcterms:modified xsi:type="dcterms:W3CDTF">2005-02-01T13:45:56Z</dcterms:modified>
  <cp:revision>88</cp:revision>
  <dc:subject/>
  <dc:title>PowerPoint Presentation</dc:title>
</cp:coreProperties>
</file>