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4.png" ContentType="image/png"/>
  <Override PartName="/ppt/media/image1.png" ContentType="image/png"/>
  <Override PartName="/ppt/media/CHIMES.WAV" ContentType="audio/x-wav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7AF-F114-4B1B-85A3-F60A6860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71D-0E1C-4E8C-A440-3F176592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9EC-188A-412F-BAC4-34A3508B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587-861A-48A6-BE59-9E2616BB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2AF1-C2E6-43AF-8B46-43E55720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74D5-24E1-4071-AF76-F3FDF688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3F3C-775C-4BE8-B63B-589CB661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775C-6FA3-4B76-8C8F-9D1D4F60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4AC4-AD60-4615-8AA2-E2ADE84E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B46A-21E6-4707-8209-2FB7A926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4ABD-BD14-4E28-9F3D-5B948FED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49E-646C-47A6-BEC4-7F700618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194A-FFAF-463F-A3AD-BE5D842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1464-E322-4C77-A20D-F8D596B7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54A2-8942-40E8-BC1E-E611817C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371F-7BA3-4D1C-9EBB-D89D42FA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A084-54D6-42C9-AD19-AF844706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C06-CE30-4EE1-B00A-1ADBBB57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1BF-F494-4278-84F0-1D1915F0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906-8173-403C-B46E-D48D2C23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9F0-C6BE-4BA9-818C-C930D1E7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E93-F7A0-4AC5-B71E-67240F0A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3C7-D3B0-4E42-AE03-4AADBE06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7F8-7681-4B8A-9CA5-4519BDD3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E796-D85C-418D-BB68-52820133EF4C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B3FC-3B6E-4C06-BB3B-28576528E53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3032-21DC-4C4D-BB38-F3A7F2099566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42AA-1EFB-440A-B649-905409B5B6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image" Target="../media/image7.wmf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1371240"/>
            <a:ext cx="6399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PROSES  PEMBELAJARAN MENGGUNAKAN </a:t>
            </a:r>
            <a:br>
              <a:rPr sz="2800"/>
            </a:br>
            <a:r>
              <a:rPr b="0" lang="en-US" sz="6000" spc="-1" strike="noStrike">
                <a:solidFill>
                  <a:srgbClr val="ebd189"/>
                </a:solidFill>
                <a:latin typeface="Tahoma"/>
              </a:rPr>
              <a:t>MULTIMEDIA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94920" y="43434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leh: Rhiza S. Sadj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e-mail: </a:t>
            </a:r>
            <a:r>
              <a:rPr b="1" lang="en-US" sz="2400" spc="-1" strike="noStrike">
                <a:solidFill>
                  <a:srgbClr val="ebd189"/>
                </a:solidFill>
                <a:latin typeface="Tahoma"/>
                <a:ea typeface="Times New Roman"/>
              </a:rPr>
              <a:t>rhiza @ unhas.ac.id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URL: http: //www.unhas.ac.id/~rhiza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EA5B-7B37-45EA-9107-16482A8B670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7F0E839-DB61-4669-B151-1AB32D5974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45853-FFC8-418B-815D-2666C16DBDE9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72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1B31D-627D-4201-A0CD-F2A33FB1B279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BC8E9-E8F1-4F3A-AD0F-DD8E4A0A66E7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477120" y="350532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50532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ENGINEERING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10504-C521-4F10-B0CD-87890499F89B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B9AB7-E8D0-4AEA-968B-ECD93C5402A9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NUTU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8640" y="243792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nggunaan MULTIM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lam proses pembelajar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lebihan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kurang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0" name="bd05515_" descr=""/>
          <p:cNvPicPr/>
          <p:nvPr/>
        </p:nvPicPr>
        <p:blipFill>
          <a:blip r:embed="rId1"/>
          <a:stretch/>
        </p:blipFill>
        <p:spPr>
          <a:xfrm>
            <a:off x="0" y="304920"/>
            <a:ext cx="3181320" cy="34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964-3FB1-42AF-B1DD-8B6C547FB7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3416C-CC5A-4F09-91A5-8477EA204B91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4485-B162-4E03-AD03-8FD01683661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335B80E-D125-4E22-9B75-C5942ED5439E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1447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.....about providing opportunities for students 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191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C3F552A-726E-4709-9DFB-84052A36E7CD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NGANT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Mengapa kurikulum harus disusun dan diubah-ubah selalu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unia yang senantiasa berubah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unia Pendidikan dan Dunia Ker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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473-9D3F-4ECF-AA14-1D2323173A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354D0-4104-4613-890E-90DE33BD10E3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DCBB-0B1D-4816-8B00-F9C505AB4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7F10-25BD-485B-BF8A-2B7E6329F1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AMDISAST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13" name="AMCONFUS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752480"/>
          <a:ext cx="8381880" cy="38340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8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BE6-7CD3-4E9F-8A46-F990EEE41D4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C878E-66D1-4506-B299-BBA7AE179149}" type="datetime1">
              <a:rPr lang="en-US"/>
              <a:t>07/29/26</a:t>
            </a:fld>
          </a:p>
        </p:txBody>
      </p:sp>
    </p:spTree>
  </p:cSld>
  <p:transition spd="slow" advTm="6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93120" y="5398920"/>
          <a:ext cx="155088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312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33920" y="685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saran Perilak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600200"/>
            <a:ext cx="8001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189"/>
                </a:solidFill>
                <a:latin typeface="Tahoma"/>
              </a:rPr>
              <a:t>Sasaran Perilaku U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(ditetapkan pada tingkat Perguruan Tinggi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(ditetapkan pada tingkat Fakulta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(ditetapkan pada tingkat Program Studi atau Jurusa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189"/>
                </a:solidFill>
                <a:latin typeface="Tahoma"/>
              </a:rPr>
              <a:t>Sasaran Perilaku Khusus</a:t>
            </a: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 (ditetapkan pada tingkat Program Studi atau Konsrentrasi/Sub-Program Stdi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Bidang TEKNIK ENERG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Bidang TEKNIK TELEKOMUN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Bidang TEKNIK KOMPUTER, KENDALI DAN  ELEKTRONIK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62040" cy="1889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0" y="4427640"/>
            <a:ext cx="1965240" cy="24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7467480" y="304920"/>
          <a:ext cx="1676520" cy="11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304920"/>
                    <a:ext cx="16765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4576680"/>
          <a:ext cx="2286000" cy="228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57668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A95-6251-4E49-9560-0BFE79624B9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54735-9FD0-476F-8180-39F854DFDE91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16640" y="0"/>
            <a:ext cx="2727360" cy="2100240"/>
          </a:xfrm>
          <a:prstGeom prst="rect">
            <a:avLst/>
          </a:prstGeom>
          <a:ln w="0">
            <a:noFill/>
          </a:ln>
        </p:spPr>
      </p:pic>
      <p:pic>
        <p:nvPicPr>
          <p:cNvPr id="130" name="AMORGANI" descr=""/>
          <p:cNvPicPr/>
          <p:nvPr/>
        </p:nvPicPr>
        <p:blipFill>
          <a:blip r:embed="rId2"/>
          <a:stretch/>
        </p:blipFill>
        <p:spPr>
          <a:xfrm>
            <a:off x="0" y="386712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saran Perilaku Umu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600200"/>
            <a:ext cx="7467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bd189"/>
                </a:solidFill>
                <a:uFillTx/>
                <a:latin typeface="Tahoma"/>
              </a:rPr>
              <a:t>CONTOH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bd189"/>
                </a:solidFill>
                <a:latin typeface="Tahoma"/>
              </a:rPr>
              <a:t>Sarjana Teknik yang “memiliki kemampuan bekerja atau meneruskan pendidikan ke jenjang pendidikan yang lebih tinggi setelah menyelesaikan pendidikan sarjana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04812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 Narrow"/>
              </a:rPr>
              <a:t>Sasaran Perilaku Khusu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267080"/>
            <a:ext cx="7543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CONTOH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Sarjana Teknik yang “menguasai pemakaian paket-paket perangkat-lunak komputer (misalnya MATLAB, PROTEL, ORCAD, Electronic Workbench [EWB], SPICE dan lain-lain) untuk pemodelan dan simulasi masalah-masalah Teknik Elektro khususnya dan masalah rekayasa pada umumnya”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758000" y="2971800"/>
          <a:ext cx="1386000" cy="15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8000" y="2971800"/>
                    <a:ext cx="138600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EAB-426D-4DF1-9503-A9EFE555E0E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EDB79-363F-4A58-9169-8B2B4860EB83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7440" y="399600"/>
            <a:ext cx="7213680" cy="64764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d189"/>
                </a:solidFill>
                <a:latin typeface="Tahoma"/>
              </a:rPr>
              <a:t>Proses Pendidikan Teknik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0640" y="2260440"/>
            <a:ext cx="2133720" cy="3574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PEMODELA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1771560"/>
            <a:ext cx="0" cy="47304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1680" y="2379600"/>
            <a:ext cx="1218960" cy="0"/>
          </a:xfrm>
          <a:prstGeom prst="line">
            <a:avLst/>
          </a:prstGeom>
          <a:ln w="28440">
            <a:solidFill>
              <a:srgbClr val="ebd18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15920" y="2228760"/>
            <a:ext cx="1828800" cy="3556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SIMULAS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56080" y="2629080"/>
            <a:ext cx="1270080" cy="39996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629080"/>
            <a:ext cx="1218960" cy="39996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30320" y="3089160"/>
            <a:ext cx="1930320" cy="3574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NALIS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3086280"/>
            <a:ext cx="1523880" cy="35532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ESAI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429000"/>
            <a:ext cx="1117440" cy="28584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76920" y="3486240"/>
            <a:ext cx="1218960" cy="22860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60640" y="3200400"/>
            <a:ext cx="1625760" cy="7920"/>
          </a:xfrm>
          <a:prstGeom prst="line">
            <a:avLst/>
          </a:prstGeom>
          <a:ln w="28440">
            <a:solidFill>
              <a:srgbClr val="ebd18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56080" y="3800520"/>
            <a:ext cx="2539800" cy="3556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PROTOTYP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75040" y="4172040"/>
            <a:ext cx="0" cy="28584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4511520"/>
            <a:ext cx="2286000" cy="35424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880" y="4156200"/>
            <a:ext cx="2463840" cy="7966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Faktor-faktor non-tekn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064040" y="1428840"/>
            <a:ext cx="1828800" cy="355680"/>
            <a:chOff x="4064040" y="1428840"/>
            <a:chExt cx="1828800" cy="355680"/>
          </a:xfrm>
        </p:grpSpPr>
        <p:sp>
          <p:nvSpPr>
            <p:cNvPr id="154" name=""/>
            <p:cNvSpPr/>
            <p:nvPr/>
          </p:nvSpPr>
          <p:spPr>
            <a:xfrm>
              <a:off x="4064040" y="1428840"/>
              <a:ext cx="1828800" cy="355680"/>
            </a:xfrm>
            <a:prstGeom prst="rect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ahoma"/>
                </a:rPr>
                <a:t>MASALAH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64040" y="1428840"/>
              <a:ext cx="1828800" cy="355680"/>
            </a:xfrm>
            <a:prstGeom prst="ellipse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59120" y="5200560"/>
            <a:ext cx="1828800" cy="355680"/>
            <a:chOff x="3759120" y="5200560"/>
            <a:chExt cx="1828800" cy="355680"/>
          </a:xfrm>
        </p:grpSpPr>
        <p:sp>
          <p:nvSpPr>
            <p:cNvPr id="157" name=""/>
            <p:cNvSpPr/>
            <p:nvPr/>
          </p:nvSpPr>
          <p:spPr>
            <a:xfrm>
              <a:off x="3759120" y="5200560"/>
              <a:ext cx="1828800" cy="355680"/>
            </a:xfrm>
            <a:prstGeom prst="rect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ahoma"/>
                </a:rPr>
                <a:t>SOLUSI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9120" y="5200560"/>
              <a:ext cx="1828800" cy="355680"/>
            </a:xfrm>
            <a:prstGeom prst="ellipse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775040" y="4857840"/>
            <a:ext cx="0" cy="34272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 rot="16200000">
            <a:off x="4625640" y="1653480"/>
            <a:ext cx="4260600" cy="3352680"/>
          </a:xfrm>
          <a:custGeom>
            <a:avLst/>
            <a:gdLst>
              <a:gd name="textAreaLeft" fmla="*/ 0 w 4260600"/>
              <a:gd name="textAreaRight" fmla="*/ 4260960 w 4260600"/>
              <a:gd name="textAreaTop" fmla="*/ -360 h 3352680"/>
              <a:gd name="textAreaBottom" fmla="*/ 3352680 h 3352680"/>
            </a:gdLst>
            <a:ahLst/>
            <a:rect l="textAreaLeft" t="textAreaTop" r="textAreaRight" b="textAreaBottom"/>
            <a:pathLst>
              <a:path w="21600" h="21600">
                <a:moveTo>
                  <a:pt x="1660" y="8504"/>
                </a:moveTo>
                <a:arcTo wR="-9424" hR="-9424" stAng="-9954022" swAng="-12888934"/>
                <a:lnTo>
                  <a:pt x="698" y="14620"/>
                </a:lnTo>
                <a:arcTo wR="10800" hR="10800" stAng="9557044" swAng="12888934"/>
                <a:lnTo>
                  <a:pt x="23893" y="14089"/>
                </a:lnTo>
                <a:lnTo>
                  <a:pt x="19782" y="16549"/>
                </a:lnTo>
                <a:lnTo>
                  <a:pt x="17321" y="12438"/>
                </a:lnTo>
                <a:close/>
              </a:path>
            </a:pathLst>
          </a:cu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36760" y="5813280"/>
            <a:ext cx="4572000" cy="47340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Gambar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Bagan Alir Proses Pendidikan Tekni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84480" y="4629240"/>
            <a:ext cx="1523880" cy="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866-4A31-4FDD-A788-E723566339D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24BB4-D688-4AD0-A8C0-CD4E3F9C75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D0B-F949-4D4C-A514-C33141DD68C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37D38-9E53-4348-9360-FBAA05A824AF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4-12-13T01:08:56Z</dcterms:modified>
  <cp:revision>30</cp:revision>
  <dc:subject/>
  <dc:title>PowerPoint Presentation</dc:title>
</cp:coreProperties>
</file>